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F943-F440-451D-8FF1-3ACCD0E5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2A1-53BF-4BB8-A967-86C5AF6D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24F3-3626-42A3-9CCB-614E9362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98DD-E8A6-42D2-AA78-8C848C17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0EC7-8663-4DED-8ADF-8E5F1964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9756-BB66-4785-AA0F-E1B54CBE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178B-1B42-4FE8-BFC2-D9190E9F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0203-2B98-4B7C-8A6F-4A7E25C2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CBC7-BDA9-4714-A0DB-54C07DFA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4C23-CA01-4EB8-A04A-0C3EE19C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F9A0-3B2E-4779-BFB7-D14F1CF1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094C-6B20-4D60-B6EE-13B77633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4818-6F47-4B93-854C-3073A7E0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A6A5-8CFF-4634-B4DA-71BE80FF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805D-D393-4CB4-BA6C-2BB5B32B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D4A0-835B-4D14-AF2E-06F4E058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E403-D147-4132-B04E-B931AF99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BA8A-5DD4-43B7-9290-85334643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6AB-E3C0-4B85-935A-705C6914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A2ED-7DF2-4518-8576-92668CDE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E41-34C3-4C07-BF56-BB70C060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8E28-D885-4F65-9881-AF4EBA39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3230-7B85-4D8B-AF4E-8BEE50B8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81AB-8098-44D4-87D9-B6C38BE0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4E0E-D427-4F9D-9449-C31595ECEF70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A5AD-1631-4CD2-8CDC-DA176BBFE8BD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CONCEPTOS DE EDUCACIÓ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NÁLISIS CONCEP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Whitehead, Alfred Nort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2666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ducarse no es recibir sino hacer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Bloom, Benjami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457360"/>
            <a:ext cx="76089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ducar consiste en el desarrollo de aquellas características que permiten al hombre vivir eficazmente en una sociedad compleja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Faure, Edgar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76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educación “es un proceso cultural  que busca la eclosión y el desarrollo de todas las virtualidades del ser y su socieda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Belth, Marc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2514600"/>
            <a:ext cx="7161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ducar consiste en transmitir los modelos por los cuales el mundo es explicabl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Kerschenstainer, Geor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5336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educación consiste en distribuir la cultura para que el hombre organice sus valores en su conciencia y a su manera, de acuerdo a su individualida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Nassif, Ricard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30508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educación es una necesidad vital que permite, al satisfacerse, la supervivencia de la especi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Nassif, Ricard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La educación es la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formación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del hombre por medio de una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influencia exterior consciente o inconsciente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heteroeducación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), o por un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estímulo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que si bien proviene de algo que no es el individuo mismo, suscita en él una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voluntad de desarrollo autónomo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conforme a su propia ley (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autoeducación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)”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5:45:39Z</dcterms:created>
  <dc:creator>Mlnh</dc:creator>
  <dc:description/>
  <dc:language>en-US</dc:language>
  <cp:lastModifiedBy>Escritorio</cp:lastModifiedBy>
  <dcterms:modified xsi:type="dcterms:W3CDTF">2010-03-31T19:03:22Z</dcterms:modified>
  <cp:revision>19</cp:revision>
  <dc:subject/>
  <dc:title>CONCEPTOS DE EDUCACIÓN</dc:title>
</cp:coreProperties>
</file>