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6C9B-625C-4C7E-B3FB-8CD1254274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35BA-3F2D-438A-A6BB-0C9FB4E7FCE2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D8F1-AF98-407F-BDC9-DC4D3D7FCD34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5B85-608F-4A08-AFA9-832A554300A1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259E-6D94-451D-BBAE-E2C704091EBA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91E8-8660-4605-A02F-A6CF0E95DD45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3F85-8C9C-4218-98DF-2EAC1678A7C5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448A-56DB-4DA9-AC04-374EE5265731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9E89-3FEF-4C2C-927F-FEF6E4331499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68D3-913C-4A7D-9AB3-47CA435E2823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4A4A-ECD5-4C91-9676-D7F1E23F5398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3604-41DE-4B9B-8E1F-05C55D0EE0AC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FDA6-4612-44FC-A84A-B309838DD5CB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E167-108A-4FE3-8744-16A7F044C0F7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42F0-1850-4EAB-B173-B30D90B932EE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0ADF-C548-4AE2-B2B9-8C55F5557E8D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1286-CDA3-47A9-BF78-0F967F6806B2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B570-25B5-44E8-B6B7-DAD2224A31A2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FA9-5868-41C7-A221-2DAC13DC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901-3D64-494A-B187-D14C7510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AAA25-9837-4269-A881-A517FFC2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11A19-AE95-4C62-92A4-FABB6460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C7217-17C9-405E-BEA6-FCB1AEA5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C3D28-B4D7-4411-AFE8-9C1F6B32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0E5B3-051B-4FA4-88DC-46513185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C7A4C-1BAC-484A-A825-E018FB2B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945FF-AC4F-431F-876B-C7B142E7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9B581-D42C-403A-BE8C-A93F2B7A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0DE2D-BFCD-4254-AE10-50987A16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87459-43C9-4C79-85D4-B6BDD758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ECC-4DA4-468B-A967-837F6FE6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01721-1C32-4884-B4B8-95D004D1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38468-DC4A-482B-81D0-150B166B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C8340-69E5-4DF8-AA35-B1EA92E6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E44B7-89D0-40ED-A72B-7453FAEF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C3D2D-3F5D-470D-A6FE-96AB3E9A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66673-7F5E-41BF-BEEF-BD71A6D4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EE7F1-21BC-49C3-BAE7-A6B0B278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998BA-8366-42A4-B2D1-E7BA3BD7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F32F3-32E4-4806-A586-96C7C75B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1E351-EEB8-43EA-9213-EBD0EF38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039-5991-41EF-AF36-A812A5A5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6FB87-7620-41DE-91A4-584A4522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A75AC-6662-4B5F-B19B-B19C66F0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9A590-9596-4A90-BC58-864C8815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4E1C4-E442-4695-9524-32F07B1D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64CED-6C01-4079-9F45-457B01F9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1C10B-7945-4126-9639-7E9A78AC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79BE9-2307-4400-8717-E39163AE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E96BB-825E-4A28-A012-71B65B2E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538C9-E454-4BC1-80B9-AB93F877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F6C15-E899-4D6F-BC01-9A3F332E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116C-3748-4891-B7C4-21C142F0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6D417-5D49-4E93-A23C-1029F8E2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BE44D-8948-4BEF-A38D-85FA3B10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D60C6-8E0C-425E-8A2E-914AB292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98586-1B56-4556-8C77-A4D1A519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D107F-20FF-4150-873C-69F41566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404A5-1886-4951-9355-61C71A47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4971A-C2EA-4E8F-881D-4979D763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9E661-D912-4230-A3B3-C052A375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A5B0B-849F-4720-99B0-68CAB00C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61E8C-321F-46C4-ADD4-A612B742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2AA5-C447-4E23-A38E-E15BE4B2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2F23A-2FD5-45A2-AF36-CA52A2F9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3A3B4-A387-4444-8918-BAEF95CB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DDB23-8302-4D9F-9183-585D6066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C39BE-C40F-4BC7-87C5-C2903EE7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6E8C7-5342-42BD-8589-03D38C25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02CC0-E9FF-45E1-98BA-B32DA853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84F7F-7604-4CD9-A684-27058882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DA548-8AB3-4FAE-A0F7-F18C34DC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DC361-E56C-4718-ABA1-B282F3F6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4DC0F-4D23-4001-AB64-C63678C3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0CCC-3B8D-40B1-B496-13C3B609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41EE3-67B2-4BF6-9564-089191A6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B6C68-A814-41A6-AFA0-8D1D52E5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8EB5F-A9FF-4629-863C-3570F981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8390A-98F7-4697-8B06-0AC26F9E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622BB-F080-4E58-B7DC-BFDC8CCD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C5175-2A3C-4172-A992-D91A15F7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F7F8B-2C61-4AA7-B25C-C6175316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02BD4-8AF0-4D4A-982B-C1D52018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DCC52-9B45-4AF5-BB37-DF1737CE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F3A041-3547-46B4-86D9-596D2911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6BC4-C823-4769-B0D8-0065F611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47B9F4-D727-41DD-B78E-24599145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3D9F8-BB9E-4399-9AF8-7BA40CC0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D7C976-6E7A-45FB-BB19-5BD25FCD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F32EE-E1C4-4687-A7DB-75432F4D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F28F70-5A4A-4F63-ADC0-2A28C142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41DC84-B762-44B9-9F53-3D2C6BB0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4ABA8-0C7C-4A7C-B9E4-675582DD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913EE5-1B14-4320-9E49-2718802D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9C7CB-931A-4818-AF52-A159FCBA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31AB-74F4-4F56-A685-EEC6377A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C5AC-9A6D-4470-986A-05EDA3ED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CA6E-1947-4B4A-8C14-321BD854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24C7-7B50-4442-8F9B-BB7CBC82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FCBC-2C6F-4F05-9AD9-E35CE3B1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5982-4FB1-453A-A711-3BBE21EC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F1DE-1C5A-4DD5-A53D-F44992E6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7197-1FAD-4505-9E3F-F82DB325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96A6-B92A-4F2C-BD24-B4069517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C28D6-2422-4C1A-A13D-7F83DC64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2E193-91FB-4268-B1FF-45F5AEA7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1DED4-4ECA-496C-AD55-9312E661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E20CE-E313-442C-89CE-09BE0CEC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EF513-84AD-4947-82DD-112C1E20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595-8374-416E-88E1-4F9AEE89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04465-0E79-42F7-BF05-3447161A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9C5F-8960-45CF-8F6C-D0829E0A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26792-26E4-4BE4-A9AD-61356E13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38BA9-2500-42C9-94E2-E05F3489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058DC-7501-4B10-A52B-673313F1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1F6EA-F123-4316-8B23-65895EF0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44CF8-6C9E-4107-9296-A6860403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A4F65-4C8A-4F1E-ACA0-4A30FF14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DA38E-869B-4C6C-90AE-A9187C69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730D-AAB7-4312-B97D-F504BF7E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FB9-1F04-4BE8-805B-621852A9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DC9FC-423B-4AD4-B973-6D284B68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4A9AD-AFA9-43B7-8127-6ACA2B5B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DC551-1DEC-4AC3-8D29-7676EE8B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42FA8-5749-476B-9C0D-795E56BD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50D06-8B2B-4367-951E-8D7980AE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4FE4C-823D-4F90-8119-AEE68CFA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8936E-2A7B-489C-B918-FA558C0F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E6B99-73C5-48A6-B73E-23D20856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FBAA7-6A60-4F20-AB95-140A987A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E929A-B24F-4D32-B284-0559A356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8EAB-584E-41ED-9287-AC442006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D12F6-374E-4A8E-874C-1BD8CDBD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03751-6C9B-48D2-AC09-9B94DA4A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FA7D5-7B48-4E59-A31A-39E995E7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F4ED3-7DF6-4737-9984-9A8E94FE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8515B-304D-4EFB-B513-B9485712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113BD-A468-42CB-BB19-BFEFECF7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58CCA-FA15-4E56-AC57-FCF5D686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6842E-1E57-48C5-997F-FAFBDEBA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70D20-A101-4F1E-BCD4-8CBD9925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62BF1-3C20-4E31-B17F-543167EF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B2B-FF05-4E00-B69C-5D8D10FF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38811-880D-45DC-AC13-3AAF83CA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C38D8-DA0C-4294-8307-DF1A0BA7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66071-92D3-4B1D-8084-879EC09B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434E0-94EB-4717-BB44-90C53D74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6BF70-64F0-49F8-BB36-8A740DD7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BF8AF-43B1-4C23-B5D6-CFE04754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EBAFF-B9BF-4C2B-A6CA-199EF875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348A9-0263-45E7-81CE-E6326186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FE2DB-F3C7-468A-94A7-9C79E92D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3FB29-8112-40DF-AC71-82A8C74D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D29-5E90-4A7B-8057-B1DE370A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9F0A8-78E6-454D-8ECB-858418D0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7E8C9-53C0-4366-8CCD-24DB040D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78AD8-A6C0-4A7D-8200-433A670C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A114D-9120-42EA-8C87-50C2E5C7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CDA11-31CC-4732-A254-EF840626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39A54-F567-4C61-92B8-1DC6FF2F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0AD98-91C6-4C52-A7DB-9DCD443F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E7DE5-2D18-45C7-A43F-90ECD8D1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80390-60CF-4CF0-9F45-C12E76BA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E53C3-4354-4AB0-8ED0-493B6CD4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9F7-4F48-4D7C-B4D3-89B7F358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91FAD-5031-435B-832B-3B973758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14D7F-3126-4CF1-B70A-46D3D572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F82AD-44E3-4C6E-BEB9-5B6FE25F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AF257-41CB-4290-9DB0-58AF9739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86BE1-245D-480F-8B06-222C81B5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7BF59-A77C-49ED-BBFA-EFF23BBB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F5DEF-9838-4CD3-859C-53EE8445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C1463-3514-4348-B8BF-CD8A7D12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241F9-0A6D-4B62-B521-613FD511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3CEED-711E-4BAA-97A5-D9D60D8E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51F-CEF2-4E48-9F60-BF628ADD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71C3C-5695-438F-AAA6-4D57729D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57FF6-A6DC-4809-AE36-4D8004A7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D2A88-9697-424B-ACB3-66C7DDB1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6CCAF-7582-4B9B-B755-51290F5D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4A075-B308-48D1-8052-56C61B8E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75B93-3CAC-48A7-99E0-6E15D2E8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4E029-5167-4DD4-9628-92045D27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F8109-4E8B-46B5-8399-8795D560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1D74E-85C3-4496-BBBE-6006E629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A1E30-296D-46CE-9F5D-61B82B00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18E9-7179-4DC8-ABB9-C5768CA106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3708360" y="5824440"/>
            <a:ext cx="5435640" cy="1033560"/>
            <a:chOff x="3708360" y="5824440"/>
            <a:chExt cx="5435640" cy="1033560"/>
          </a:xfrm>
        </p:grpSpPr>
        <p:pic>
          <p:nvPicPr>
            <p:cNvPr id="6" name="Picture 8" descr="u_chile"/>
            <p:cNvPicPr/>
            <p:nvPr/>
          </p:nvPicPr>
          <p:blipFill>
            <a:blip r:embed="rId3"/>
            <a:stretch/>
          </p:blipFill>
          <p:spPr>
            <a:xfrm>
              <a:off x="3708360" y="5824440"/>
              <a:ext cx="5435640" cy="10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Text Box 9"/>
            <p:cNvSpPr/>
            <p:nvPr/>
          </p:nvSpPr>
          <p:spPr>
            <a:xfrm>
              <a:off x="4140360" y="5877000"/>
              <a:ext cx="50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69696"/>
                  </a:solidFill>
                  <a:latin typeface="Arial"/>
                </a:rPr>
                <a:t>CENTRO DE ESTUDIOS PEDAGÓGICOS</a:t>
              </a:r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B564-A1D3-40B9-BE8E-3B7ECAB20E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DC11-4E0D-48AF-8F9B-AAD0BE5DEF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C126-D292-4251-B144-9FDE5475BE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9018-D51D-4E2C-83B3-3F9EA5E26F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0548-3E96-4C30-88C5-1ED10A04EF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3708360" y="5824440"/>
            <a:ext cx="5435640" cy="1033560"/>
            <a:chOff x="3708360" y="5824440"/>
            <a:chExt cx="5435640" cy="1033560"/>
          </a:xfrm>
        </p:grpSpPr>
        <p:pic>
          <p:nvPicPr>
            <p:cNvPr id="45" name="Picture 8" descr="u_chile"/>
            <p:cNvPicPr/>
            <p:nvPr/>
          </p:nvPicPr>
          <p:blipFill>
            <a:blip r:embed="rId3"/>
            <a:stretch/>
          </p:blipFill>
          <p:spPr>
            <a:xfrm>
              <a:off x="3708360" y="5824440"/>
              <a:ext cx="5435640" cy="10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9"/>
            <p:cNvSpPr/>
            <p:nvPr/>
          </p:nvSpPr>
          <p:spPr>
            <a:xfrm>
              <a:off x="4140360" y="5877000"/>
              <a:ext cx="50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69696"/>
                  </a:solidFill>
                  <a:latin typeface="Arial"/>
                </a:rPr>
                <a:t>CENTRO DE ESTUDIOS PEDAGÓGICOS</a:t>
              </a:r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grpSp>
        <p:nvGrpSpPr>
          <p:cNvPr id="47" name="Group 9"/>
          <p:cNvGrpSpPr/>
          <p:nvPr/>
        </p:nvGrpSpPr>
        <p:grpSpPr>
          <a:xfrm>
            <a:off x="3708360" y="5824440"/>
            <a:ext cx="5435640" cy="1033560"/>
            <a:chOff x="3708360" y="5824440"/>
            <a:chExt cx="5435640" cy="1033560"/>
          </a:xfrm>
        </p:grpSpPr>
        <p:pic>
          <p:nvPicPr>
            <p:cNvPr id="48" name="Picture 7" descr="u_chile"/>
            <p:cNvPicPr/>
            <p:nvPr/>
          </p:nvPicPr>
          <p:blipFill>
            <a:blip r:embed="rId4"/>
            <a:stretch/>
          </p:blipFill>
          <p:spPr>
            <a:xfrm>
              <a:off x="3708360" y="5824440"/>
              <a:ext cx="5435640" cy="10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8"/>
            <p:cNvSpPr/>
            <p:nvPr/>
          </p:nvSpPr>
          <p:spPr>
            <a:xfrm>
              <a:off x="4140360" y="5877000"/>
              <a:ext cx="50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69696"/>
                  </a:solidFill>
                  <a:latin typeface="Arial"/>
                </a:rPr>
                <a:t>CENTRO DE ESTUDIOS PEDAGÓGICOS</a:t>
              </a:r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18E6-033F-4930-BFC9-2961AF2D07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4E50-13F9-4436-9992-5F7B584BCB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A4C0-B923-4345-A8BB-C8F1FF9E45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F5E0-4BC3-45E6-87F4-E6777EF351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E02A-CFC9-45B1-98B2-90D59161CA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5C1D-59E4-424A-AC9C-3DCC49B1C4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5EC2-DAD6-4BDF-BA7F-A136420C57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FA86-BD3C-49E0-8A6F-433FE038C3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8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02560" cy="29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2060"/>
                </a:solidFill>
                <a:latin typeface="Arial Black"/>
              </a:rPr>
              <a:t>Evaluación para el Aprendizaje</a:t>
            </a:r>
            <a:endParaRPr b="0" lang="en-US" sz="54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9999"/>
                </a:solidFill>
                <a:latin typeface="Arial"/>
              </a:rPr>
              <a:t>El uso de criterios de evaluación preestablecidos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533160" y="17521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Son los aspectos del aprendizaje centrales desde el punto de vista de un sector de aprendizaje particular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Pueden incluir conocimientos, habilidades y capacidades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.</a:t>
            </a:r>
            <a:r>
              <a:rPr b="1" lang="es-ES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2743200" y="5029200"/>
            <a:ext cx="571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Dimensiones del aprendizaje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3059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3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9900"/>
              </a:solidFill>
              <a:latin typeface="Arial"/>
            </a:endParaRPr>
          </a:p>
          <a:p>
            <a:pPr lvl="1" marL="793800" indent="-53820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Agrupación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categoría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, familia de 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dimensiones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 de aprendizaje que son centrales o fundamentales en la formación de un alumno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93800" indent="-53820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Definidos con el propósito de e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valuar 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la producción o el trabajo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de 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los 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alumno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s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228240" y="837720"/>
            <a:ext cx="87361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Arial Black"/>
              </a:rPr>
              <a:t>Criterios de evaluación</a:t>
            </a:r>
            <a:br>
              <a:rPr sz="3600"/>
            </a:br>
            <a:r>
              <a:rPr b="0" lang="es-ES" sz="3600" spc="-1" strike="noStrike">
                <a:solidFill>
                  <a:srgbClr val="009999"/>
                </a:solidFill>
                <a:latin typeface="Arial Black"/>
              </a:rPr>
              <a:t>preestablecidos</a:t>
            </a:r>
            <a:endParaRPr b="0" lang="en-US" sz="36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Criterio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Nombre descriptivo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Definición o descripción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Arial"/>
              </a:rPr>
              <a:t>A partir de las dimensiones que lo constituyen</a:t>
            </a:r>
            <a:r>
              <a:rPr b="1" lang="es-ES" sz="28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7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Arial"/>
            </a:endParaRPr>
          </a:p>
          <a:p>
            <a:pPr marL="447120" indent="-44712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Escala o continuo descriptivo, que identifica el avance del alumno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447120" indent="-44712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Permite ubicar el trabajo del alumno</a:t>
            </a: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 en términos de su calidad,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 según esos criterios preestablecidos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447120" indent="-44712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Esta ubicación puede resultar muy significativa para profesores y para los alumnos. 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Arial Black"/>
              </a:rPr>
              <a:t>Niveles de logro o “descriptores”</a:t>
            </a:r>
            <a:endParaRPr b="0" lang="en-US" sz="36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762120" y="2437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99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99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669900"/>
                </a:solidFill>
                <a:latin typeface="Arial"/>
              </a:rPr>
              <a:t>  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riterios de 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E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valuación</a:t>
            </a:r>
            <a:br>
              <a:rPr sz="3200"/>
            </a:br>
            <a:r>
              <a:rPr b="1" lang="es-ES" sz="4000" spc="-1" strike="noStrike">
                <a:solidFill>
                  <a:srgbClr val="002060"/>
                </a:solidFill>
                <a:latin typeface="Arial"/>
              </a:rPr>
              <a:t>+</a:t>
            </a:r>
            <a:br>
              <a:rPr sz="4000"/>
            </a:b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D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escriptores o 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iveles de logro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Rúbrica o Tabla de Criterios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2060"/>
                </a:solidFill>
                <a:latin typeface="Arial"/>
              </a:rPr>
              <a:t>Claridad de Expresión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Arial"/>
              </a:rPr>
              <a:t>El nivel alcanzado en este criterio se determina por la forma en que el alumno se expresa, ya sea, en un contexto oral o escrito.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Criterio de evaluación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826560" y="112536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2060"/>
                </a:solidFill>
                <a:latin typeface="Arial"/>
                <a:ea typeface="Arial"/>
              </a:rPr>
              <a:t>Claridad de la Expresión</a:t>
            </a:r>
            <a:endParaRPr b="0" lang="en-US" sz="40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2060"/>
                </a:solidFill>
                <a:latin typeface="Arial"/>
                <a:ea typeface="Arial"/>
              </a:rPr>
              <a:t>El lenguaje usado por el estudiante resulta claro, preciso y variado.</a:t>
            </a:r>
            <a:endParaRPr b="0" lang="en-US" sz="30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2060"/>
                </a:solidFill>
                <a:latin typeface="Arial"/>
                <a:ea typeface="Arial"/>
              </a:rPr>
              <a:t>La elección del registro y del estilo es adecuada según la tarea.</a:t>
            </a:r>
            <a:endParaRPr b="0" lang="en-US" sz="30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2060"/>
                </a:solidFill>
                <a:latin typeface="Arial"/>
                <a:ea typeface="Arial"/>
              </a:rPr>
              <a:t>Las normas -de escritura, de dicción- han sido respetadas.</a:t>
            </a:r>
            <a:endParaRPr b="0" lang="en-US" sz="31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2060"/>
                </a:solidFill>
                <a:latin typeface="Arial"/>
                <a:ea typeface="Arial"/>
              </a:rPr>
              <a:t>El discurso se organiza en función de la idea central que se desea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s-ES" sz="3100" spc="-1" strike="noStrike">
                <a:solidFill>
                  <a:srgbClr val="002060"/>
                </a:solidFill>
                <a:latin typeface="Arial"/>
                <a:ea typeface="Arial"/>
              </a:rPr>
              <a:t>comunicar.</a:t>
            </a:r>
            <a:r>
              <a:rPr b="1" lang="es-ES" sz="31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Criterio de Evaluación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9" name=""/>
          <p:cNvGraphicFramePr/>
          <p:nvPr/>
        </p:nvGraphicFramePr>
        <p:xfrm>
          <a:off x="285840" y="214200"/>
          <a:ext cx="8713800" cy="6357960"/>
        </p:xfrm>
        <a:graphic>
          <a:graphicData uri="http://schemas.openxmlformats.org/drawingml/2006/table">
            <a:tbl>
              <a:tblPr/>
              <a:tblGrid>
                <a:gridCol w="2038320"/>
                <a:gridCol w="667548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ivel de logro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escriptor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3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xcelente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l lenguaje usado es consistentemente claro y preciso y el vocabulario utilizado demuestra gran variedad. Las normas de escritura han sido respetadas a cabalidad en todo momento.  El registro es el apropiado a la tarea y el discurso ha sido organizado de forma que la idea central que se desea comunicar se destaca. </a:t>
                      </a:r>
                      <a:endParaRPr b="0" lang="en-US" sz="16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ueno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s lenguaje usado es claro y preciso en general y el vocabulario utilizado es variado. Las normas de escritura han sido respetadas en la mayoría de los casos, por lo que no hay errores significativos de gramática, ortografía y redacción.  El registro es apropiado a la tarea y el discurso ha sido eficazmente organizado para apreciar la idea central que se desea comunicar. </a:t>
                      </a:r>
                      <a:endParaRPr b="0" lang="en-US" sz="16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uficiente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l lenguaje usado es claro.  Las normas de escritura pocas veces han sido respetadas, por lo que puede haber algunos errores significativos de gramática, ortografía y redacción.  Las ideas están desorganizadas, aunque se puede apreciar una idea principal.</a:t>
                      </a:r>
                      <a:endParaRPr b="0" lang="en-US" sz="16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Insuficiente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l lenguaje usado es difícilmente comprensible. Frecuentemente el vocabulario es impreciso o inadecuado. Hay muchos errores de gramática, ortografía y redacción.  La falta de organización de las ideas oculta la idea principal.</a:t>
                      </a:r>
                      <a:endParaRPr b="0" lang="en-US" sz="16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4" descr="3227767_75"/>
          <p:cNvPicPr/>
          <p:nvPr/>
        </p:nvPicPr>
        <p:blipFill>
          <a:blip r:embed="rId1"/>
          <a:stretch/>
        </p:blipFill>
        <p:spPr>
          <a:xfrm rot="2482200">
            <a:off x="766800" y="24098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ED00118_[1]"/>
          <p:cNvPicPr/>
          <p:nvPr/>
        </p:nvPicPr>
        <p:blipFill>
          <a:blip r:embed="rId2"/>
          <a:stretch/>
        </p:blipFill>
        <p:spPr>
          <a:xfrm>
            <a:off x="642960" y="4543560"/>
            <a:ext cx="1643040" cy="1546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j0094811[1]"/>
          <p:cNvPicPr/>
          <p:nvPr/>
        </p:nvPicPr>
        <p:blipFill>
          <a:blip r:embed="rId3"/>
          <a:stretch/>
        </p:blipFill>
        <p:spPr>
          <a:xfrm>
            <a:off x="6572160" y="4286160"/>
            <a:ext cx="1808280" cy="1928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j0156797[1]"/>
          <p:cNvPicPr/>
          <p:nvPr/>
        </p:nvPicPr>
        <p:blipFill>
          <a:blip r:embed="rId4"/>
          <a:stretch/>
        </p:blipFill>
        <p:spPr>
          <a:xfrm>
            <a:off x="3571920" y="4286160"/>
            <a:ext cx="1812960" cy="13575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PE05788_[1]"/>
          <p:cNvPicPr/>
          <p:nvPr/>
        </p:nvPicPr>
        <p:blipFill>
          <a:blip r:embed="rId5"/>
          <a:stretch/>
        </p:blipFill>
        <p:spPr>
          <a:xfrm>
            <a:off x="6429240" y="1928880"/>
            <a:ext cx="1303560" cy="181296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142920" y="642960"/>
            <a:ext cx="86868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Existen muchas maneras de observar o mirar un objeto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Introducción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pic>
        <p:nvPicPr>
          <p:cNvPr id="599" name="Picture 9" descr="SPACE010"/>
          <p:cNvPicPr/>
          <p:nvPr/>
        </p:nvPicPr>
        <p:blipFill>
          <a:blip r:embed="rId1"/>
          <a:srcRect l="5906" t="68241" r="72451" b="0"/>
          <a:stretch/>
        </p:blipFill>
        <p:spPr>
          <a:xfrm>
            <a:off x="1763640" y="620640"/>
            <a:ext cx="4776840" cy="5256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SPACE008"/>
          <p:cNvPicPr/>
          <p:nvPr/>
        </p:nvPicPr>
        <p:blipFill>
          <a:blip r:embed="rId2"/>
          <a:stretch/>
        </p:blipFill>
        <p:spPr>
          <a:xfrm>
            <a:off x="1619280" y="260280"/>
            <a:ext cx="5657760" cy="5761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SPACE029"/>
          <p:cNvPicPr/>
          <p:nvPr/>
        </p:nvPicPr>
        <p:blipFill>
          <a:blip r:embed="rId3"/>
          <a:srcRect l="16211" t="0" r="0" b="0"/>
          <a:stretch/>
        </p:blipFill>
        <p:spPr>
          <a:xfrm>
            <a:off x="1258920" y="260280"/>
            <a:ext cx="6696000" cy="59943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5" descr="SPACE010"/>
          <p:cNvPicPr/>
          <p:nvPr/>
        </p:nvPicPr>
        <p:blipFill>
          <a:blip r:embed="rId4"/>
          <a:stretch/>
        </p:blipFill>
        <p:spPr>
          <a:xfrm>
            <a:off x="539640" y="333360"/>
            <a:ext cx="8028000" cy="60213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8" descr="SPACE030"/>
          <p:cNvPicPr/>
          <p:nvPr/>
        </p:nvPicPr>
        <p:blipFill>
          <a:blip r:embed="rId5"/>
          <a:stretch/>
        </p:blipFill>
        <p:spPr>
          <a:xfrm>
            <a:off x="539640" y="106200"/>
            <a:ext cx="8064720" cy="6491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6" descr="SPACE017"/>
          <p:cNvPicPr/>
          <p:nvPr/>
        </p:nvPicPr>
        <p:blipFill>
          <a:blip r:embed="rId6"/>
          <a:stretch/>
        </p:blipFill>
        <p:spPr>
          <a:xfrm>
            <a:off x="179280" y="214200"/>
            <a:ext cx="8640720" cy="64818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11"/>
          <p:cNvSpPr/>
          <p:nvPr/>
        </p:nvSpPr>
        <p:spPr>
          <a:xfrm>
            <a:off x="250920" y="836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28600" y="3141720"/>
            <a:ext cx="868680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9900"/>
                </a:solidFill>
                <a:latin typeface="Arial"/>
              </a:rPr>
              <a:t>y según cómo uno mire…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669900"/>
                </a:solidFill>
                <a:latin typeface="Arial"/>
              </a:rPr>
              <a:t>…será lo que uno vea</a:t>
            </a:r>
            <a:endParaRPr b="0" lang="en-US" sz="40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Cómo mirar en evaluación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Una mirada precisa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Observar lo que uno se ha propuesto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Ni muy lejos para no perder los detalles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Ni muy cerca para no perder la visión del todo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Para que nuestra mirada sea equilibrada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Los aprendizajes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Son los árboles y también son el bosque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Es necesaria una mirada especializada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¿Objetiva?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¿No arbitraria?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Justa y no homogeneizante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Criterios preestablecidos</a:t>
            </a: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Una manera de lograr una mirada equilibrada sobre el trabajo de los alumnos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Observar el trabajo de los alumnos desde distintas perspectivas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Atendiendo a qué es lo importante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Sin detenerse en lo accesorio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¨¿Criterios?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669900"/>
              </a:solidFill>
              <a:latin typeface="Arial"/>
            </a:endParaRPr>
          </a:p>
        </p:txBody>
      </p:sp>
      <p:grpSp>
        <p:nvGrpSpPr>
          <p:cNvPr id="615" name="Group 15"/>
          <p:cNvGrpSpPr/>
          <p:nvPr/>
        </p:nvGrpSpPr>
        <p:grpSpPr>
          <a:xfrm>
            <a:off x="250920" y="1700280"/>
            <a:ext cx="8713800" cy="4911480"/>
            <a:chOff x="250920" y="1700280"/>
            <a:chExt cx="8713800" cy="4911480"/>
          </a:xfrm>
        </p:grpSpPr>
        <p:pic>
          <p:nvPicPr>
            <p:cNvPr id="616" name="Picture 4" descr="thumb_EA9112-S"/>
            <p:cNvPicPr/>
            <p:nvPr/>
          </p:nvPicPr>
          <p:blipFill>
            <a:blip r:embed="rId1"/>
            <a:stretch/>
          </p:blipFill>
          <p:spPr>
            <a:xfrm>
              <a:off x="6659640" y="5300640"/>
              <a:ext cx="230508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5" descr="CD_m_adiorable3"/>
            <p:cNvPicPr/>
            <p:nvPr/>
          </p:nvPicPr>
          <p:blipFill>
            <a:blip r:embed="rId2"/>
            <a:stretch/>
          </p:blipFill>
          <p:spPr>
            <a:xfrm>
              <a:off x="2556000" y="5734080"/>
              <a:ext cx="1871640" cy="8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6" descr="CD_m_night1"/>
            <p:cNvPicPr/>
            <p:nvPr/>
          </p:nvPicPr>
          <p:blipFill>
            <a:blip r:embed="rId3"/>
            <a:stretch/>
          </p:blipFill>
          <p:spPr>
            <a:xfrm>
              <a:off x="250920" y="3860640"/>
              <a:ext cx="1800000" cy="84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7" descr="CD_Schlak1_WH5-3Y"/>
            <p:cNvPicPr/>
            <p:nvPr/>
          </p:nvPicPr>
          <p:blipFill>
            <a:blip r:embed="rId4"/>
            <a:stretch/>
          </p:blipFill>
          <p:spPr>
            <a:xfrm>
              <a:off x="900000" y="1700280"/>
              <a:ext cx="208944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8" descr="thumb_5065"/>
            <p:cNvPicPr/>
            <p:nvPr/>
          </p:nvPicPr>
          <p:blipFill>
            <a:blip r:embed="rId5"/>
            <a:stretch/>
          </p:blipFill>
          <p:spPr>
            <a:xfrm>
              <a:off x="6588000" y="1700280"/>
              <a:ext cx="2305080" cy="91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AutoShape 9"/>
          <p:cNvSpPr/>
          <p:nvPr/>
        </p:nvSpPr>
        <p:spPr>
          <a:xfrm rot="2592600">
            <a:off x="2987280" y="2349360"/>
            <a:ext cx="1079640" cy="505080"/>
          </a:xfrm>
          <a:prstGeom prst="rightArrow">
            <a:avLst>
              <a:gd name="adj1" fmla="val 50000"/>
              <a:gd name="adj2" fmla="val 53439"/>
            </a:avLst>
          </a:prstGeom>
          <a:solidFill>
            <a:srgbClr val="bbe0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2" name="AutoShape 11"/>
          <p:cNvSpPr/>
          <p:nvPr/>
        </p:nvSpPr>
        <p:spPr>
          <a:xfrm rot="8410200">
            <a:off x="5579280" y="2708280"/>
            <a:ext cx="1079640" cy="504720"/>
          </a:xfrm>
          <a:prstGeom prst="rightArrow">
            <a:avLst>
              <a:gd name="adj1" fmla="val 50000"/>
              <a:gd name="adj2" fmla="val 53477"/>
            </a:avLst>
          </a:prstGeom>
          <a:solidFill>
            <a:srgbClr val="bbe0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3" name="AutoShape 12"/>
          <p:cNvSpPr/>
          <p:nvPr/>
        </p:nvSpPr>
        <p:spPr>
          <a:xfrm rot="12735600">
            <a:off x="5795280" y="4580640"/>
            <a:ext cx="1079640" cy="505080"/>
          </a:xfrm>
          <a:prstGeom prst="rightArrow">
            <a:avLst>
              <a:gd name="adj1" fmla="val 50000"/>
              <a:gd name="adj2" fmla="val 53439"/>
            </a:avLst>
          </a:prstGeom>
          <a:solidFill>
            <a:srgbClr val="bbe0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4" name="AutoShape 13"/>
          <p:cNvSpPr/>
          <p:nvPr/>
        </p:nvSpPr>
        <p:spPr>
          <a:xfrm rot="18055200">
            <a:off x="3492360" y="4868280"/>
            <a:ext cx="1079640" cy="504720"/>
          </a:xfrm>
          <a:prstGeom prst="rightArrow">
            <a:avLst>
              <a:gd name="adj1" fmla="val 50000"/>
              <a:gd name="adj2" fmla="val 53477"/>
            </a:avLst>
          </a:prstGeom>
          <a:solidFill>
            <a:srgbClr val="bbe0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5" name="AutoShape 14"/>
          <p:cNvSpPr/>
          <p:nvPr/>
        </p:nvSpPr>
        <p:spPr>
          <a:xfrm rot="20694600">
            <a:off x="2268000" y="3933360"/>
            <a:ext cx="1079640" cy="505080"/>
          </a:xfrm>
          <a:prstGeom prst="rightArrow">
            <a:avLst>
              <a:gd name="adj1" fmla="val 50000"/>
              <a:gd name="adj2" fmla="val 53439"/>
            </a:avLst>
          </a:prstGeom>
          <a:solidFill>
            <a:srgbClr val="bbe0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6" name="AutoShape 16"/>
          <p:cNvSpPr/>
          <p:nvPr/>
        </p:nvSpPr>
        <p:spPr>
          <a:xfrm>
            <a:off x="3635280" y="3357720"/>
            <a:ext cx="1943280" cy="1079280"/>
          </a:xfrm>
          <a:custGeom>
            <a:avLst/>
            <a:gdLst>
              <a:gd name="textAreaLeft" fmla="*/ 69840 w 1943280"/>
              <a:gd name="textAreaRight" fmla="*/ 1873440 w 19432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38886" h="21600">
                <a:moveTo>
                  <a:pt x="0" y="0"/>
                </a:moveTo>
                <a:lnTo>
                  <a:pt x="38886" y="0"/>
                </a:lnTo>
                <a:lnTo>
                  <a:pt x="38886" y="21600"/>
                </a:lnTo>
                <a:lnTo>
                  <a:pt x="0" y="21600"/>
                </a:lnTo>
                <a:close/>
              </a:path>
              <a:path fill="lightenLess" w="38886" h="21600">
                <a:moveTo>
                  <a:pt x="0" y="0"/>
                </a:moveTo>
                <a:lnTo>
                  <a:pt x="38886" y="0"/>
                </a:lnTo>
                <a:lnTo>
                  <a:pt x="37486" y="1400"/>
                </a:lnTo>
                <a:lnTo>
                  <a:pt x="1400" y="1400"/>
                </a:lnTo>
                <a:close/>
              </a:path>
              <a:path fill="darken" w="38886" h="21600">
                <a:moveTo>
                  <a:pt x="38886" y="0"/>
                </a:moveTo>
                <a:lnTo>
                  <a:pt x="38886" y="21600"/>
                </a:lnTo>
                <a:lnTo>
                  <a:pt x="37486" y="20200"/>
                </a:lnTo>
                <a:lnTo>
                  <a:pt x="37486" y="1400"/>
                </a:lnTo>
                <a:close/>
              </a:path>
              <a:path fill="darkenLess" w="38886" h="21600">
                <a:moveTo>
                  <a:pt x="38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6" y="20200"/>
                </a:lnTo>
                <a:close/>
              </a:path>
              <a:path fill="lighten" w="38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3635280" y="342900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EL TRABAJO DE LOS ALMUNO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214200" y="164304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685800" y="2057400"/>
            <a:ext cx="7924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2060"/>
                </a:solidFill>
                <a:latin typeface="Arial"/>
              </a:rPr>
              <a:t>Para definir una lente o filtro de acercamiento al trabajo de los alumnos, se requiere identificar dimensiones de aprendizaje.</a:t>
            </a:r>
            <a:endParaRPr b="0" lang="en-US" sz="4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Dimensiones del aprendizaje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714240" y="1714680"/>
            <a:ext cx="7672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2060"/>
                </a:solidFill>
                <a:latin typeface="Arial"/>
              </a:rPr>
              <a:t>Aquello que se considera imprescindible y que el profesor quiere observar </a:t>
            </a:r>
            <a:r>
              <a:rPr b="1" lang="es-CL" sz="4400" spc="-1" strike="noStrike">
                <a:solidFill>
                  <a:srgbClr val="002060"/>
                </a:solidFill>
                <a:latin typeface="Arial"/>
              </a:rPr>
              <a:t>en la producción del alumno con el fin de evaluar su aprendizaje</a:t>
            </a:r>
            <a:r>
              <a:rPr b="1" lang="es-CL" sz="44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title"/>
          </p:nvPr>
        </p:nvSpPr>
        <p:spPr>
          <a:xfrm>
            <a:off x="285840" y="64296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¿Qué es una dimensión?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5:39:05Z</dcterms:created>
  <dc:creator>mhernand</dc:creator>
  <dc:description/>
  <dc:language>en-US</dc:language>
  <cp:lastModifiedBy>..</cp:lastModifiedBy>
  <dcterms:modified xsi:type="dcterms:W3CDTF">2010-04-22T02:00:59Z</dcterms:modified>
  <cp:revision>19</cp:revision>
  <dc:subject/>
  <dc:title>Dimensiones del Aprendiza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3</vt:lpwstr>
  </property>
</Properties>
</file>