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BE13-2C97-4BB3-B692-42C61757E7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D381-FF90-45C3-8F7E-B02EE88300BA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A45-BD8D-4914-9550-4B3DCE5B5494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F693-5CB4-44EC-9B64-F0765EA9606C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FA3C-0559-46F1-8576-DDA89142B299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C483-19ED-462D-9BF4-BF52E417BE19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C6CB-284F-4CA0-A064-DF023781D249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A926-FFF6-42A9-B843-C4AD327CDE97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AC5B-1AAF-4CC2-9CA6-F8408D1B5B98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473-B7ED-427C-BBAA-06ED8BE030FA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23D7-01EF-48B1-899F-1A8A0031B7FC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EA1-9909-4464-BFFB-7DB2602E3FFF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E91B-C598-4BD7-86E2-9CCD77616EEC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D91-EB3F-4B00-97CC-7937CA1385CC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03A1-2864-4C7E-9A3C-91827FC34186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817-D142-4294-B4BF-593C120C4225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CD9B-3CA6-4AFE-BA28-6DDA34592507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8BC7-DE37-4F0A-8D42-ADB665361BEF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76C-F4E4-491E-828F-2BFB034F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4F6-7588-42C2-B0A4-E761E59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3966A-BA41-4162-8389-468F70FC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3539C-4A8F-455C-866C-30CEBDB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1FF7C-F421-4E71-9D8C-6FBE6629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8782-9425-4F86-BE30-8699FB4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A62F8-48B4-49D1-A5D7-414DE60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07BA8-DD51-41BF-84B3-28B37634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EB35A-1E02-477B-806D-CF3E50E7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4D0F1-69F5-4632-86E0-5D7AD082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8726B-5B31-4235-92A4-CDC06EFB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EE28F-6B14-46D5-94EF-0A9741D4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C72-DEB4-4B4E-9FF1-B541E96D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80058-942F-4674-9E7E-6F434267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1ECF9-10E3-4A5E-8C11-BE1F9162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7CAA9-BE27-441C-AF75-25DECEF2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20DEB-460F-4F60-9432-46617C7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4E5A6-1AE6-47DF-9D39-CC1B0FEF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DDB7B-E2A8-4C87-BC3F-2744169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76B31-68B1-4773-8321-1FBB420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7B474-03D4-48A5-A89E-3599FB00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0DF58-A229-4561-BB92-DF05D08B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01054-7E2C-4B51-945B-D6057B7F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B0D-9B1A-4FC4-B330-BB227CB0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5CA86-9405-4E28-B82A-88A25DAE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3643C-DF40-4700-9909-A0F0DE03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F37FE-D98E-4DD3-978B-718E638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0EE45-3A08-4E7F-8B1B-BD68D101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E69E-5D2C-4030-BC5A-32592CD5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6D73B-883E-4A3B-B163-88927126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67B41-5B7A-4B79-955B-412B068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B8BF4-E536-4D1E-B8B8-7613189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11F9E-E3ED-48CE-8D31-C0DEE60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3287E-278F-43F8-AAB0-4D3DBBD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3BA9-1126-43AE-9F30-0C8C3BB2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5883B-7DB1-4DAF-B9DB-63D53EFF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A459B-C418-4B6C-A83A-0A79485C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8CCBD-3AEF-42C0-9F22-0265F102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D1522-52D1-49FA-98B9-47F31534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D105B-4091-4A2D-882F-01E244C2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FF2F9-8273-4569-87CA-921B108C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739DF-2CCB-4AD9-9247-63733DD9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03FF1-8B15-4FC7-BA3C-5ACF9B58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41977-941A-44C6-8113-6AA4437A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81772-4B65-4DA3-9970-7310A26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4102-F2CB-4477-8FD8-8B61973B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EF0C4-96E5-4813-BB0B-53BBD55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DB3A5-90C7-458C-9DDA-2DA2F53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EA778-AE36-40C6-AA18-7ABADE1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6F7FE-80F2-49F9-BBAF-05A88E22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E5426-6380-480F-9B66-24F5B94D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B62C7-D0D6-4F15-87FD-5AE72404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914C8-985E-4DC9-8E54-D9737E22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CE62B-20F2-4576-88D0-950CA9D5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1F95A-5EC7-4E6B-93B1-59C97EA8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DD235-52CC-4A0B-AB19-69CA170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C07-A25F-4488-9F3B-EB5603E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FEC31-B35A-4FEA-8E79-FFA8E38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FF114-83C9-47D8-A2AA-A9C9512E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75EE6-A187-4407-A6B6-7E4381A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12079-2E14-4AE1-B851-A61BEED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E2B6E-895F-457C-BAFD-C138E790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CE884-A0E3-40DC-9246-99960B53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30032-2BF9-41C2-92AD-0B86019A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1C8BA-31BE-4FF8-87D0-5E04AFC4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1F746-74F0-40AA-B92E-EB9D4A46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38F70-5766-455F-B51C-B6C39C00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05E3-F246-4B7B-9952-EAC63FB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94676-DDCC-4796-B0BC-753794B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84AB0-2561-4BCF-B40B-9CB99C2A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44466-7CFA-40EB-B81B-80848B9C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238D0-9959-48F0-AFBB-19BE1C8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65F5C-D562-42B6-A28F-2B2C8D8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D0D0A-F900-4F33-8B6C-80E504C0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8C714-7C93-48BD-AA12-1D6DB9EC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FDE5C-0BAE-4847-8481-0474632F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2B547-5298-47E5-BA0E-A559C066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6910-D5C4-4101-A99E-73A371E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CDD-1E58-4950-A1DE-179CFF8C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8E5B-69F9-481A-A403-E55E0D8C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480-7152-4ACF-87EA-C377F51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3D38-0462-451A-9F1C-2D4D175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632-666D-4C0B-8317-62BC11F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055A-5F89-41C3-85EA-9B1C5549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232-5BAA-404A-975F-FCED55D8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DA19-DDE3-4E16-9E4C-02D2F1B5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FED0-3F1A-48FB-982B-B4565EF7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9C86-84FD-4D8F-AA75-B9681EB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1896-F769-4371-884A-3570F726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7DFB-D300-418B-BBA3-AA6B3F31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24C6-5ED0-45AB-864A-EC77977B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2C2-EB18-4605-8560-0A7E8F44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3B91-F028-4A2B-A742-4A9EACE2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3035-A106-4B73-B723-EB0F5D2F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970E-62D0-4B63-AEDD-41C3A1C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6F28-0AA1-45B6-838A-49B3073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A77E-67A8-48C6-9B20-03C7D71B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5641-B54D-44EE-8E56-681712A0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7EA6-3B9D-42BE-8E85-9348393A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AAFA-64B7-4071-9E64-F032604F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21E2-566C-4E40-9C9A-A9D1839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28BA0-C0D3-466B-ADB3-06A89C87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D74-C968-4D93-AC8A-ADA0CAE8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C688-9CF0-40C1-BCFE-28E701CB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ADD4-3618-40EE-BFF4-08DCB65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C8F5-E37A-418A-A71D-9958C41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A5BEE-B873-4AAC-A980-532BE1C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14CC-E023-4DD1-ACBF-7A04262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96CF-69AB-443B-AD08-E999B71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EB8B-BD4D-4D91-87F3-4D1ED036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D5A7-964A-44E6-898A-14447959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1A70-AE20-4FB2-BF37-927910EF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7771-0A4F-43B7-B151-4EB85268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5AB-CF43-4DF6-8735-8DB6AADC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A9C8-6CAA-492D-8DD1-9A840FC2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912D-7A83-4C9A-BF58-452636C9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29011-89A7-4258-8BF4-3FCAD94A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29B9-6375-4387-B9E2-C65A86B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F152-2D95-4053-97C0-16492B6B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4D1E6-8E65-4FE0-A261-C8B4399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42C0-505D-4F66-B042-DBC8715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63A2D-34FA-4A19-9DFC-C8C73C5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D63D1-4FD7-4069-88BB-571FB78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18F2-EEF3-47A2-8504-E8CB7AA6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B37-74CE-40E6-B16F-9EEA128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77E5-E08D-4A15-9974-897153A4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D3AB-916B-4C45-B19A-98DE1F81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5BCB-AF95-4E9D-9BE3-8C215CB8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7E33-EC72-4DD7-9B6C-D44E81E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0854-3D00-48ED-98C3-B6E032B8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5708-F189-4252-BBA9-4FEE61A3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74D50-63A8-415E-A86F-08AB1C1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25DC-F7AF-42F2-8493-8734ECF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F087B-EC76-4757-99FA-F03C093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CF543-E2F9-420C-93D2-4DFA418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928-FC86-48A2-8228-3B43A38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202C-AB32-4B1E-BB65-7CDCCBA2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159B5-6813-4E81-A552-926730A9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D350-CD98-4A1F-8668-28EAFE28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EE664-35E1-43FF-9DB1-0B4E0AF5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ABF2D-CAB9-4A4F-B3D5-C5947D08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43593-F017-49F0-95A1-6831148B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E15DA-7794-4CFB-8907-84E3F90C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68A3E-6B36-4A3D-9700-6CA74FE3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4A84-B20E-444E-95A2-97031B9C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69EA1-72F0-4634-B5F5-9C78765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AC3-88B9-4D75-B514-B14CF6F5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51544-E1BE-4DEB-9643-B3F4643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07EC-6BF1-4F2C-B069-14E0E74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9A8E2-47A3-4100-B42F-FA27680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4F104-C344-4B83-9AE3-419A2966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3442B-7646-44BF-AE52-A2CE0021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C862-DD94-46F7-91BE-40AE4DED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396C6-F09B-4AB2-9290-2BB0EC81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C058-FF9F-4DD7-94D0-B0B432C5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209A-5749-4D08-8108-D66A720E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F79F-A399-4A1F-9689-8A991399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AED-40E0-4EF6-BE55-914AFB14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76116-CD7B-431E-AD57-2BB5EE4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60C22-9807-4EDD-AC3C-C819E6DA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B5B53-F65E-4AE1-88EA-1A7A891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5650D-4F47-4C05-B5CF-D513E7E1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A62F5-E6F1-4873-B6CB-1771BAAC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0838-A492-4FFD-BFD4-05898600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C2F9A-4217-4A93-BE35-40153586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3F7E0-3ACA-4147-A20A-3BC603E3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2F089-8B8C-40A3-9E0A-2F9436D1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4D0DA-BE95-40EA-848A-BB3E3EA8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206-193C-4BF7-879A-9514755C21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6" name="Picture 8" descr="u_chile"/>
            <p:cNvPicPr/>
            <p:nvPr/>
          </p:nvPicPr>
          <p:blipFill>
            <a:blip r:embed="rId3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9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6047-C25F-4B7A-B05A-6DE834C559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571E-6AD0-4AF5-8856-6D1BD0725F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A0F-09FE-4792-BAA3-6F80396D4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F32-6C5D-402F-85DD-18CFD83817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2A5D-D4F9-48CD-A8C5-BEE986CBFD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45" name="Picture 8" descr="u_chile"/>
            <p:cNvPicPr/>
            <p:nvPr/>
          </p:nvPicPr>
          <p:blipFill>
            <a:blip r:embed="rId3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9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47" name="Group 9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48" name="Picture 7" descr="u_chile"/>
            <p:cNvPicPr/>
            <p:nvPr/>
          </p:nvPicPr>
          <p:blipFill>
            <a:blip r:embed="rId4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8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7B59-C72A-41B0-82DC-BF92F32EE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DAE1-AEB7-48C6-9F4A-B80F91359D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FD2A-31EE-409F-8608-70D2B7F8BC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68EB-F071-4224-96E4-45B382F3D1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2609-4830-4AB5-B002-730111CD7B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D256-99E5-462B-9B34-CFB452D341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9DC7-7E75-4E48-86F4-2E6ED19A75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A01-B8FE-4F20-AE40-25AF30428C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2560" cy="29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2060"/>
                </a:solidFill>
                <a:latin typeface="Arial Black"/>
              </a:rPr>
              <a:t>Evaluación para el Aprendizaje</a:t>
            </a:r>
            <a:endParaRPr b="0" lang="en-US" sz="54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9999"/>
                </a:solidFill>
                <a:latin typeface="Arial"/>
              </a:rPr>
              <a:t>El uso de criterios de evaluación preestablecidos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on los aspectos del aprendizaje centrales desde el punto de vista de un sector de aprendizaje particular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Pueden incluir conocimientos, habilidades y capacidades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2743200" y="50292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Dimensiones del aprendizaj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Arial"/>
            </a:endParaRPr>
          </a:p>
          <a:p>
            <a:pPr lvl="1" marL="793800" indent="-53820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Agrupación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categoría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, familia de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dimensiones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 de aprendizaje que son centrales o fundamentales en la formación de un alumn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93800" indent="-53820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Definidos con el propósito de e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valuar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la producción o el trabajo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de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los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alumno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228240" y="837720"/>
            <a:ext cx="87361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Criterios de evaluación</a:t>
            </a:r>
            <a:br>
              <a:rPr sz="3600"/>
            </a:b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preestablecidos</a:t>
            </a:r>
            <a:endParaRPr b="0" lang="en-US" sz="36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Nombre descriptiv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Definición o descripción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A partir de las dimensiones que lo constituyen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7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cala o continuo descriptivo, que identifica el avance del alumn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Permite ubicar el trabajo del alumno</a:t>
            </a: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 en términos de su calidad,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 según esos criterios preestablecido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ta ubicación puede resultar muy significativa para profesores y para los alumnos. 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Niveles de logro o “descriptores”</a:t>
            </a:r>
            <a:endParaRPr b="0" lang="en-US" sz="36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riterios de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valuación</a:t>
            </a:r>
            <a:br>
              <a:rPr sz="3200"/>
            </a:br>
            <a:r>
              <a:rPr b="1" lang="es-ES" sz="4000" spc="-1" strike="noStrike">
                <a:solidFill>
                  <a:srgbClr val="002060"/>
                </a:solidFill>
                <a:latin typeface="Arial"/>
              </a:rPr>
              <a:t>+</a:t>
            </a:r>
            <a:br>
              <a:rPr sz="4000"/>
            </a:b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criptores o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iveles de logr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Rúbrica o Tabla de Criterios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Arial"/>
              </a:rPr>
              <a:t>Claridad de Expresión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El nivel alcanzado en este criterio se determina por la forma en que el alumno se expresa, ya sea, en un contexto oral o escrito.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 de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Arial"/>
                <a:ea typeface="Arial"/>
              </a:rPr>
              <a:t>Claridad de la Expresión</a:t>
            </a: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2060"/>
                </a:solidFill>
                <a:latin typeface="Arial"/>
                <a:ea typeface="Arial"/>
              </a:rPr>
              <a:t>El lenguaje usado por el estudiante resulta claro, preciso y variado.</a:t>
            </a:r>
            <a:endParaRPr b="0" lang="en-US" sz="3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2060"/>
                </a:solidFill>
                <a:latin typeface="Arial"/>
                <a:ea typeface="Arial"/>
              </a:rPr>
              <a:t>La elección del registro y del estilo es adecuada según la tarea.</a:t>
            </a:r>
            <a:endParaRPr b="0" lang="en-US" sz="3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Las normas -de escritura, de dicción- han sido respetadas.</a:t>
            </a:r>
            <a:endParaRPr b="0" lang="en-US" sz="31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El discurso se organiza en función de la idea central que se desea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comunicar.</a:t>
            </a:r>
            <a:r>
              <a:rPr b="1" lang="es-ES" sz="3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 de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285840" y="214200"/>
          <a:ext cx="8713800" cy="6357960"/>
        </p:xfrm>
        <a:graphic>
          <a:graphicData uri="http://schemas.openxmlformats.org/drawingml/2006/table">
            <a:tbl>
              <a:tblPr/>
              <a:tblGrid>
                <a:gridCol w="2038320"/>
                <a:gridCol w="66754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cel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consistentemente claro y preciso y el vocabulario utilizado demuestra gran variedad. Las normas de escritura han sido respetadas a cabalidad en todo momento.  El registro es el apropiado a la tarea y el discurso ha sido organizado de forma que la idea central que se desea comunicar se destaca. 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s lenguaje usado es claro y preciso en general y el vocabulario utilizado es variado. Las normas de escritura han sido respetadas en la mayoría de los casos, por lo que no hay errores significativos de gramática, ortografía y redacción.  El registro es apropiado a la tarea y el discurso ha sido eficazmente organizado para apreciar la idea central que se desea comunicar. 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fici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claro.  Las normas de escritura pocas veces han sido respetadas, por lo que puede haber algunos errores significativos de gramática, ortografía y redacción.  Las ideas están desorganizadas, aunque se puede apreciar una idea principal.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nsufici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difícilmente comprensible. Frecuentemente el vocabulario es impreciso o inadecuado. Hay muchos errores de gramática, ortografía y redacción.  La falta de organización de las ideas oculta la idea principal.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3227767_75"/>
          <p:cNvPicPr/>
          <p:nvPr/>
        </p:nvPicPr>
        <p:blipFill>
          <a:blip r:embed="rId1"/>
          <a:stretch/>
        </p:blipFill>
        <p:spPr>
          <a:xfrm rot="2482200">
            <a:off x="766800" y="2409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ED00118_[1]"/>
          <p:cNvPicPr/>
          <p:nvPr/>
        </p:nvPicPr>
        <p:blipFill>
          <a:blip r:embed="rId2"/>
          <a:stretch/>
        </p:blipFill>
        <p:spPr>
          <a:xfrm>
            <a:off x="642960" y="4543560"/>
            <a:ext cx="1643040" cy="1546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j0094811[1]"/>
          <p:cNvPicPr/>
          <p:nvPr/>
        </p:nvPicPr>
        <p:blipFill>
          <a:blip r:embed="rId3"/>
          <a:stretch/>
        </p:blipFill>
        <p:spPr>
          <a:xfrm>
            <a:off x="6572160" y="4286160"/>
            <a:ext cx="1808280" cy="1928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j0156797[1]"/>
          <p:cNvPicPr/>
          <p:nvPr/>
        </p:nvPicPr>
        <p:blipFill>
          <a:blip r:embed="rId4"/>
          <a:stretch/>
        </p:blipFill>
        <p:spPr>
          <a:xfrm>
            <a:off x="3571920" y="4286160"/>
            <a:ext cx="1812960" cy="1357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PE05788_[1]"/>
          <p:cNvPicPr/>
          <p:nvPr/>
        </p:nvPicPr>
        <p:blipFill>
          <a:blip r:embed="rId5"/>
          <a:stretch/>
        </p:blipFill>
        <p:spPr>
          <a:xfrm>
            <a:off x="6429240" y="1928880"/>
            <a:ext cx="1303560" cy="18129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142920" y="642960"/>
            <a:ext cx="8686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Existen muchas maneras de observar o mirar un objet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Introduc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pic>
        <p:nvPicPr>
          <p:cNvPr id="599" name="Picture 9" descr="SPACE010"/>
          <p:cNvPicPr/>
          <p:nvPr/>
        </p:nvPicPr>
        <p:blipFill>
          <a:blip r:embed="rId1"/>
          <a:srcRect l="5906" t="68241" r="72451" b="0"/>
          <a:stretch/>
        </p:blipFill>
        <p:spPr>
          <a:xfrm>
            <a:off x="1763640" y="620640"/>
            <a:ext cx="4776840" cy="525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SPACE008"/>
          <p:cNvPicPr/>
          <p:nvPr/>
        </p:nvPicPr>
        <p:blipFill>
          <a:blip r:embed="rId2"/>
          <a:stretch/>
        </p:blipFill>
        <p:spPr>
          <a:xfrm>
            <a:off x="1619280" y="260280"/>
            <a:ext cx="5657760" cy="576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SPACE029"/>
          <p:cNvPicPr/>
          <p:nvPr/>
        </p:nvPicPr>
        <p:blipFill>
          <a:blip r:embed="rId3"/>
          <a:srcRect l="16211" t="0" r="0" b="0"/>
          <a:stretch/>
        </p:blipFill>
        <p:spPr>
          <a:xfrm>
            <a:off x="1258920" y="260280"/>
            <a:ext cx="6696000" cy="5994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SPACE010"/>
          <p:cNvPicPr/>
          <p:nvPr/>
        </p:nvPicPr>
        <p:blipFill>
          <a:blip r:embed="rId4"/>
          <a:stretch/>
        </p:blipFill>
        <p:spPr>
          <a:xfrm>
            <a:off x="539640" y="333360"/>
            <a:ext cx="8028000" cy="6021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SPACE030"/>
          <p:cNvPicPr/>
          <p:nvPr/>
        </p:nvPicPr>
        <p:blipFill>
          <a:blip r:embed="rId5"/>
          <a:stretch/>
        </p:blipFill>
        <p:spPr>
          <a:xfrm>
            <a:off x="539640" y="106200"/>
            <a:ext cx="8064720" cy="6491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SPACE017"/>
          <p:cNvPicPr/>
          <p:nvPr/>
        </p:nvPicPr>
        <p:blipFill>
          <a:blip r:embed="rId6"/>
          <a:stretch/>
        </p:blipFill>
        <p:spPr>
          <a:xfrm>
            <a:off x="179280" y="214200"/>
            <a:ext cx="8640720" cy="64818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1"/>
          <p:cNvSpPr/>
          <p:nvPr/>
        </p:nvSpPr>
        <p:spPr>
          <a:xfrm>
            <a:off x="250920" y="836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3141720"/>
            <a:ext cx="868680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9900"/>
                </a:solidFill>
                <a:latin typeface="Arial"/>
              </a:rPr>
              <a:t>y según cómo uno mire…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669900"/>
                </a:solidFill>
                <a:latin typeface="Arial"/>
              </a:rPr>
              <a:t>…será lo que uno vea</a:t>
            </a: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ómo mirar en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Una mirada precisa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Observar lo que uno se ha propuest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Ni muy lejos para no perder los detalle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Ni muy cerca para no perder la visión del tod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Para que nuestra mirada sea equilibrada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Los aprendizajes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Son los árboles y también son el bosqu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Es necesaria una mirada especializada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¿Objetiva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¿No arbitraria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Justa y no homogeneizant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s preestablecidos</a:t>
            </a: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Una manera de lograr una mirada equilibrada sobre el trabajo de los alumno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Observar el trabajo de los alumnos desde distintas perspectiva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Atendiendo a qué es lo important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Sin detenerse en lo accesori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¨¿Criterios?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669900"/>
              </a:solidFill>
              <a:latin typeface="Arial"/>
            </a:endParaRPr>
          </a:p>
        </p:txBody>
      </p:sp>
      <p:grpSp>
        <p:nvGrpSpPr>
          <p:cNvPr id="615" name="Group 15"/>
          <p:cNvGrpSpPr/>
          <p:nvPr/>
        </p:nvGrpSpPr>
        <p:grpSpPr>
          <a:xfrm>
            <a:off x="250920" y="1700280"/>
            <a:ext cx="8713800" cy="4911480"/>
            <a:chOff x="250920" y="1700280"/>
            <a:chExt cx="8713800" cy="4911480"/>
          </a:xfrm>
        </p:grpSpPr>
        <p:pic>
          <p:nvPicPr>
            <p:cNvPr id="616" name="Picture 4" descr="thumb_EA9112-S"/>
            <p:cNvPicPr/>
            <p:nvPr/>
          </p:nvPicPr>
          <p:blipFill>
            <a:blip r:embed="rId1"/>
            <a:stretch/>
          </p:blipFill>
          <p:spPr>
            <a:xfrm>
              <a:off x="6659640" y="5300640"/>
              <a:ext cx="23050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5" descr="CD_m_adiorable3"/>
            <p:cNvPicPr/>
            <p:nvPr/>
          </p:nvPicPr>
          <p:blipFill>
            <a:blip r:embed="rId2"/>
            <a:stretch/>
          </p:blipFill>
          <p:spPr>
            <a:xfrm>
              <a:off x="2556000" y="5734080"/>
              <a:ext cx="187164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6" descr="CD_m_night1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180000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7" descr="CD_Schlak1_WH5-3Y"/>
            <p:cNvPicPr/>
            <p:nvPr/>
          </p:nvPicPr>
          <p:blipFill>
            <a:blip r:embed="rId4"/>
            <a:stretch/>
          </p:blipFill>
          <p:spPr>
            <a:xfrm>
              <a:off x="900000" y="1700280"/>
              <a:ext cx="208944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8" descr="thumb_5065"/>
            <p:cNvPicPr/>
            <p:nvPr/>
          </p:nvPicPr>
          <p:blipFill>
            <a:blip r:embed="rId5"/>
            <a:stretch/>
          </p:blipFill>
          <p:spPr>
            <a:xfrm>
              <a:off x="6588000" y="1700280"/>
              <a:ext cx="230508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AutoShape 9"/>
          <p:cNvSpPr/>
          <p:nvPr/>
        </p:nvSpPr>
        <p:spPr>
          <a:xfrm rot="2592600">
            <a:off x="2987280" y="234936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2" name="AutoShape 11"/>
          <p:cNvSpPr/>
          <p:nvPr/>
        </p:nvSpPr>
        <p:spPr>
          <a:xfrm rot="8410200">
            <a:off x="5579280" y="270828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3" name="AutoShape 12"/>
          <p:cNvSpPr/>
          <p:nvPr/>
        </p:nvSpPr>
        <p:spPr>
          <a:xfrm rot="12735600">
            <a:off x="5795280" y="458064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 rot="18055200">
            <a:off x="3492360" y="486828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 rot="20694600">
            <a:off x="2268000" y="393336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6" name="AutoShape 16"/>
          <p:cNvSpPr/>
          <p:nvPr/>
        </p:nvSpPr>
        <p:spPr>
          <a:xfrm>
            <a:off x="3635280" y="3357720"/>
            <a:ext cx="1943280" cy="10792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38886" h="21600">
                <a:moveTo>
                  <a:pt x="0" y="0"/>
                </a:moveTo>
                <a:lnTo>
                  <a:pt x="38886" y="0"/>
                </a:lnTo>
                <a:lnTo>
                  <a:pt x="38886" y="21600"/>
                </a:lnTo>
                <a:lnTo>
                  <a:pt x="0" y="21600"/>
                </a:lnTo>
                <a:close/>
              </a:path>
              <a:path fill="lightenLess" w="38886" h="21600">
                <a:moveTo>
                  <a:pt x="0" y="0"/>
                </a:moveTo>
                <a:lnTo>
                  <a:pt x="38886" y="0"/>
                </a:lnTo>
                <a:lnTo>
                  <a:pt x="37486" y="1400"/>
                </a:lnTo>
                <a:lnTo>
                  <a:pt x="1400" y="1400"/>
                </a:lnTo>
                <a:close/>
              </a:path>
              <a:path fill="darken" w="38886" h="21600">
                <a:moveTo>
                  <a:pt x="38886" y="0"/>
                </a:moveTo>
                <a:lnTo>
                  <a:pt x="38886" y="21600"/>
                </a:lnTo>
                <a:lnTo>
                  <a:pt x="37486" y="20200"/>
                </a:lnTo>
                <a:lnTo>
                  <a:pt x="37486" y="1400"/>
                </a:lnTo>
                <a:close/>
              </a:path>
              <a:path fill="darkenLess" w="38886" h="21600">
                <a:moveTo>
                  <a:pt x="38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6" y="20200"/>
                </a:lnTo>
                <a:close/>
              </a:path>
              <a:path fill="lighten" w="38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3635280" y="342900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L TRABAJO DE LOS ALMUN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685800" y="205740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Arial"/>
              </a:rPr>
              <a:t>Para definir una lente o filtro de acercamiento al trabajo de los alumnos, se requiere identificar dimensiones de aprendizaje.</a:t>
            </a:r>
            <a:endParaRPr b="0" lang="en-US" sz="4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Dimensiones del aprendizaj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14240" y="1714680"/>
            <a:ext cx="767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Arial"/>
              </a:rPr>
              <a:t>Aquello que se considera imprescindible y que el profesor quiere observar </a:t>
            </a:r>
            <a:r>
              <a:rPr b="1" lang="es-CL" sz="4400" spc="-1" strike="noStrike">
                <a:solidFill>
                  <a:srgbClr val="002060"/>
                </a:solidFill>
                <a:latin typeface="Arial"/>
              </a:rPr>
              <a:t>en la producción del alumno con el fin de evaluar su aprendizaje</a:t>
            </a:r>
            <a:r>
              <a:rPr b="1" lang="es-CL" sz="44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285840" y="6429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¿Qué es una dimensión?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5:39:05Z</dcterms:created>
  <dc:creator>mhernand</dc:creator>
  <dc:description/>
  <dc:language>en-US</dc:language>
  <cp:lastModifiedBy>..</cp:lastModifiedBy>
  <dcterms:modified xsi:type="dcterms:W3CDTF">2010-04-22T02:00:59Z</dcterms:modified>
  <cp:revision>19</cp:revision>
  <dc:subject/>
  <dc:title>Dimensiones del Aprendiza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