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DA40-B076-4BBF-BF88-F7A2FB668D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8BDF-8F5A-44E7-A3FD-1639C10B53A1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3330-908D-4350-9665-E5BD1517F123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066C-3099-49D2-AFDB-A6C836544C6D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9390-68B7-4D26-886C-25AFF6B1971A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88B-203F-49D5-980A-0CA963DA213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A2E-9E19-48D4-BAD1-00EE73F97BA7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AAA7-721D-4E45-82EA-D42E3BB4F19A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8F3A-F0F6-4DFB-9439-E7E7A441E2F6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7C9-84FC-4F82-9F0A-FA9395437A04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07B-2273-47CF-A4F6-2DF44532FD72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DBDA-A146-4817-8E35-65F1D5FBD941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BA0-2F2E-4577-8734-EADBF684C9E6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7E7-1516-4426-AE87-732B557987AD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B7A-4193-4890-8233-3E785F2796CA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8B62-1717-4902-99FA-B4E7D57002F8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06F-6810-4769-B164-64AECEFF7234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3C8-A78F-4F10-9566-FA069C96BE8C}" type="slidenum">
              <a:rPr b="0" lang="es-E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1C5-950E-4820-B58A-50DE8EAE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FE0-F91E-414B-989B-ECAC1981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4C20D-2DBB-47A0-949C-BCCA4C63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1715D-7C05-4554-B703-801AD110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A6B0B-5B51-419A-AACD-9C208F31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31962-5AF2-4BEB-9B02-E2722A3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DF4E4-9C91-4C58-87ED-82C659C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9562F-587C-478A-B2BF-F192354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4F9AC-EAFA-4261-9029-C4B99AAB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D356B-FED8-4EEE-BCDC-896949EF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D8D2B-B77F-4A10-97B6-9B086BF0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4A82C-4FC4-46DE-8CAA-12111C68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FE7-B6CA-4E51-9EE1-77D1E876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CF835-DCF6-488A-8A88-1A7F6FD9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933FB-8C23-4CF8-80CF-AF1CB6DF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C57EA-DB70-486D-944D-B13E4D26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0908-ECE6-452A-A247-F3767CC5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680CA-6492-4F81-BF91-9ACC20DE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AAA4-3774-48B9-856B-42AA3BA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A223A-1B92-4714-8DA2-4E8EEB9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65796-3373-4551-87D5-AEBC97A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A65CC-8068-412A-AE6D-2359FD6E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6F8F0-63C8-4435-93B2-32B43C81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DA9-8204-4EC1-95C7-D846859B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5F8A9-5BB0-4B8B-8ABA-6C2E8A25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9863-64C7-447C-98E5-144D1E2A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550B2-2C87-49F8-99E9-6E4FB64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1ABD0-C733-499C-8620-C8CCD61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946FE-617F-4628-B00D-BDF7715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5C932-6CC9-4C69-B0F5-224462F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CC8AA-C070-4C89-A17E-DBDD372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DB69B-020A-4ABB-A494-38E8E24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62CC4-55A0-47AB-8FDC-4ED38A7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EF4E9-30F0-446A-9798-91B1461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0287-3837-42F7-A6F1-42B4F101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DED43-646F-4FC3-A7CE-517EB94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6E1AD-2834-4435-98B4-4247ED91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52D5A-83C8-455B-96E4-BAB4895C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D7D4C-CB8C-4134-9284-E355602F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E7D91-3949-4AD0-9361-9486F766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E2AC7-E5AE-4083-B9CD-677D214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D4063-B503-4898-B1EF-5990491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DA1CF-A9D6-4DB5-A389-855BEF05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C3A52-8D3E-4B27-94AE-D802508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A5C07-9F03-46B5-A001-37052C5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ABB7-59A0-4640-A703-ED80C06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3DF2D-16C7-47F9-8C6D-FB827E6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654C7-9A2B-45B2-9F24-F4A8B96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5A3A6-E2FA-45EF-80C1-FC1E4D2B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4930F-845C-45B8-A084-C933A0BB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E825C-2B8E-40EA-A5E4-2974D9CD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A034E-5FB3-4ED9-80E1-16CDF867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58008-53CC-4B1E-8D8B-8EC1C838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B6B43-438D-401D-8337-3A245E8F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8B8BC-0CC5-4558-8705-3869455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DBA73-ADC6-4E1F-923B-356D6B88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BCC7-11E6-4D16-AB1B-3D4F57F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BB31B-3E13-4CDD-9844-2E3299E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B298D-2F93-4427-A076-C93CA58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76EDF-15B2-4728-BDDD-C8317F5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2648D-B3CF-46CA-BACA-0BE36B4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A5706-9F20-444E-94A2-143624EE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69FF0-2FBC-48B4-8411-7E7AD58E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1D1AB-00A3-48CC-BC58-402E93E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EB088-04D6-4AFD-B8D2-3A56E345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C3E81-0373-44FD-B67A-9417DBAB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15313-C5A0-4EF4-91DA-9FC615E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F203-8480-4C2D-9B60-CAA44485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C363B-5343-450E-9624-70AC2865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42798-2446-4312-81E8-40793218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B795D-EC28-4468-A4FB-B06B9A0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186D6-3713-4AF9-8D0C-8C1109D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84B49-AA3E-439A-9850-318886A6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EE6A0-F234-4BC9-9682-6FD8A49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B1CB8-F709-43C1-A2E0-E64269B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05B1D-43A1-43AE-96EC-5E66E61D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9B17C-2249-4A22-BF08-9002B9F1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CCC4-B932-4BB9-BDAB-615C89D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6811-483C-4A96-A672-982D9B77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7F03-2175-4BEB-9235-0B7D6A2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057-BA1E-4ED7-9665-991C8EBB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44EC-4C73-4833-A112-CF0117F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B205-C1FE-4609-ABD5-F57F2B9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AC3-7630-4F3E-AE92-DF65483F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3FF6-A21A-4BB5-B56A-680365A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8CEB-8AC2-4E44-8957-FEEE175A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FDC9-005A-4C45-BB49-759E66E8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62A3-A076-49AB-9DF6-9D1433D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A038-5F4A-46A2-A163-0725A522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F873-F6EC-4C7A-BBF4-1A5C782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CFEE-E9A2-4945-8B78-A8C7E87F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E35-3679-4B7D-912C-5D25B68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A338-747A-4C21-89B8-D65F5BC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7D37-6B5E-463B-930B-A3BA4B3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889C-18B8-49A8-B984-1DD8409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AFD7-F0BB-4C83-9037-864281A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D9C3-E371-420A-9694-E1B72B42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0703-4E44-4F74-99B4-30A760AD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3CF9-0829-46E0-8E61-0A9964C8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0089-3735-4CC3-BE3E-335441A0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5D3E-E8FC-4B57-9F88-13F4898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1A04-8AEB-47B3-AC47-F742F034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F2B-D86D-4DC1-8A57-B5F98A0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1E7F-8E65-4AA9-AB41-41A2DBB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59BE-ACC5-47DD-BEDF-67A69C0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56BD6-CCBC-44EE-9F75-E70D71DA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2337-A618-453B-95DC-4FB472A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7CAF-87C9-4256-B8EC-9EFF3C2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F5AB-C44B-4F26-B3D8-0E32CC6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CED4-B09C-48F8-897A-41B64888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EF3F-A068-4F9A-841A-0FC88FA5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6EE5-AB8B-489C-9F31-D89DACEE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070A-6604-42A5-AA4F-B436904A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A40-2153-4C30-9490-1E3BB10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3DE1-D0D9-4326-BBA0-C6F22B7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281E-D5E8-405E-B62E-21C22C7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FB56-5B78-4A59-B2A5-22D472D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6F9A8-715B-43D9-AAC9-2EAB7C23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AEC3-D0B9-487B-A7EB-85BCFB7D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FB20-F2C8-43AF-AFB4-F04D5BC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302B-DFB7-4361-9954-5DE7A97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7A05-FD8E-4F9F-906A-0661A33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3D66-9F3F-426A-A128-1ED49128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EF36-177A-41E3-AD5E-CDBDB871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E7B-BEB5-4777-82FD-D7177AA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6683-7C6D-4A67-88EF-20B16CD5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4DD0E-B2CC-4938-8E36-E43EA1F7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433D-AE37-430C-8E66-D5DB07F2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1325-D54F-4187-A98E-14B061C1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B2533-7E14-4E9C-849E-3216744B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5E5E-66BD-40E1-A59A-EA6B7A11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AB22-FB05-472B-83A3-D68AB9C5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7380-1DA1-416C-99B0-094E5677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0FE98-A930-4512-82BE-DF9D6A82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5ED5-3CE2-4D66-8C91-B10F87E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FD9-529D-477E-835D-4BAAB3B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0074B-CB95-432D-9A06-62A6B36A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AD36-FD91-4BDC-825B-C2C48ACB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79A1-08F1-401A-867C-D19AB3DA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BE91-0142-4B63-8E03-975C7CEE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2013D-A265-4B13-B33C-99F46F0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4962-7C8E-41B2-BE5A-A647AD7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03D0-5F41-4273-A3E5-08456D8D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86888-6803-485E-AABD-7F89C7B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7F02-FF02-44F9-A5C1-D428C90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A5FCF-52A2-4A12-8388-6B9AD35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8CE-1411-4A76-9C64-13B1E2A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8B9C-45EF-4734-A60E-EFCE2BD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5C44-433A-4ED6-ABD1-1938130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5294-2A8C-4F6D-AA09-908F5A9F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CFC77-742C-4077-A32E-8C671E87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6086-9583-4D9A-85D9-D830E171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3B9F-5117-462F-B5BC-F7F18A19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3E398-51A2-4420-A409-BAAB9AF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3585-281C-4EEB-9C07-50514D8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26C34-718A-45EE-BC50-1F62665D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0C7EC-E968-4EF7-B3CB-7DDE078D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1E3-F00A-4791-873E-ECF96C2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03CE-36B1-4386-90AF-FE995F9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018B2-464A-4F99-9C8D-889F1FB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22EE2-B6F6-40AA-95FA-12E62D0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EB469-35B5-48F8-B60C-CA9B7AA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FD0F5-60E7-4565-A2DD-B30CBECE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C7731-DA7F-47A3-966C-C2AC71D4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46F7D-BFA0-4A56-B8B6-D8B2F76E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C826F-3C62-450F-8A65-9B3FF6FA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2BAEC-CA0D-4F8E-9610-C56E9B7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1290-AD90-44F9-806C-31ED085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4773-0DCC-42A9-A2C9-86CCC9D42B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6" name="Picture 8" descr="u_chile"/>
            <p:cNvPicPr/>
            <p:nvPr/>
          </p:nvPicPr>
          <p:blipFill>
            <a:blip r:embed="rId3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9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51E-8CF2-4515-B6B5-50FB28B145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D37-9F9D-413F-9CE0-932F4897C5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88D3-452C-4324-840B-40A8E58788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1C0B-4A03-4938-9999-AA788E445A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3B39-75BA-4988-9CCE-0FD93767DF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45" name="Picture 8" descr="u_chile"/>
            <p:cNvPicPr/>
            <p:nvPr/>
          </p:nvPicPr>
          <p:blipFill>
            <a:blip r:embed="rId3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9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47" name="Group 9"/>
          <p:cNvGrpSpPr/>
          <p:nvPr/>
        </p:nvGrpSpPr>
        <p:grpSpPr>
          <a:xfrm>
            <a:off x="3708360" y="5824440"/>
            <a:ext cx="5435640" cy="1033560"/>
            <a:chOff x="3708360" y="5824440"/>
            <a:chExt cx="5435640" cy="1033560"/>
          </a:xfrm>
        </p:grpSpPr>
        <p:pic>
          <p:nvPicPr>
            <p:cNvPr id="48" name="Picture 7" descr="u_chile"/>
            <p:cNvPicPr/>
            <p:nvPr/>
          </p:nvPicPr>
          <p:blipFill>
            <a:blip r:embed="rId4"/>
            <a:stretch/>
          </p:blipFill>
          <p:spPr>
            <a:xfrm>
              <a:off x="3708360" y="5824440"/>
              <a:ext cx="5435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8"/>
            <p:cNvSpPr/>
            <p:nvPr/>
          </p:nvSpPr>
          <p:spPr>
            <a:xfrm>
              <a:off x="4140360" y="5877000"/>
              <a:ext cx="50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69696"/>
                  </a:solidFill>
                  <a:latin typeface="Arial"/>
                </a:rPr>
                <a:t>CENTRO DE ESTUDIOS PEDAGÓGICOS</a:t>
              </a: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DD43-35E7-433E-AA1C-6AF30BAE2A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6D8-2D07-4CA9-9A55-CA3EA9000D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83A9-224F-401B-B778-2AD744B9B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3355-D50B-4361-B3E2-B2C3B186AB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80A9-5493-441A-B70D-F2B93AA883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9DE7-7ABB-4C48-BAD1-DC96B58BB7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E6D1-FA7B-4B71-AB8B-259C3A32E8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5B2-1A3D-4793-A818-6438A5E412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29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2060"/>
                </a:solidFill>
                <a:latin typeface="Arial Black"/>
              </a:rPr>
              <a:t>Evaluación para el Aprendizaje</a:t>
            </a:r>
            <a:endParaRPr b="0" lang="en-US" sz="54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9999"/>
                </a:solidFill>
                <a:latin typeface="Arial"/>
              </a:rPr>
              <a:t>El uso de criterios de evaluación preestablecidos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on los aspectos del aprendizaje centrales desde el punto de vista de un sector de aprendizaje particular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Pueden incluir conocimientos, habilidades y capacidades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2743200" y="50292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Dimensiones del aprendizaj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Arial"/>
            </a:endParaRPr>
          </a:p>
          <a:p>
            <a:pPr lvl="1" marL="793800" indent="-53820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Agrupación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categoría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, familia de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dimensiones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 de aprendizaje que son centrales o fundamentales en la formación de un alumn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93800" indent="-53820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Definidos con el propósito de e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valuar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la producción o el trabajo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de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los 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alumno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228240" y="837720"/>
            <a:ext cx="87361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Criterios de evaluación</a:t>
            </a:r>
            <a:br>
              <a:rPr sz="3600"/>
            </a:b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preestablecidos</a:t>
            </a:r>
            <a:endParaRPr b="0" lang="en-US" sz="36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Nombre descriptiv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Definición o descripción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A partir de las dimensiones que lo constituyen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7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cala o continuo descriptivo, que identifica el avance del alumn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Permite ubicar el trabajo del alumno</a:t>
            </a:r>
            <a:r>
              <a:rPr b="1" lang="es-ES_tradnl" sz="3200" spc="-1" strike="noStrike">
                <a:solidFill>
                  <a:srgbClr val="002060"/>
                </a:solidFill>
                <a:latin typeface="Arial"/>
              </a:rPr>
              <a:t> en términos de su calidad,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 según esos criterios preestablecido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447120" indent="-44712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ta ubicación puede resultar muy significativa para profesores y para los alumnos. 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Arial Black"/>
              </a:rPr>
              <a:t>Niveles de logro o “descriptores”</a:t>
            </a:r>
            <a:endParaRPr b="0" lang="en-US" sz="36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riterios de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valuación</a:t>
            </a:r>
            <a:br>
              <a:rPr sz="3200"/>
            </a:br>
            <a:r>
              <a:rPr b="1" lang="es-ES" sz="4000" spc="-1" strike="noStrike">
                <a:solidFill>
                  <a:srgbClr val="002060"/>
                </a:solidFill>
                <a:latin typeface="Arial"/>
              </a:rPr>
              <a:t>+</a:t>
            </a:r>
            <a:br>
              <a:rPr sz="4000"/>
            </a:b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escriptores o </a:t>
            </a:r>
            <a:r>
              <a:rPr b="1" lang="es-CL" sz="32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iveles de logr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Rúbrica o Tabla de Criterios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060"/>
                </a:solidFill>
                <a:latin typeface="Arial"/>
              </a:rPr>
              <a:t>Claridad de Expresión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El nivel alcanzado en este criterio se determina por la forma en que el alumno se expresa, ya sea, en un contexto oral o escrito.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 de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Arial"/>
                <a:ea typeface="Arial"/>
              </a:rPr>
              <a:t>Claridad de la Expresión</a:t>
            </a: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2060"/>
                </a:solidFill>
                <a:latin typeface="Arial"/>
                <a:ea typeface="Arial"/>
              </a:rPr>
              <a:t>El lenguaje usado por el estudiante resulta claro, preciso y variado.</a:t>
            </a:r>
            <a:endParaRPr b="0" lang="en-US" sz="3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2060"/>
                </a:solidFill>
                <a:latin typeface="Arial"/>
                <a:ea typeface="Arial"/>
              </a:rPr>
              <a:t>La elección del registro y del estilo es adecuada según la tarea.</a:t>
            </a:r>
            <a:endParaRPr b="0" lang="en-US" sz="30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Las normas -de escritura, de dicción- han sido respetadas.</a:t>
            </a:r>
            <a:endParaRPr b="0" lang="en-US" sz="31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El discurso se organiza en función de la idea central que se desea</a:t>
            </a:r>
            <a:r>
              <a:rPr b="1" lang="es-ES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3100" spc="-1" strike="noStrike">
                <a:solidFill>
                  <a:srgbClr val="002060"/>
                </a:solidFill>
                <a:latin typeface="Arial"/>
                <a:ea typeface="Arial"/>
              </a:rPr>
              <a:t>comunicar.</a:t>
            </a:r>
            <a:r>
              <a:rPr b="1" lang="es-ES" sz="3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 de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285840" y="214200"/>
          <a:ext cx="8713800" cy="6357960"/>
        </p:xfrm>
        <a:graphic>
          <a:graphicData uri="http://schemas.openxmlformats.org/drawingml/2006/table">
            <a:tbl>
              <a:tblPr/>
              <a:tblGrid>
                <a:gridCol w="2038320"/>
                <a:gridCol w="66754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cel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consistentemente claro y preciso y el vocabulario utilizado demuestra gran variedad. Las normas de escritura han sido respetadas a cabalidad en todo momento.  El registro es el apropiado a la tarea y el discurso ha sido organizado de forma que la idea central que se desea comunicar se destaca. 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s lenguaje usado es claro y preciso en general y el vocabulario utilizado es variado. Las normas de escritura han sido respetadas en la mayoría de los casos, por lo que no hay errores significativos de gramática, ortografía y redacción.  El registro es apropiado a la tarea y el discurso ha sido eficazmente organizado para apreciar la idea central que se desea comunicar. 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fici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claro.  Las normas de escritura pocas veces han sido respetadas, por lo que puede haber algunos errores significativos de gramática, ortografía y redacción.  Las ideas están desorganizadas, aunque se puede apreciar una idea principal.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suficiente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 lenguaje usado es difícilmente comprensible. Frecuentemente el vocabulario es impreciso o inadecuado. Hay muchos errores de gramática, ortografía y redacción.  La falta de organización de las ideas oculta la idea principal.</a:t>
                      </a:r>
                      <a:endParaRPr b="0" lang="en-US" sz="16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3227767_75"/>
          <p:cNvPicPr/>
          <p:nvPr/>
        </p:nvPicPr>
        <p:blipFill>
          <a:blip r:embed="rId1"/>
          <a:stretch/>
        </p:blipFill>
        <p:spPr>
          <a:xfrm rot="2482200">
            <a:off x="766800" y="2409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ED00118_[1]"/>
          <p:cNvPicPr/>
          <p:nvPr/>
        </p:nvPicPr>
        <p:blipFill>
          <a:blip r:embed="rId2"/>
          <a:stretch/>
        </p:blipFill>
        <p:spPr>
          <a:xfrm>
            <a:off x="642960" y="4543560"/>
            <a:ext cx="1643040" cy="1546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j0094811[1]"/>
          <p:cNvPicPr/>
          <p:nvPr/>
        </p:nvPicPr>
        <p:blipFill>
          <a:blip r:embed="rId3"/>
          <a:stretch/>
        </p:blipFill>
        <p:spPr>
          <a:xfrm>
            <a:off x="6572160" y="4286160"/>
            <a:ext cx="1808280" cy="1928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j0156797[1]"/>
          <p:cNvPicPr/>
          <p:nvPr/>
        </p:nvPicPr>
        <p:blipFill>
          <a:blip r:embed="rId4"/>
          <a:stretch/>
        </p:blipFill>
        <p:spPr>
          <a:xfrm>
            <a:off x="3571920" y="4286160"/>
            <a:ext cx="1812960" cy="1357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PE05788_[1]"/>
          <p:cNvPicPr/>
          <p:nvPr/>
        </p:nvPicPr>
        <p:blipFill>
          <a:blip r:embed="rId5"/>
          <a:stretch/>
        </p:blipFill>
        <p:spPr>
          <a:xfrm>
            <a:off x="6429240" y="1928880"/>
            <a:ext cx="1303560" cy="18129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42920" y="642960"/>
            <a:ext cx="8686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Existen muchas maneras de observar o mirar un objet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Introduc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pic>
        <p:nvPicPr>
          <p:cNvPr id="599" name="Picture 9" descr="SPACE010"/>
          <p:cNvPicPr/>
          <p:nvPr/>
        </p:nvPicPr>
        <p:blipFill>
          <a:blip r:embed="rId1"/>
          <a:srcRect l="5906" t="68241" r="72451" b="0"/>
          <a:stretch/>
        </p:blipFill>
        <p:spPr>
          <a:xfrm>
            <a:off x="1763640" y="620640"/>
            <a:ext cx="4776840" cy="525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SPACE008"/>
          <p:cNvPicPr/>
          <p:nvPr/>
        </p:nvPicPr>
        <p:blipFill>
          <a:blip r:embed="rId2"/>
          <a:stretch/>
        </p:blipFill>
        <p:spPr>
          <a:xfrm>
            <a:off x="1619280" y="260280"/>
            <a:ext cx="5657760" cy="576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SPACE029"/>
          <p:cNvPicPr/>
          <p:nvPr/>
        </p:nvPicPr>
        <p:blipFill>
          <a:blip r:embed="rId3"/>
          <a:srcRect l="16211" t="0" r="0" b="0"/>
          <a:stretch/>
        </p:blipFill>
        <p:spPr>
          <a:xfrm>
            <a:off x="1258920" y="260280"/>
            <a:ext cx="6696000" cy="5994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SPACE010"/>
          <p:cNvPicPr/>
          <p:nvPr/>
        </p:nvPicPr>
        <p:blipFill>
          <a:blip r:embed="rId4"/>
          <a:stretch/>
        </p:blipFill>
        <p:spPr>
          <a:xfrm>
            <a:off x="539640" y="333360"/>
            <a:ext cx="8028000" cy="6021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SPACE030"/>
          <p:cNvPicPr/>
          <p:nvPr/>
        </p:nvPicPr>
        <p:blipFill>
          <a:blip r:embed="rId5"/>
          <a:stretch/>
        </p:blipFill>
        <p:spPr>
          <a:xfrm>
            <a:off x="539640" y="106200"/>
            <a:ext cx="8064720" cy="6491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SPACE017"/>
          <p:cNvPicPr/>
          <p:nvPr/>
        </p:nvPicPr>
        <p:blipFill>
          <a:blip r:embed="rId6"/>
          <a:stretch/>
        </p:blipFill>
        <p:spPr>
          <a:xfrm>
            <a:off x="179280" y="214200"/>
            <a:ext cx="8640720" cy="64818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1"/>
          <p:cNvSpPr/>
          <p:nvPr/>
        </p:nvSpPr>
        <p:spPr>
          <a:xfrm>
            <a:off x="250920" y="836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3141720"/>
            <a:ext cx="868680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9900"/>
                </a:solidFill>
                <a:latin typeface="Arial"/>
              </a:rPr>
              <a:t>y según cómo uno mire…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669900"/>
                </a:solidFill>
                <a:latin typeface="Arial"/>
              </a:rPr>
              <a:t>…será lo que uno vea</a:t>
            </a:r>
            <a:endParaRPr b="0" lang="en-US" sz="4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ómo mirar en evaluación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Una mirada precisa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Observar lo que uno se ha propuest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Ni muy lejos para no perder los detalles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Ni muy cerca para no perder la visión del todo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Para que nuestra mirada sea equilibrada.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Los aprendizajes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Son los árboles y también son el bosqu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Es necesaria una mirada especializada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¿Objetiva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¿No arbitraria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Justa y no homogeneizant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Criterios preestablecidos</a:t>
            </a: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Una manera de lograr una mirada equilibrada sobre el trabajo de los alumno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Observar el trabajo de los alumnos desde distintas perspectiva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Atendiendo a qué es lo importante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Arial"/>
              </a:rPr>
              <a:t>Sin detenerse en lo accesori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¨¿Criterios?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669900"/>
              </a:solidFill>
              <a:latin typeface="Arial"/>
            </a:endParaRPr>
          </a:p>
        </p:txBody>
      </p:sp>
      <p:grpSp>
        <p:nvGrpSpPr>
          <p:cNvPr id="615" name="Group 15"/>
          <p:cNvGrpSpPr/>
          <p:nvPr/>
        </p:nvGrpSpPr>
        <p:grpSpPr>
          <a:xfrm>
            <a:off x="250920" y="1700280"/>
            <a:ext cx="8713800" cy="4911480"/>
            <a:chOff x="250920" y="1700280"/>
            <a:chExt cx="8713800" cy="4911480"/>
          </a:xfrm>
        </p:grpSpPr>
        <p:pic>
          <p:nvPicPr>
            <p:cNvPr id="616" name="Picture 4" descr="thumb_EA9112-S"/>
            <p:cNvPicPr/>
            <p:nvPr/>
          </p:nvPicPr>
          <p:blipFill>
            <a:blip r:embed="rId1"/>
            <a:stretch/>
          </p:blipFill>
          <p:spPr>
            <a:xfrm>
              <a:off x="6659640" y="5300640"/>
              <a:ext cx="23050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5" descr="CD_m_adiorable3"/>
            <p:cNvPicPr/>
            <p:nvPr/>
          </p:nvPicPr>
          <p:blipFill>
            <a:blip r:embed="rId2"/>
            <a:stretch/>
          </p:blipFill>
          <p:spPr>
            <a:xfrm>
              <a:off x="2556000" y="5734080"/>
              <a:ext cx="187164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" descr="CD_m_night1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180000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7" descr="CD_Schlak1_WH5-3Y"/>
            <p:cNvPicPr/>
            <p:nvPr/>
          </p:nvPicPr>
          <p:blipFill>
            <a:blip r:embed="rId4"/>
            <a:stretch/>
          </p:blipFill>
          <p:spPr>
            <a:xfrm>
              <a:off x="900000" y="1700280"/>
              <a:ext cx="208944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8" descr="thumb_5065"/>
            <p:cNvPicPr/>
            <p:nvPr/>
          </p:nvPicPr>
          <p:blipFill>
            <a:blip r:embed="rId5"/>
            <a:stretch/>
          </p:blipFill>
          <p:spPr>
            <a:xfrm>
              <a:off x="6588000" y="1700280"/>
              <a:ext cx="230508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AutoShape 9"/>
          <p:cNvSpPr/>
          <p:nvPr/>
        </p:nvSpPr>
        <p:spPr>
          <a:xfrm rot="2592600">
            <a:off x="2987280" y="234936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 rot="8410200">
            <a:off x="5579280" y="270828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3" name="AutoShape 12"/>
          <p:cNvSpPr/>
          <p:nvPr/>
        </p:nvSpPr>
        <p:spPr>
          <a:xfrm rot="12735600">
            <a:off x="5795280" y="458064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 rot="18055200">
            <a:off x="3492360" y="486828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 rot="20694600">
            <a:off x="2268000" y="3933360"/>
            <a:ext cx="1079640" cy="505080"/>
          </a:xfrm>
          <a:prstGeom prst="rightArrow">
            <a:avLst>
              <a:gd name="adj1" fmla="val 50000"/>
              <a:gd name="adj2" fmla="val 53439"/>
            </a:avLst>
          </a:prstGeom>
          <a:solidFill>
            <a:srgbClr val="bbe0e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6" name="AutoShape 16"/>
          <p:cNvSpPr/>
          <p:nvPr/>
        </p:nvSpPr>
        <p:spPr>
          <a:xfrm>
            <a:off x="3635280" y="3357720"/>
            <a:ext cx="1943280" cy="10792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886" h="21600">
                <a:moveTo>
                  <a:pt x="0" y="0"/>
                </a:moveTo>
                <a:lnTo>
                  <a:pt x="38886" y="0"/>
                </a:lnTo>
                <a:lnTo>
                  <a:pt x="38886" y="21600"/>
                </a:lnTo>
                <a:lnTo>
                  <a:pt x="0" y="21600"/>
                </a:lnTo>
                <a:close/>
              </a:path>
              <a:path fill="lightenLess" w="38886" h="21600">
                <a:moveTo>
                  <a:pt x="0" y="0"/>
                </a:moveTo>
                <a:lnTo>
                  <a:pt x="38886" y="0"/>
                </a:lnTo>
                <a:lnTo>
                  <a:pt x="37486" y="1400"/>
                </a:lnTo>
                <a:lnTo>
                  <a:pt x="1400" y="1400"/>
                </a:lnTo>
                <a:close/>
              </a:path>
              <a:path fill="darken" w="38886" h="21600">
                <a:moveTo>
                  <a:pt x="38886" y="0"/>
                </a:moveTo>
                <a:lnTo>
                  <a:pt x="38886" y="21600"/>
                </a:lnTo>
                <a:lnTo>
                  <a:pt x="37486" y="20200"/>
                </a:lnTo>
                <a:lnTo>
                  <a:pt x="37486" y="1400"/>
                </a:lnTo>
                <a:close/>
              </a:path>
              <a:path fill="darkenLess" w="38886" h="21600">
                <a:moveTo>
                  <a:pt x="38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6" y="20200"/>
                </a:lnTo>
                <a:close/>
              </a:path>
              <a:path fill="lighten" w="38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3635280" y="342900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L TRABAJO DE LOS ALMUN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685800" y="205740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Arial"/>
              </a:rPr>
              <a:t>Para definir una lente o filtro de acercamiento al trabajo de los alumnos, se requiere identificar dimensiones de aprendizaje.</a:t>
            </a:r>
            <a:endParaRPr b="0" lang="en-US" sz="4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Dimensiones del aprendizaje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14240" y="1714680"/>
            <a:ext cx="767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Arial"/>
              </a:rPr>
              <a:t>Aquello que se considera imprescindible y que el profesor quiere observar </a:t>
            </a:r>
            <a:r>
              <a:rPr b="1" lang="es-CL" sz="4400" spc="-1" strike="noStrike">
                <a:solidFill>
                  <a:srgbClr val="002060"/>
                </a:solidFill>
                <a:latin typeface="Arial"/>
              </a:rPr>
              <a:t>en la producción del alumno con el fin de evaluar su aprendizaje</a:t>
            </a:r>
            <a:r>
              <a:rPr b="1" lang="es-CL" sz="44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285840" y="6429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99"/>
                </a:solidFill>
                <a:latin typeface="Arial Black"/>
              </a:rPr>
              <a:t>¿Qué es una dimensión?</a:t>
            </a:r>
            <a:endParaRPr b="0" lang="en-US" sz="4000" spc="-1" strike="noStrike">
              <a:solidFill>
                <a:srgbClr val="009999"/>
              </a:solidFill>
              <a:latin typeface="Arial Black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5:39:05Z</dcterms:created>
  <dc:creator>mhernand</dc:creator>
  <dc:description/>
  <dc:language>en-US</dc:language>
  <cp:lastModifiedBy>..</cp:lastModifiedBy>
  <dcterms:modified xsi:type="dcterms:W3CDTF">2010-04-22T02:00:59Z</dcterms:modified>
  <cp:revision>19</cp:revision>
  <dc:subject/>
  <dc:title>Dimensiones del Aprendiza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