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6EE1-EC95-44A8-946D-5C1FE50055E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F07F-C1E9-420B-A0F0-A42773544D7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DAB-52F0-4304-9F21-36502C26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4AD-2D21-4AC3-9E2A-6E6F706E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E2A-1FFF-4558-B10A-A3B87EA5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5CF5-AACB-40C1-90E5-BA651453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316-9479-4FD3-9F27-08C7C4F9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36B-1C75-44B6-954C-A6414F08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4A8-C711-489A-B7E1-52B58CBF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F4E-0303-4C06-B6DB-094D824B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4FD-AC72-4F29-9657-88295F81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2C5-F3EC-4CC7-998C-449F3E5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220-94C0-47D0-BA00-2A27A8C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07B-E118-41BF-AF6C-844F718D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6b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643B-3296-43D0-A627-AA365A22D73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l modelo de evaluación del desempeño basado en criterios pre-establecidos</a:t>
            </a:r>
            <a:r>
              <a:rPr b="0" lang="es-CL" sz="4400" spc="-1" strike="noStrike">
                <a:solidFill>
                  <a:srgbClr val="c5d1d7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VALUACIÓN PARA EL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.- Afine y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consolide su list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dimensiones en categorías o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“criterio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guridad y comod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pariencia estét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antidad y variedad de equipamiento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4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Escriba una definición brev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cada uno de los criterios de evalu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guridad y comodidad:  El equipamiento y ambiente son seguros y cómodos para niños y sus padres.  Incluye superficies suaves debajo de los juegos y equipamiento no pone en peligro a los niños.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Desarrolle un continu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que describa diferentes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iveles de logr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para cada crite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constituye o caracteriza un desempeño sobresaliente?. Describ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constituye o caracteriza un desempeño pobre?.  Describ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scribir características intermedias por cada criterio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3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6.-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Evalúe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u 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Están relacionados los aprendizajes esperados y la rúbrica diseñada para detectarlo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tán consideradas en la rúbrica todas las dimensiones importa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Refleja una concepción contemporánea de excelencia en la disciplin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7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1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7.- Pruebe la rúbrica con trabajos reales de alumn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Cuán fácil es usar la rúbr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Hay acuerdo entre evaluadores sobre los puntajes otorgad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6" dur="1" fill="hold"/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8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vis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y afine la rúb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Pruebe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nue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Tenía el continuo demasiados puntos? ¿Demasiados poco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¿Son las descripciones por nivel de logro claras y suficientemente explícit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9.-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Comparta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la rúbrica con sus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í sabrán lo que se espera de ell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sí sabrán lo que es trabajo de ca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portunidad para corregir sus propios trabajos utilizando la rúbrica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4" dur="1" fill="hold"/>
                                  <p:tgtEl>
                                    <p:spTgt spid="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mensiones del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94f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Qué quiere observar para evaluar en lo que produce el alumn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  <p:animClr clrSpc="rgb">
                                <p:cBhvr>
                                  <p:cTn id="346" dur="1" fill="hold"/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RESUMEN DE CONCEPTO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riterios de evalu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Niveles de desemp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tores de Niveles de Logr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úb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0" dur="1" fill="hold"/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norma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 veces considerando sistema científico y obje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a los mejores alumnos puede servir de estím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arece ser simple y ráp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“ranquear” alumn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ja al evaluador en libert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5d1d7"/>
                </a:solidFill>
                <a:latin typeface="Tahoma"/>
              </a:rPr>
              <a:t>Evaluación de acuerdo a norma:  Desventajas</a:t>
            </a:r>
            <a:br>
              <a:rPr sz="4000"/>
            </a:b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umnos con la misma nota poseen distintos niveles de log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Oculta la calidad del aprendiz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lumnos incapaces de controlar su nivel de logro porque no controlan el grup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uede inducir ansiedad y bajar auto-est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romueve aprendizaje superfici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lusión de control institucional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tablecer objetivos claros para la evaluación aumenta la validez de la mis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omenta responsabilidad en el alum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riterios de evaluación pre-establecidos contribuye a la conf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Comprensión sobre lo que se requiere para lograr buenas notas, aumenta la motivación para alcanzar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Tiempo invertido en su construcción reduce el tiempo para establecer notas fidedignas y ju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ormación obtenida sirve para que los alumnos sepan cómo mejorar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formación obtenida sirve al profesor para diseñar estrategias en el futu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5d1d7"/>
                </a:solidFill>
                <a:latin typeface="Tahoma"/>
              </a:rPr>
              <a:t>Evaluación de acuerdo a criterios:  Desventaja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a formulación de criterios toma tiempo y requiere de conocimientos específ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u formulación y aplicación no es una ciencia exacta: siempre está presente el jui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gunos asocian “juicio” con “subjetivida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Etapas para construir criterios de evaluació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3" dur="1" fill="hold"/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cisión preliminar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acerca de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las dimension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de desempeño que se quiere evalu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jemplo: Plaza/Jueg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on o no entretenidos, seguridad, estéticamente agradables, basura, cómo luce el pasto….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2.-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Observar ejemplos de trabaj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para averiguar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si se ha omitido alguna dimensión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 importan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jemplo: Plaza/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a3d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se olvidó algunas dimensiones, fuentes de agua y áreas sombrías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1" dur="1" fill="hold"/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46b8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7:40:05Z</dcterms:created>
  <dc:creator>Carlos Ossa Illanes</dc:creator>
  <dc:description/>
  <dc:language>en-US</dc:language>
  <cp:lastModifiedBy>..</cp:lastModifiedBy>
  <dcterms:modified xsi:type="dcterms:W3CDTF">2010-04-15T19:50:45Z</dcterms:modified>
  <cp:revision>7</cp:revision>
  <dc:subject/>
  <dc:title>El modelo de evaluación del desempeño basado en criterios pre-establecidos </dc:title>
</cp:coreProperties>
</file>