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3FEE-7EA0-49E3-9F6E-02D0E20135D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21F6-940E-469A-B743-8FBE08F51B7B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048-88D5-459D-B689-0A64EF9A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560-FF48-4A07-A4F6-ABCC33ED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5952-CFFF-4A76-A8AD-C93E89A9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AF96-01B2-47D9-BD59-81DBE899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A2A-089E-47EE-A31C-4E8800A0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FBE2-1424-49B5-A979-45C2C125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6FD5-0B08-46A2-BD72-CEDD0F82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6CF9-D4B7-42E0-AEA2-FC789874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B92F-A012-49B3-B30D-B33D7F1E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61B7-9578-4E25-9681-A5FC111F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9F4-D87A-40EC-ABC3-EB764B0F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631-FB0E-4AC4-B1DE-AAD04566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94f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94f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3630-CB95-46C8-B8A8-0546CC2C715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5d1d7"/>
                </a:solidFill>
                <a:latin typeface="Tahoma"/>
              </a:rPr>
              <a:t>El modelo de evaluación del desempeño basado en criterios pre-establecidos</a:t>
            </a:r>
            <a:r>
              <a:rPr b="0" lang="es-CL" sz="4400" spc="-1" strike="noStrike">
                <a:solidFill>
                  <a:srgbClr val="c5d1d7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VALUACIÓN PARA EL APRENDIZA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3.- Afine y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consolide su lista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de dimensiones en categorías o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“criterio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guridad y comod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pariencia estét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antidad y variedad de equipamiento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4.-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Escriba una definición breve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de cada uno de los criterios de evalu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guridad y comodidad:  El equipamiento y ambiente son seguros y cómodos para niños y sus padres.  Incluye superficies suaves debajo de los juegos y equipamiento no pone en peligro a los niños.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9" dur="1" fill="hold"/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5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Desarrolle un continu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que describa diferentes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niveles de logr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para cada crite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Qué constituye o caracteriza un desempeño sobresaliente?. Describ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Qué constituye o caracteriza un desempeño pobre?.  Describ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scribir características intermedias por cada criterio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3" dur="1" fill="hold"/>
                                  <p:tgtEl>
                                    <p:spTgt spid="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6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Evalúe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su rúb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Están relacionados los aprendizajes esperados y la rúbrica diseñada para detectarl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tán consideradas en la rúbrica todas las dimensiones important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Refleja una concepción contemporánea de excelencia en la disciplin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7" dur="1" fill="hold"/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1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7.- Pruebe la rúbrica con trabajos reales de alumn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¿Cuán fácil es usar la rúbric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¿Hay acuerdo entre evaluadores sobre los puntajes otorgado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6" dur="1" fill="hold"/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8.-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Revise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y afine la rúbr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Pruebe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de nue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¿Tenía el continuo demasiados puntos? ¿Demasiados poco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¿Son las descripciones por nivel de logro claras y suficientemente explícita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0" dur="1" fill="hold"/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9.-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Comparta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la rúbrica con sus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estudia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sí sabrán lo que se espera de ell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sí sabrán lo que es trabajo de ca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portunidad para corregir sus propios trabajos utilizando la rúbrica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4" dur="1" fill="hold"/>
                                  <p:tgtEl>
                                    <p:spTgt spid="7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imensiones del aprendiza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94f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Qué quiere observar para evaluar en lo que produce el alumn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5" dur="1" fill="hold"/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  <p:animClr clrSpc="rgb">
                                <p:cBhvr>
                                  <p:cTn id="346" dur="1" fill="hold"/>
                                  <p:tgtEl>
                                    <p:spTgt spid="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5d1d7"/>
                </a:solidFill>
                <a:latin typeface="Tahoma"/>
              </a:rPr>
              <a:t>RESUMEN DE CONCEPTO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riterios de evalu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Niveles de desempeñ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scriptores de Niveles de Logr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úb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0" dur="1" fill="hold"/>
                                  <p:tgtEl>
                                    <p:spTgt spid="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5d1d7"/>
                </a:solidFill>
                <a:latin typeface="Tahoma"/>
              </a:rPr>
              <a:t>Evaluación de acuerdo a norma:  Ventaja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 veces considerando sistema científico y objet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ara los mejores alumnos puede servir de estímu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arece ser simple y rápi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ite “ranquear” alumn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ja al evaluador en libert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5d1d7"/>
                </a:solidFill>
                <a:latin typeface="Tahoma"/>
              </a:rPr>
              <a:t>Evaluación de acuerdo a norma:  Desventajas</a:t>
            </a:r>
            <a:br>
              <a:rPr sz="4000"/>
            </a:br>
            <a:endParaRPr b="0" lang="en-US" sz="40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lumnos con la misma nota poseen distintos niveles de log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culta la calidad del aprendiza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lumnos incapaces de controlar su nivel de logro porque no controlan el gru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uede inducir ansiedad y bajar auto-est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omueve aprendizaje superfici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lusión de control institucional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5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5d1d7"/>
                </a:solidFill>
                <a:latin typeface="Tahoma"/>
              </a:rPr>
              <a:t>Evaluación de acuerdo a criterios:  Ventaja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tablecer objetivos claros para la evaluación aumenta la validez de la mis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Fomenta responsabilidad en el alumn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riterios de evaluación pre-establecidos contribuye a la confiabi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5d1d7"/>
                </a:solidFill>
                <a:latin typeface="Tahoma"/>
              </a:rPr>
              <a:t>Evaluación de acuerdo a criterios:  Ventaja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mprensión sobre lo que se requiere para lograr buenas notas, aumenta la motivación para alcanzar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iempo invertido en su construcción reduce el tiempo para establecer notas fidedignas y ju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formación obtenida sirve para que los alumnos sepan cómo mejorar en el futu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formación obtenida sirve al profesor para diseñar estrategias en el futu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5d1d7"/>
                </a:solidFill>
                <a:latin typeface="Tahoma"/>
              </a:rPr>
              <a:t>Evaluación de acuerdo a criterios:  Desventaja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a formulación de criterios toma tiempo y requiere de conocimientos específ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 formulación y aplicación no es una ciencia exacta: siempre está presente el juic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lgunos asocian “juicio” con “subjetivida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4" dur="1" fill="hold"/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Etapas para construir criterios de evaluac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3" dur="1" fill="hold"/>
                                  <p:tgtEl>
                                    <p:spTgt spid="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1.-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cisión preliminar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acerca de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las dimension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de desempeño que se quiere evalu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jemplo: Plaza/Jueg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on o no entretenidos, seguridad, estéticamente agradables, basura, cómo luce el pasto….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2.-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Observar ejemplos de trabajo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para averiguar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si se ha omitido alguna dimensión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importa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jemplo: Plaza/Jue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 olvidó algunas dimensiones, fuentes de agua y áreas sombrías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1" dur="1" fill="hold"/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17:40:05Z</dcterms:created>
  <dc:creator>Carlos Ossa Illanes</dc:creator>
  <dc:description/>
  <dc:language>en-US</dc:language>
  <cp:lastModifiedBy>..</cp:lastModifiedBy>
  <dcterms:modified xsi:type="dcterms:W3CDTF">2010-04-15T19:50:45Z</dcterms:modified>
  <cp:revision>7</cp:revision>
  <dc:subject/>
  <dc:title>El modelo de evaluación del desempeño basado en criterios pre-establecidos </dc:title>
</cp:coreProperties>
</file>