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033-7C09-4E6A-AA0F-A03A9B1B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5AE5-DD65-4392-B89F-9BCC7DB9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EC8-EDEA-4E97-95FE-F5809611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D6C-10FA-436E-B789-3337BAF6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EB6-109F-4189-A20D-8B98DB50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5B6-6415-4B65-8505-270BA339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192-96F4-4A99-97FC-07F58AA2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80D-54C3-450D-93B9-9A3351D0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ED8-47D3-4B0F-A837-A13AB803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06F-EF75-4526-977F-2D80D668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37D-8445-4B97-A5F9-1E88D5B9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EF56-F1BD-4FFD-A226-F1720459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C924-DB88-4752-886D-CF6EA419F17F}" type="slidenum">
              <a:rPr b="0" lang="es-E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Propósitos de la evaluación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en Chile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9"/>
          <p:cNvGrpSpPr/>
          <p:nvPr/>
        </p:nvGrpSpPr>
        <p:grpSpPr>
          <a:xfrm>
            <a:off x="755640" y="476280"/>
            <a:ext cx="7695360" cy="6019920"/>
            <a:chOff x="755640" y="476280"/>
            <a:chExt cx="7695360" cy="6019920"/>
          </a:xfrm>
        </p:grpSpPr>
        <p:grpSp>
          <p:nvGrpSpPr>
            <p:cNvPr id="43" name="Group 47"/>
            <p:cNvGrpSpPr/>
            <p:nvPr/>
          </p:nvGrpSpPr>
          <p:grpSpPr>
            <a:xfrm>
              <a:off x="766440" y="478800"/>
              <a:ext cx="7671960" cy="6014160"/>
              <a:chOff x="766440" y="478800"/>
              <a:chExt cx="7671960" cy="6014160"/>
            </a:xfrm>
          </p:grpSpPr>
          <p:grpSp>
            <p:nvGrpSpPr>
              <p:cNvPr id="44" name="Group 18"/>
              <p:cNvGrpSpPr/>
              <p:nvPr/>
            </p:nvGrpSpPr>
            <p:grpSpPr>
              <a:xfrm>
                <a:off x="766440" y="478800"/>
                <a:ext cx="7671960" cy="359640"/>
                <a:chOff x="766440" y="478800"/>
                <a:chExt cx="7671960" cy="359640"/>
              </a:xfrm>
            </p:grpSpPr>
            <p:sp>
              <p:nvSpPr>
                <p:cNvPr id="45" name="Rectangle 2"/>
                <p:cNvSpPr/>
                <p:nvPr/>
              </p:nvSpPr>
              <p:spPr>
                <a:xfrm>
                  <a:off x="869760" y="47880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Propósito</a:t>
                  </a:r>
                  <a:r>
                    <a:rPr b="1" lang="es-MX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s</a:t>
                  </a:r>
                  <a:r>
                    <a:rPr b="1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 de la evaluación.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6" name="Rectangle 17"/>
                <p:cNvSpPr/>
                <p:nvPr/>
              </p:nvSpPr>
              <p:spPr>
                <a:xfrm>
                  <a:off x="766440" y="47880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" name="Group 20"/>
              <p:cNvGrpSpPr/>
              <p:nvPr/>
            </p:nvGrpSpPr>
            <p:grpSpPr>
              <a:xfrm>
                <a:off x="766440" y="838440"/>
                <a:ext cx="7671960" cy="359640"/>
                <a:chOff x="766440" y="838440"/>
                <a:chExt cx="7671960" cy="359640"/>
              </a:xfrm>
            </p:grpSpPr>
            <p:sp>
              <p:nvSpPr>
                <p:cNvPr id="48" name="Rectangle 3"/>
                <p:cNvSpPr/>
                <p:nvPr/>
              </p:nvSpPr>
              <p:spPr>
                <a:xfrm>
                  <a:off x="869760" y="83844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1.- Mantener el control de la sala de clase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9" name="Rectangle 19"/>
                <p:cNvSpPr/>
                <p:nvPr/>
              </p:nvSpPr>
              <p:spPr>
                <a:xfrm>
                  <a:off x="766440" y="83844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" name="Group 22"/>
              <p:cNvGrpSpPr/>
              <p:nvPr/>
            </p:nvGrpSpPr>
            <p:grpSpPr>
              <a:xfrm>
                <a:off x="766440" y="1198440"/>
                <a:ext cx="7671960" cy="359640"/>
                <a:chOff x="766440" y="1198440"/>
                <a:chExt cx="7671960" cy="359640"/>
              </a:xfrm>
            </p:grpSpPr>
            <p:sp>
              <p:nvSpPr>
                <p:cNvPr id="51" name="Rectangle 4"/>
                <p:cNvSpPr/>
                <p:nvPr/>
              </p:nvSpPr>
              <p:spPr>
                <a:xfrm>
                  <a:off x="869760" y="119844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2.- Calificar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2" name="Rectangle 21"/>
                <p:cNvSpPr/>
                <p:nvPr/>
              </p:nvSpPr>
              <p:spPr>
                <a:xfrm>
                  <a:off x="766440" y="119844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3" name="Group 24"/>
              <p:cNvGrpSpPr/>
              <p:nvPr/>
            </p:nvGrpSpPr>
            <p:grpSpPr>
              <a:xfrm>
                <a:off x="766440" y="1558440"/>
                <a:ext cx="7671960" cy="462600"/>
                <a:chOff x="766440" y="1558440"/>
                <a:chExt cx="7671960" cy="462600"/>
              </a:xfrm>
            </p:grpSpPr>
            <p:sp>
              <p:nvSpPr>
                <p:cNvPr id="54" name="Rectangle 5"/>
                <p:cNvSpPr/>
                <p:nvPr/>
              </p:nvSpPr>
              <p:spPr>
                <a:xfrm>
                  <a:off x="869760" y="1558440"/>
                  <a:ext cx="7464240" cy="46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3.- Diagnóstico de dificultades de aprendizaje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5" name="Rectangle 23"/>
                <p:cNvSpPr/>
                <p:nvPr/>
              </p:nvSpPr>
              <p:spPr>
                <a:xfrm>
                  <a:off x="766440" y="1558440"/>
                  <a:ext cx="7671960" cy="46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6" name="Group 26"/>
              <p:cNvGrpSpPr/>
              <p:nvPr/>
            </p:nvGrpSpPr>
            <p:grpSpPr>
              <a:xfrm>
                <a:off x="766440" y="2021040"/>
                <a:ext cx="7671960" cy="359640"/>
                <a:chOff x="766440" y="2021040"/>
                <a:chExt cx="7671960" cy="359640"/>
              </a:xfrm>
            </p:grpSpPr>
            <p:sp>
              <p:nvSpPr>
                <p:cNvPr id="57" name="Rectangle 6"/>
                <p:cNvSpPr/>
                <p:nvPr/>
              </p:nvSpPr>
              <p:spPr>
                <a:xfrm>
                  <a:off x="869760" y="202104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4.- Medir el aprendizaje de los alumno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58" name="Rectangle 25"/>
                <p:cNvSpPr/>
                <p:nvPr/>
              </p:nvSpPr>
              <p:spPr>
                <a:xfrm>
                  <a:off x="766440" y="202104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9" name="Group 28"/>
              <p:cNvGrpSpPr/>
              <p:nvPr/>
            </p:nvGrpSpPr>
            <p:grpSpPr>
              <a:xfrm>
                <a:off x="766440" y="2381040"/>
                <a:ext cx="7671960" cy="462240"/>
                <a:chOff x="766440" y="2381040"/>
                <a:chExt cx="7671960" cy="462240"/>
              </a:xfrm>
            </p:grpSpPr>
            <p:sp>
              <p:nvSpPr>
                <p:cNvPr id="60" name="Rectangle 7"/>
                <p:cNvSpPr/>
                <p:nvPr/>
              </p:nvSpPr>
              <p:spPr>
                <a:xfrm>
                  <a:off x="869760" y="2381040"/>
                  <a:ext cx="7464240" cy="4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5.-Establecimiento de niveles de aprendizaje dentro de la sala de clase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1" name="Rectangle 27"/>
                <p:cNvSpPr/>
                <p:nvPr/>
              </p:nvSpPr>
              <p:spPr>
                <a:xfrm>
                  <a:off x="766440" y="2381040"/>
                  <a:ext cx="7671960" cy="46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2" name="Group 30"/>
              <p:cNvGrpSpPr/>
              <p:nvPr/>
            </p:nvGrpSpPr>
            <p:grpSpPr>
              <a:xfrm>
                <a:off x="766440" y="2843640"/>
                <a:ext cx="7671960" cy="359640"/>
                <a:chOff x="766440" y="2843640"/>
                <a:chExt cx="7671960" cy="359640"/>
              </a:xfrm>
            </p:grpSpPr>
            <p:sp>
              <p:nvSpPr>
                <p:cNvPr id="63" name="Rectangle 8"/>
                <p:cNvSpPr/>
                <p:nvPr/>
              </p:nvSpPr>
              <p:spPr>
                <a:xfrm>
                  <a:off x="869760" y="284364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6.- Certificación de los alumno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4" name="Rectangle 29"/>
                <p:cNvSpPr/>
                <p:nvPr/>
              </p:nvSpPr>
              <p:spPr>
                <a:xfrm>
                  <a:off x="766440" y="284364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5" name="Group 32"/>
              <p:cNvGrpSpPr/>
              <p:nvPr/>
            </p:nvGrpSpPr>
            <p:grpSpPr>
              <a:xfrm>
                <a:off x="766440" y="3203280"/>
                <a:ext cx="7671960" cy="462240"/>
                <a:chOff x="766440" y="3203280"/>
                <a:chExt cx="7671960" cy="462240"/>
              </a:xfrm>
            </p:grpSpPr>
            <p:sp>
              <p:nvSpPr>
                <p:cNvPr id="66" name="Rectangle 9"/>
                <p:cNvSpPr/>
                <p:nvPr/>
              </p:nvSpPr>
              <p:spPr>
                <a:xfrm>
                  <a:off x="869760" y="3203280"/>
                  <a:ext cx="7464240" cy="4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7.- Evaluación de la actividad de los profesore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67" name="Rectangle 31"/>
                <p:cNvSpPr/>
                <p:nvPr/>
              </p:nvSpPr>
              <p:spPr>
                <a:xfrm>
                  <a:off x="766440" y="3203280"/>
                  <a:ext cx="7671960" cy="46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8" name="Group 34"/>
              <p:cNvGrpSpPr/>
              <p:nvPr/>
            </p:nvGrpSpPr>
            <p:grpSpPr>
              <a:xfrm>
                <a:off x="766440" y="3665880"/>
                <a:ext cx="7671960" cy="462600"/>
                <a:chOff x="766440" y="3665880"/>
                <a:chExt cx="7671960" cy="462600"/>
              </a:xfrm>
            </p:grpSpPr>
            <p:sp>
              <p:nvSpPr>
                <p:cNvPr id="69" name="Rectangle 10"/>
                <p:cNvSpPr/>
                <p:nvPr/>
              </p:nvSpPr>
              <p:spPr>
                <a:xfrm>
                  <a:off x="869760" y="3665880"/>
                  <a:ext cx="7464240" cy="46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8.- Retroalimentar a los alumnos respeto de su actividad académica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0" name="Rectangle 33"/>
                <p:cNvSpPr/>
                <p:nvPr/>
              </p:nvSpPr>
              <p:spPr>
                <a:xfrm>
                  <a:off x="766440" y="3665880"/>
                  <a:ext cx="7671960" cy="46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1" name="Group 36"/>
              <p:cNvGrpSpPr/>
              <p:nvPr/>
            </p:nvGrpSpPr>
            <p:grpSpPr>
              <a:xfrm>
                <a:off x="766440" y="4128480"/>
                <a:ext cx="7671960" cy="462240"/>
                <a:chOff x="766440" y="4128480"/>
                <a:chExt cx="7671960" cy="462240"/>
              </a:xfrm>
            </p:grpSpPr>
            <p:sp>
              <p:nvSpPr>
                <p:cNvPr id="72" name="Rectangle 11"/>
                <p:cNvSpPr/>
                <p:nvPr/>
              </p:nvSpPr>
              <p:spPr>
                <a:xfrm>
                  <a:off x="869760" y="4128480"/>
                  <a:ext cx="7464240" cy="4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9.- Monitoreo de los aprendizajes de los alumno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3" name="Rectangle 35"/>
                <p:cNvSpPr/>
                <p:nvPr/>
              </p:nvSpPr>
              <p:spPr>
                <a:xfrm>
                  <a:off x="766440" y="4128480"/>
                  <a:ext cx="7671960" cy="46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4" name="Group 38"/>
              <p:cNvGrpSpPr/>
              <p:nvPr/>
            </p:nvGrpSpPr>
            <p:grpSpPr>
              <a:xfrm>
                <a:off x="766440" y="4591080"/>
                <a:ext cx="7671960" cy="359640"/>
                <a:chOff x="766440" y="4591080"/>
                <a:chExt cx="7671960" cy="359640"/>
              </a:xfrm>
            </p:grpSpPr>
            <p:sp>
              <p:nvSpPr>
                <p:cNvPr id="75" name="Rectangle 12"/>
                <p:cNvSpPr/>
                <p:nvPr/>
              </p:nvSpPr>
              <p:spPr>
                <a:xfrm>
                  <a:off x="869760" y="459108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10.- Mejorar las planificaciones de las clase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6" name="Rectangle 37"/>
                <p:cNvSpPr/>
                <p:nvPr/>
              </p:nvSpPr>
              <p:spPr>
                <a:xfrm>
                  <a:off x="766440" y="459108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7" name="Group 40"/>
              <p:cNvGrpSpPr/>
              <p:nvPr/>
            </p:nvGrpSpPr>
            <p:grpSpPr>
              <a:xfrm>
                <a:off x="766440" y="4951080"/>
                <a:ext cx="7671960" cy="462240"/>
                <a:chOff x="766440" y="4951080"/>
                <a:chExt cx="7671960" cy="462240"/>
              </a:xfrm>
            </p:grpSpPr>
            <p:sp>
              <p:nvSpPr>
                <p:cNvPr id="78" name="Rectangle 13"/>
                <p:cNvSpPr/>
                <p:nvPr/>
              </p:nvSpPr>
              <p:spPr>
                <a:xfrm>
                  <a:off x="869760" y="4951080"/>
                  <a:ext cx="7464240" cy="4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11.- Informar a los padres las calificaciones de los hijo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79" name="Rectangle 39"/>
                <p:cNvSpPr/>
                <p:nvPr/>
              </p:nvSpPr>
              <p:spPr>
                <a:xfrm>
                  <a:off x="766440" y="4951080"/>
                  <a:ext cx="7671960" cy="46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0" name="Group 42"/>
              <p:cNvGrpSpPr/>
              <p:nvPr/>
            </p:nvGrpSpPr>
            <p:grpSpPr>
              <a:xfrm>
                <a:off x="766440" y="5413680"/>
                <a:ext cx="7671960" cy="359640"/>
                <a:chOff x="766440" y="5413680"/>
                <a:chExt cx="7671960" cy="359640"/>
              </a:xfrm>
            </p:grpSpPr>
            <p:sp>
              <p:nvSpPr>
                <p:cNvPr id="81" name="Rectangle 14"/>
                <p:cNvSpPr/>
                <p:nvPr/>
              </p:nvSpPr>
              <p:spPr>
                <a:xfrm>
                  <a:off x="869760" y="541368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12.- Diagnóstico de conocimientos previo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2" name="Rectangle 41"/>
                <p:cNvSpPr/>
                <p:nvPr/>
              </p:nvSpPr>
              <p:spPr>
                <a:xfrm>
                  <a:off x="766440" y="541368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3" name="Group 44"/>
              <p:cNvGrpSpPr/>
              <p:nvPr/>
            </p:nvGrpSpPr>
            <p:grpSpPr>
              <a:xfrm>
                <a:off x="766440" y="5773680"/>
                <a:ext cx="7671960" cy="359640"/>
                <a:chOff x="766440" y="5773680"/>
                <a:chExt cx="7671960" cy="359640"/>
              </a:xfrm>
            </p:grpSpPr>
            <p:sp>
              <p:nvSpPr>
                <p:cNvPr id="84" name="Rectangle 15"/>
                <p:cNvSpPr/>
                <p:nvPr/>
              </p:nvSpPr>
              <p:spPr>
                <a:xfrm>
                  <a:off x="869760" y="577368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13.- Selección de alumnos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5" name="Rectangle 43"/>
                <p:cNvSpPr/>
                <p:nvPr/>
              </p:nvSpPr>
              <p:spPr>
                <a:xfrm>
                  <a:off x="766440" y="577368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6" name="Group 46"/>
              <p:cNvGrpSpPr/>
              <p:nvPr/>
            </p:nvGrpSpPr>
            <p:grpSpPr>
              <a:xfrm>
                <a:off x="766440" y="6133320"/>
                <a:ext cx="7671960" cy="359640"/>
                <a:chOff x="766440" y="6133320"/>
                <a:chExt cx="7671960" cy="359640"/>
              </a:xfrm>
            </p:grpSpPr>
            <p:sp>
              <p:nvSpPr>
                <p:cNvPr id="87" name="Rectangle 16"/>
                <p:cNvSpPr/>
                <p:nvPr/>
              </p:nvSpPr>
              <p:spPr>
                <a:xfrm>
                  <a:off x="869760" y="6133320"/>
                  <a:ext cx="7464240" cy="35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ff"/>
                      </a:solidFill>
                      <a:latin typeface="Tahoma"/>
                      <a:ea typeface="Times New Roman"/>
                    </a:rPr>
                    <a:t>14.- Apoyar el aprendizaje</a:t>
                  </a: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88" name="Rectangle 45"/>
                <p:cNvSpPr/>
                <p:nvPr/>
              </p:nvSpPr>
              <p:spPr>
                <a:xfrm>
                  <a:off x="766440" y="6133320"/>
                  <a:ext cx="7671960" cy="359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89" name="Rectangle 48"/>
            <p:cNvSpPr/>
            <p:nvPr/>
          </p:nvSpPr>
          <p:spPr>
            <a:xfrm>
              <a:off x="755640" y="476280"/>
              <a:ext cx="7695360" cy="6019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21:18:19Z</dcterms:created>
  <dc:creator>Olidata Chile S.A.</dc:creator>
  <dc:description/>
  <dc:language>en-US</dc:language>
  <cp:lastModifiedBy>..</cp:lastModifiedBy>
  <dcterms:modified xsi:type="dcterms:W3CDTF">2010-04-08T04:48:33Z</dcterms:modified>
  <cp:revision>7</cp:revision>
  <dc:subject/>
  <dc:title>Presentación de PowerPoint</dc:title>
</cp:coreProperties>
</file>