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whoosh.wav" ContentType="audio/x-wav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6563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6564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43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7"/>
          </p:nvPr>
        </p:nvSpPr>
        <p:spPr>
          <a:xfrm>
            <a:off x="3772080" y="-360"/>
            <a:ext cx="28843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028880" y="689040"/>
            <a:ext cx="4598640" cy="344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8"/>
          </p:nvPr>
        </p:nvSpPr>
        <p:spPr>
          <a:xfrm>
            <a:off x="0" y="8735760"/>
            <a:ext cx="28843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9"/>
          </p:nvPr>
        </p:nvSpPr>
        <p:spPr>
          <a:xfrm>
            <a:off x="3772080" y="8735760"/>
            <a:ext cx="28843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C3FA-3CE1-489B-B07C-3F7826C26AD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772080" y="8736120"/>
            <a:ext cx="2884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13D6-A7F8-438E-93E8-F0D7F7CAF19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028880" y="689040"/>
            <a:ext cx="4598640" cy="344952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772080" y="8736120"/>
            <a:ext cx="2884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E2C3-8F00-483F-9C76-7AB87CFD5E3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028880" y="689040"/>
            <a:ext cx="4598640" cy="344952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772080" y="8736120"/>
            <a:ext cx="2884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C579-7764-4968-B54B-F58B249C215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028880" y="689040"/>
            <a:ext cx="4598640" cy="344952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772080" y="8736120"/>
            <a:ext cx="2884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E49D-6819-401F-9F0A-DA9687E7214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028880" y="689040"/>
            <a:ext cx="4598640" cy="344952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FDF6-33A3-443E-A7BD-A8BD38F3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4FBD-CDF6-4B79-851C-7A2FF94A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22179-0F84-4FA9-A410-D5BEC28E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65697-747A-4FA7-9501-0A0BE60C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F79D3-3EC2-48A0-B575-D8C5CBAF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CFE61-0CF0-479A-AD5D-5F7F16C1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859D9-5624-491C-96A8-5E3B6443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DD05F-F21D-40C3-9BA0-B644DF09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85902-4B3E-4943-B615-75654A1A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0CC8E-72C8-4CF6-9E7E-9583681A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5EE29-84D2-4B45-9D9F-9DA28F2D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1CCFA-2273-4D7E-AFCC-F11573DE9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D806-1280-4FAB-8BAB-7FB0A644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DEEB6-C211-43EE-BE14-619E82A6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229FD-A2B7-40F1-AA75-A0D60B0A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DB62C-B5DF-4DA9-BDD5-A0654B48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B1498-C57B-4CE7-9DDB-9D9FCC08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84EAB-8E45-4EB5-B974-B9C4514A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BD169-E091-4CDB-BB33-0C575794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47505-EEAD-4D2E-B301-54F6789A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D4E19-6904-4FCA-88A8-940356FE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87753A-B5AE-468E-B2A0-613D4BDC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D942F-2CE1-413B-8D5B-72D5BF4B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A968-0EF2-4C7F-9418-41815EA03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80703-E091-4AB8-BC6E-F8ABE8542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31CAA-D0F0-4631-97BF-238BCC28F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AC38B-782F-4424-A594-247611E2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92506-26DF-4C3B-89AB-01112E3C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ED0A0-2137-414F-9076-D927A392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2522B-15CC-4E9C-8D19-A29A19BB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F0E6C-1ABA-4AD9-8A1E-1668787B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FB1E8-BFFC-4C48-B960-DBFF4E7C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07A68-C988-43C0-AF7E-C745CE7D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0E913-788B-49B4-A5CC-D60A2AD6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29BE-3754-4457-8D1B-A2C8353D8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0BF54-24B3-42DE-97F3-D5E13100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E1C29-4E82-4997-82CE-0337B3FB7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CD970-A25B-445B-A1C4-FB6EFB55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E146EB-3130-406C-BA09-8D7F3F46D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EE3CE-6032-4873-A73C-E3BC3ADB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EC87AB-879C-44BC-BB87-1EEC6064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26CA8-0760-4AC1-8169-5EB64C4F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5A6C52-805F-4384-A9DB-A2512ADF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D4F07-7CA2-4BA4-9836-5520AE76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C1619-74B1-416C-A40E-209990F8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CB5A-E10D-4421-B2EF-35D413B3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E3B842-BBC1-42F1-841A-BD1B0231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CC0460-31DD-4D37-8867-ADAAF699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9ECD6-3514-47DB-87A4-E6061398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DEC3E7-0DBE-40BE-94F7-3505D1CD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F1B9C5-85EC-4290-806E-61C28342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2DA1-AC84-46BD-87EC-D343278D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8D22-753B-4670-B254-802763B9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F34C-F004-4AD2-B716-EA9EDBD5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40B4-353B-45A8-9B74-EC0ADE33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B335-EEAF-4955-9916-877EF88A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E884-426B-47F6-A2BB-74BFF058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654F-0CC1-4EE6-B7A6-00E29925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1708-8F78-4511-8E50-A94EC5AD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405D-7503-400D-A68A-8DD45E35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B7B1-E482-4840-AFAD-6515AF09F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C8E9-7462-4434-A06D-137918263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0931B-86FE-44C7-A683-C81A3D04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CEF81-30EA-4693-9946-9631BB8F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2779E-D2DC-4FD0-AA1C-83EDD41C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CCA50-8B38-4632-8735-2302EA0D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F1AA8-A4B1-42B6-9A9A-185CD1CD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CA21-A415-4328-92F2-402A85A2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A2A2B-3E44-4422-9205-237EEB45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48270-C986-4DC2-8C46-0FDD1AE1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B68E8-56D9-4A18-BCD4-FC38813C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AFFBF-023B-4530-BC1A-45A74660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DB861-B847-4446-8A08-C4F7894A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AB673-BDF5-40BD-90E9-A7A3BBE59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81263-4E59-40BD-BD54-FDD84820A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8C604-9462-477F-BD49-3943FD810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DB5D6-A67C-4DD0-A784-87154D15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4B1C9-DACA-4E49-A4A4-812C1698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D2CB-D34A-4D20-AE68-E747ED29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D7380-77AF-427F-A86A-966A831A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0F556-FA01-457C-8104-088106D1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AF978-292D-42E4-AB2D-566F81A6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89D59-6BFA-4DFD-9E8B-F33246F4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ED192-0C3B-4B46-B223-A326E59B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E7E61-14F8-4A9F-B52F-44610B99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97F08-700D-4B4D-A36D-29D195C5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E4C8E-8D55-498A-920D-54F7C9833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864BF-C990-4DB4-A8D8-FC0DBE11B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BF7C9-E5D3-4A7B-B54E-11EED554E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696E-7E83-47AB-A64F-F71BDB2A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93561-3901-47A1-8BF0-70BACBFB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E947C-05F3-4D2D-BDA4-3A736237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53C58-8E76-4E99-BBCF-277DCAF5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00131-511D-416B-AB06-5D177BD0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D2AFA-66E5-40E0-88E4-AE835124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E7D44-0F72-4C1F-AD93-5A60CF88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B04F9-2B07-4B4C-83FE-486E583F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5E56F-6938-49AD-A5C9-D14C77BA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1EC0D-2A50-4D40-8450-1B956766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208F0-8D04-4B63-8266-FC0A6146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B711-7B85-4848-8065-CEBE226F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C9AC8-7BE4-49C9-A09E-29CB6EF6B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D607C-FF69-467C-AB28-22702E8D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D7BAD-9A1E-460A-B0F2-C6F0D89B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D69C2-70A6-47C8-97C5-F1E505D1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ED757-29BD-4F0F-857D-74D2A81D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0EBA9-4EE3-4371-839C-DB2CDEFC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47781-EE5D-4341-8883-254F1AD8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C10EA-0811-4902-BA5B-EC43C65C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47EEF-D0E4-4E8C-AD78-6022ED56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AADAA-8FDE-4516-8FD3-B867968F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D647-752A-40A8-809C-BA1596AF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9E112-5036-4FF7-82A7-A816ACB9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8368E-A191-4ADA-B4E3-41398DA2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80083-7C28-4803-8E9D-AF87988F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C0109-0297-4079-8A1F-31F2F2E7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864D2-3BE8-4D4A-BEC5-CA1C1ECD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37D9E-CBAE-4BB3-8A05-4954BBE9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83F28-6D0E-47B9-B1DA-D6BB2D59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CC93E-7332-4624-9BC7-04500763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1E9AA-EA6A-432D-A1BD-D562918B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12701-8655-483D-862A-7C0777DC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2923-AAEB-423F-B6A1-D82A5951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E6C8F-58F1-4E3D-83C4-40A58FA2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498E5-56E1-43E7-9E59-B9F29C10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4D8A8-0A3F-4EAF-ACB2-AAE297BB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98583-9341-46A6-A4EE-DBBAA1F8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A4128-F05F-47A9-A895-AE7051D7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D55CA-3C57-4A44-9C2A-1EC13F1FD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FEB94-04EA-48FD-B344-E1D4C146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5109B-0FC7-4F8B-82DB-9A65C612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CD0D8-AF13-4567-9447-E17217DE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9BAD1-8EA0-4BE5-B493-415B209B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EB43-2A04-4571-A12A-390AE02C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11D6A-F6C4-4927-BF6E-187DA27F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7D405-0ABD-46A1-B5B4-B71F30C9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AB7CC-3454-4166-9C39-7AC2F82B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68C5A-840D-4EF3-9A0C-10EDAA2C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75FD9-12AD-49CD-BFE5-BE74FF0F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CA2A9-87A3-46B6-AF43-9F46D63F0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2AA12-7E28-4E45-8EA0-5EEDC2AB3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56F42-0994-494A-9788-544D3CD89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F30E7-0570-4C4C-B212-60C88FE2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F3502-F6E2-4DF0-8B71-07DF8594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652320" y="81000"/>
            <a:ext cx="7848720" cy="952560"/>
            <a:chOff x="652320" y="81000"/>
            <a:chExt cx="7848720" cy="952560"/>
          </a:xfrm>
        </p:grpSpPr>
        <p:pic>
          <p:nvPicPr>
            <p:cNvPr id="1" name="Picture 9" descr="161"/>
            <p:cNvPicPr/>
            <p:nvPr/>
          </p:nvPicPr>
          <p:blipFill>
            <a:blip r:embed="rId2"/>
            <a:stretch/>
          </p:blipFill>
          <p:spPr>
            <a:xfrm>
              <a:off x="5605200" y="81000"/>
              <a:ext cx="289584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8" descr="uchile"/>
            <p:cNvPicPr/>
            <p:nvPr/>
          </p:nvPicPr>
          <p:blipFill>
            <a:blip r:embed="rId3"/>
            <a:srcRect l="26272" t="0" r="0" b="34073"/>
            <a:stretch/>
          </p:blipFill>
          <p:spPr>
            <a:xfrm>
              <a:off x="652320" y="81000"/>
              <a:ext cx="4971960" cy="94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4914-16F1-46C3-8E85-26048668C06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93AC-3569-44C3-AAE5-C1BF622113A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29A7-8E24-4BD8-9C27-55F0F0E1BC1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B680-11B6-4FCE-B05B-AA8AA47A6C0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B23B-7172-4252-871F-81C1435348A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2958-4A70-474C-8B28-6AB6E33833F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678B-87F0-4940-9A6A-D38D1F161BF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23EA-6C50-4C79-899A-EAEFEF4E26B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3CA1-96EE-46C4-88BE-92BABA7BDD1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54EE-3244-4C88-966C-31B0A72E14D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B467-C8D7-43BD-9B2D-83FFCDE76AA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9E06-4F41-40C3-85F8-35A34038883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cc"/>
                </a:solidFill>
                <a:latin typeface="Calibri"/>
              </a:rPr>
              <a:t>Evaluación para el aprendizaje</a:t>
            </a: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990033"/>
                </a:solidFill>
                <a:latin typeface="Calibri"/>
              </a:rPr>
              <a:t>Una experiencia en aula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" dur="1" fill="hold"/>
                                  <p:tgtEl>
                                    <p:spTgt spid="5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cc"/>
                </a:solidFill>
                <a:latin typeface="Verdana"/>
              </a:rPr>
              <a:t>CONCLUSIONES</a:t>
            </a:r>
            <a:br>
              <a:rPr sz="2800"/>
            </a:br>
            <a:r>
              <a:rPr b="0" lang="es-CL" sz="2800" spc="-1" strike="noStrike">
                <a:solidFill>
                  <a:srgbClr val="0000cc"/>
                </a:solidFill>
                <a:latin typeface="Verdana"/>
              </a:rPr>
              <a:t>Cambiar prácticas evaluativas requiere</a:t>
            </a:r>
            <a:endParaRPr b="0" lang="en-US" sz="28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4920" y="157140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Times New Roman"/>
              </a:rPr>
              <a:t>1 </a:t>
            </a:r>
            <a:r>
              <a:rPr b="0" lang="es-CL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990033"/>
                </a:solidFill>
                <a:latin typeface="Times New Roman"/>
              </a:rPr>
              <a:t>Saber qué y por qué evaluar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Times New Roman"/>
              </a:rPr>
              <a:t>Saber cómo evaluar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Times New Roman"/>
              </a:rPr>
              <a:t>Predomina el hacer</a:t>
            </a:r>
            <a:r>
              <a:rPr b="0" lang="es-CL" sz="2800" spc="-1" strike="noStrike">
                <a:solidFill>
                  <a:srgbClr val="0000cc"/>
                </a:solidFill>
                <a:latin typeface="Times New Roman"/>
              </a:rPr>
              <a:t> y necesariamente involucra sus alumno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Times New Roman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Times New Roman"/>
              </a:rPr>
              <a:t>Ensayo y error.....</a:t>
            </a:r>
            <a:r>
              <a:rPr b="0" lang="es-CL" sz="2800" spc="-1" strike="noStrike">
                <a:solidFill>
                  <a:srgbClr val="0000cc"/>
                </a:solidFill>
                <a:latin typeface="Times New Roman"/>
              </a:rPr>
              <a:t>tener con quién(es) reflexionar críticamente acerca de la práctica, recomenzar, tomar decisiones (colegas, UTP)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Times New Roman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Times New Roman"/>
              </a:rPr>
              <a:t>Apoyo institucional</a:t>
            </a:r>
            <a:r>
              <a:rPr b="0" lang="es-CL" sz="2800" spc="-1" strike="noStrike">
                <a:solidFill>
                  <a:srgbClr val="0000cc"/>
                </a:solidFill>
                <a:latin typeface="Times New Roman"/>
              </a:rPr>
              <a:t> tiempo, espacio, apertura (UTP, Sostenedor)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mimi"/>
          <p:cNvPicPr/>
          <p:nvPr/>
        </p:nvPicPr>
        <p:blipFill>
          <a:blip r:embed="rId1"/>
          <a:srcRect l="0" t="0" r="0" b="47341"/>
          <a:stretch/>
        </p:blipFill>
        <p:spPr>
          <a:xfrm>
            <a:off x="380880" y="1143000"/>
            <a:ext cx="8229600" cy="2440080"/>
          </a:xfrm>
          <a:prstGeom prst="rect">
            <a:avLst/>
          </a:prstGeom>
          <a:ln w="9360">
            <a:solidFill>
              <a:srgbClr val="ccccff"/>
            </a:solidFill>
            <a:miter/>
          </a:ln>
        </p:spPr>
      </p:pic>
      <p:grpSp>
        <p:nvGrpSpPr>
          <p:cNvPr id="546" name="Group 3"/>
          <p:cNvGrpSpPr/>
          <p:nvPr/>
        </p:nvGrpSpPr>
        <p:grpSpPr>
          <a:xfrm>
            <a:off x="380880" y="3733920"/>
            <a:ext cx="8153640" cy="2490840"/>
            <a:chOff x="380880" y="3733920"/>
            <a:chExt cx="8153640" cy="2490840"/>
          </a:xfrm>
        </p:grpSpPr>
        <p:pic>
          <p:nvPicPr>
            <p:cNvPr id="547" name="Picture 4" descr="eva 1"/>
            <p:cNvPicPr/>
            <p:nvPr/>
          </p:nvPicPr>
          <p:blipFill>
            <a:blip r:embed="rId2"/>
            <a:srcRect l="0" t="47985" r="0" b="30867"/>
            <a:stretch/>
          </p:blipFill>
          <p:spPr>
            <a:xfrm>
              <a:off x="380880" y="3733920"/>
              <a:ext cx="8153640" cy="2490840"/>
            </a:xfrm>
            <a:prstGeom prst="rect">
              <a:avLst/>
            </a:prstGeom>
            <a:ln w="28440">
              <a:solidFill>
                <a:srgbClr val="ccccff"/>
              </a:solidFill>
              <a:miter/>
            </a:ln>
          </p:spPr>
        </p:pic>
        <p:sp>
          <p:nvSpPr>
            <p:cNvPr id="548" name="Line 5"/>
            <p:cNvSpPr/>
            <p:nvPr/>
          </p:nvSpPr>
          <p:spPr>
            <a:xfrm>
              <a:off x="4952880" y="4495680"/>
              <a:ext cx="5335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6"/>
            <p:cNvSpPr/>
            <p:nvPr/>
          </p:nvSpPr>
          <p:spPr>
            <a:xfrm>
              <a:off x="2133720" y="4800600"/>
              <a:ext cx="5331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7"/>
            <p:cNvSpPr/>
            <p:nvPr/>
          </p:nvSpPr>
          <p:spPr>
            <a:xfrm>
              <a:off x="2895480" y="4876920"/>
              <a:ext cx="5335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8"/>
            <p:cNvSpPr/>
            <p:nvPr/>
          </p:nvSpPr>
          <p:spPr>
            <a:xfrm>
              <a:off x="4495680" y="5181480"/>
              <a:ext cx="5335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9"/>
            <p:cNvSpPr/>
            <p:nvPr/>
          </p:nvSpPr>
          <p:spPr>
            <a:xfrm>
              <a:off x="2514600" y="5943600"/>
              <a:ext cx="5335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0"/>
            <p:cNvSpPr/>
            <p:nvPr/>
          </p:nvSpPr>
          <p:spPr>
            <a:xfrm>
              <a:off x="5334120" y="5943600"/>
              <a:ext cx="20574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11"/>
            <p:cNvSpPr/>
            <p:nvPr/>
          </p:nvSpPr>
          <p:spPr>
            <a:xfrm>
              <a:off x="4191120" y="5943600"/>
              <a:ext cx="5331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12"/>
            <p:cNvSpPr/>
            <p:nvPr/>
          </p:nvSpPr>
          <p:spPr>
            <a:xfrm>
              <a:off x="2895480" y="5562720"/>
              <a:ext cx="5335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13"/>
            <p:cNvSpPr/>
            <p:nvPr/>
          </p:nvSpPr>
          <p:spPr>
            <a:xfrm>
              <a:off x="2362320" y="4572000"/>
              <a:ext cx="5331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14"/>
            <p:cNvSpPr/>
            <p:nvPr/>
          </p:nvSpPr>
          <p:spPr>
            <a:xfrm>
              <a:off x="6705720" y="5486400"/>
              <a:ext cx="5331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15"/>
            <p:cNvSpPr/>
            <p:nvPr/>
          </p:nvSpPr>
          <p:spPr>
            <a:xfrm>
              <a:off x="7772400" y="5486400"/>
              <a:ext cx="5335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Text Box 16"/>
          <p:cNvSpPr/>
          <p:nvPr/>
        </p:nvSpPr>
        <p:spPr>
          <a:xfrm>
            <a:off x="533520" y="5335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trick Süskind,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l Perf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AutoShape 17"/>
          <p:cNvSpPr/>
          <p:nvPr/>
        </p:nvSpPr>
        <p:spPr>
          <a:xfrm>
            <a:off x="8534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058"/>
          <p:cNvSpPr/>
          <p:nvPr/>
        </p:nvSpPr>
        <p:spPr>
          <a:xfrm>
            <a:off x="380880" y="105084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Verdana"/>
                <a:ea typeface="Times New Roman"/>
              </a:rPr>
              <a:t>Pregunta: ¿Cómo es el personaje de C. Auguste Dupin y por qué el protagonista lo describe como una persona analítica?</a:t>
            </a:r>
            <a:r>
              <a:rPr b="0" lang="es-ES" sz="2000" spc="-1" strike="noStrike">
                <a:solidFill>
                  <a:srgbClr val="0000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2060"/>
          <p:cNvSpPr/>
          <p:nvPr/>
        </p:nvSpPr>
        <p:spPr>
          <a:xfrm>
            <a:off x="762120" y="23004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umno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Object 2059" descr=""/>
          <p:cNvPicPr/>
          <p:nvPr/>
        </p:nvPicPr>
        <p:blipFill>
          <a:blip r:embed="rId1"/>
          <a:stretch/>
        </p:blipFill>
        <p:spPr>
          <a:xfrm>
            <a:off x="685800" y="2629080"/>
            <a:ext cx="7616880" cy="110484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2061"/>
          <p:cNvSpPr/>
          <p:nvPr/>
        </p:nvSpPr>
        <p:spPr>
          <a:xfrm>
            <a:off x="838080" y="3900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umno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5" name="Object 2062"/>
          <p:cNvGraphicFramePr/>
          <p:nvPr/>
        </p:nvGraphicFramePr>
        <p:xfrm>
          <a:off x="685800" y="4200480"/>
          <a:ext cx="7620120" cy="12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6" name="Object 206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4200480"/>
                    <a:ext cx="762012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Rectangle 2064"/>
          <p:cNvSpPr/>
          <p:nvPr/>
        </p:nvSpPr>
        <p:spPr>
          <a:xfrm>
            <a:off x="914400" y="5653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umn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Object 2067"/>
          <p:cNvGraphicFramePr/>
          <p:nvPr/>
        </p:nvGraphicFramePr>
        <p:xfrm>
          <a:off x="685800" y="5952960"/>
          <a:ext cx="7624800" cy="60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9" name="Object 206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5952960"/>
                    <a:ext cx="762480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AutoShape 2069"/>
          <p:cNvSpPr/>
          <p:nvPr/>
        </p:nvSpPr>
        <p:spPr>
          <a:xfrm>
            <a:off x="84582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ff"/>
                                </p:to>
                              </p:animCl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4" descr="prueba1"/>
          <p:cNvPicPr/>
          <p:nvPr/>
        </p:nvPicPr>
        <p:blipFill>
          <a:blip r:embed="rId1"/>
          <a:stretch/>
        </p:blipFill>
        <p:spPr>
          <a:xfrm>
            <a:off x="1600200" y="838080"/>
            <a:ext cx="5486400" cy="579132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6"/>
          <p:cNvSpPr/>
          <p:nvPr/>
        </p:nvSpPr>
        <p:spPr>
          <a:xfrm>
            <a:off x="1143000" y="304920"/>
            <a:ext cx="7238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Verdana"/>
              </a:rPr>
              <a:t>Calendario de Pruebas II Semestre 2010</a:t>
            </a:r>
            <a:endParaRPr b="0" lang="en-US" sz="2800" spc="-1" strike="noStrike">
              <a:solidFill>
                <a:srgbClr val="0000cc"/>
              </a:solidFill>
              <a:latin typeface="Verdana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457200" y="1782720"/>
          <a:ext cx="8570880" cy="4848120"/>
        </p:xfrm>
        <a:graphic>
          <a:graphicData uri="http://schemas.openxmlformats.org/drawingml/2006/table">
            <a:tbl>
              <a:tblPr/>
              <a:tblGrid>
                <a:gridCol w="1617840"/>
                <a:gridCol w="1535040"/>
                <a:gridCol w="541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FECH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UN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CONTENI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112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3/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Sistema de Ecu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-Métodos para la resolución de sistemas de ecuaciones.-Aplicación de los sistemas de ecuaciones a problemas de plante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180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2/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Relaciones y Fun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-Formas de expresión una relación perteneciente a un producto cartesiano.-Representación de una relación  en el plano cartesiano.-Determinación y Recorrido de una relación.-Funciones y clasificación de funcion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14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08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Geometría  Analí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-Representación de puntos en el plano.-Cálculo de pendientes y ángulo de inclinación de la recta en el plano cartesiano.-Coordinadas del punto medio.-Distancia entre 2 punt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5" name="AutoShape 136"/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1037"/>
          <p:cNvSpPr/>
          <p:nvPr/>
        </p:nvSpPr>
        <p:spPr>
          <a:xfrm>
            <a:off x="457200" y="2514600"/>
            <a:ext cx="7620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buClr>
                <a:srgbClr val="0000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Evaluación frecuentemente desvinculada de aprendizajes claves o cent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1040"/>
          <p:cNvSpPr/>
          <p:nvPr/>
        </p:nvSpPr>
        <p:spPr>
          <a:xfrm>
            <a:off x="457200" y="3352680"/>
            <a:ext cx="7620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buClr>
                <a:srgbClr val="0000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Preguntas y tareas muy a menudo rutinarias, prima la memorización, uso de algoritmos, sin presencia de problematización, conceptualización, análisis crí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1041"/>
          <p:cNvSpPr/>
          <p:nvPr/>
        </p:nvSpPr>
        <p:spPr>
          <a:xfrm>
            <a:off x="457200" y="4876920"/>
            <a:ext cx="769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buClr>
                <a:srgbClr val="0000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Notas </a:t>
            </a: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c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arentes de significado, en términos descriptivos</a:t>
            </a: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1043"/>
          <p:cNvSpPr/>
          <p:nvPr/>
        </p:nvSpPr>
        <p:spPr>
          <a:xfrm>
            <a:off x="457200" y="5692680"/>
            <a:ext cx="7696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buClr>
                <a:srgbClr val="0000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Poco frecuente retroalimentación a los alumnos, más allá de la no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Calibri"/>
              </a:rPr>
              <a:t>Evaluación en la actualidad</a:t>
            </a:r>
            <a:endParaRPr b="0" lang="en-US" sz="40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09" name="AutoShape 1029"/>
          <p:cNvSpPr/>
          <p:nvPr/>
        </p:nvSpPr>
        <p:spPr>
          <a:xfrm>
            <a:off x="8229600" y="2819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032"/>
          <p:cNvSpPr/>
          <p:nvPr/>
        </p:nvSpPr>
        <p:spPr>
          <a:xfrm>
            <a:off x="8229600" y="3809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033"/>
          <p:cNvSpPr/>
          <p:nvPr/>
        </p:nvSpPr>
        <p:spPr>
          <a:xfrm>
            <a:off x="8229600" y="5029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038"/>
          <p:cNvSpPr/>
          <p:nvPr/>
        </p:nvSpPr>
        <p:spPr>
          <a:xfrm>
            <a:off x="822960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044"/>
          <p:cNvSpPr/>
          <p:nvPr/>
        </p:nvSpPr>
        <p:spPr>
          <a:xfrm>
            <a:off x="4495680" y="1752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11"/>
          <p:cNvGrpSpPr/>
          <p:nvPr/>
        </p:nvGrpSpPr>
        <p:grpSpPr>
          <a:xfrm>
            <a:off x="914400" y="2743200"/>
            <a:ext cx="6934320" cy="3276720"/>
            <a:chOff x="914400" y="2743200"/>
            <a:chExt cx="6934320" cy="3276720"/>
          </a:xfrm>
        </p:grpSpPr>
        <p:sp>
          <p:nvSpPr>
            <p:cNvPr id="515" name="Oval 2"/>
            <p:cNvSpPr/>
            <p:nvPr/>
          </p:nvSpPr>
          <p:spPr>
            <a:xfrm>
              <a:off x="1219320" y="2743200"/>
              <a:ext cx="2057400" cy="17524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cc"/>
                  </a:solidFill>
                  <a:latin typeface="Verdana"/>
                </a:rPr>
                <a:t>Enseñanz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Oval 3"/>
            <p:cNvSpPr/>
            <p:nvPr/>
          </p:nvSpPr>
          <p:spPr>
            <a:xfrm>
              <a:off x="5334120" y="2819520"/>
              <a:ext cx="1981080" cy="1600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cc"/>
                  </a:solidFill>
                  <a:latin typeface="Verdana"/>
                </a:rPr>
                <a:t>Evalu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Rectangle 4"/>
            <p:cNvSpPr/>
            <p:nvPr/>
          </p:nvSpPr>
          <p:spPr>
            <a:xfrm>
              <a:off x="914400" y="4952880"/>
              <a:ext cx="6934320" cy="106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cc"/>
                  </a:solidFill>
                  <a:latin typeface="Verdana"/>
                </a:rPr>
                <a:t>Dos momen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cc"/>
                  </a:solidFill>
                  <a:latin typeface="Verdana"/>
                </a:rPr>
                <a:t>separadas en tiempo, espacio y propósi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5"/>
            <p:cNvSpPr/>
            <p:nvPr/>
          </p:nvSpPr>
          <p:spPr>
            <a:xfrm flipV="1">
              <a:off x="4343400" y="35812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6"/>
            <p:cNvSpPr/>
            <p:nvPr/>
          </p:nvSpPr>
          <p:spPr>
            <a:xfrm>
              <a:off x="3657600" y="358128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AutoShape 9"/>
          <p:cNvSpPr/>
          <p:nvPr/>
        </p:nvSpPr>
        <p:spPr>
          <a:xfrm>
            <a:off x="8305920" y="5867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9294"/>
                </a:moveTo>
                <a:lnTo>
                  <a:pt x="7301" y="9294"/>
                </a:lnTo>
                <a:lnTo>
                  <a:pt x="7301" y="14629"/>
                </a:lnTo>
                <a:cubicBezTo>
                  <a:pt x="7301" y="15552"/>
                  <a:pt x="8102" y="16283"/>
                  <a:pt x="9138" y="16283"/>
                </a:cubicBezTo>
                <a:lnTo>
                  <a:pt x="10800" y="16283"/>
                </a:lnTo>
                <a:cubicBezTo>
                  <a:pt x="11836" y="16283"/>
                  <a:pt x="12636" y="15552"/>
                  <a:pt x="12636" y="14629"/>
                </a:cubicBezTo>
                <a:lnTo>
                  <a:pt x="12636" y="9294"/>
                </a:lnTo>
                <a:lnTo>
                  <a:pt x="10800" y="9294"/>
                </a:lnTo>
                <a:lnTo>
                  <a:pt x="14308" y="5786"/>
                </a:lnTo>
                <a:lnTo>
                  <a:pt x="17981" y="9294"/>
                </a:lnTo>
                <a:lnTo>
                  <a:pt x="16144" y="9294"/>
                </a:lnTo>
                <a:lnTo>
                  <a:pt x="16144" y="14629"/>
                </a:lnTo>
                <a:cubicBezTo>
                  <a:pt x="16144" y="17397"/>
                  <a:pt x="13568" y="19956"/>
                  <a:pt x="10800" y="19956"/>
                </a:cubicBezTo>
                <a:lnTo>
                  <a:pt x="9138" y="19956"/>
                </a:lnTo>
                <a:cubicBezTo>
                  <a:pt x="6370" y="19956"/>
                  <a:pt x="3794" y="17397"/>
                  <a:pt x="3794" y="14629"/>
                </a:cubicBez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10"/>
          <p:cNvSpPr/>
          <p:nvPr/>
        </p:nvSpPr>
        <p:spPr>
          <a:xfrm>
            <a:off x="685800" y="10810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1" lang="es-CL" sz="3600" spc="-1" strike="noStrike">
                <a:solidFill>
                  <a:srgbClr val="990000"/>
                </a:solidFill>
                <a:latin typeface="Verdana"/>
              </a:rPr>
              <a:t>Evaluación es equivalente a calific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cc"/>
                </a:solidFill>
                <a:latin typeface="Verdana"/>
              </a:rPr>
              <a:t>   </a:t>
            </a:r>
            <a:r>
              <a:rPr b="1" lang="es-CL" sz="4000" spc="-1" strike="noStrike">
                <a:solidFill>
                  <a:srgbClr val="0000cc"/>
                </a:solidFill>
                <a:latin typeface="Verdana"/>
              </a:rPr>
              <a:t>II “</a:t>
            </a:r>
            <a:r>
              <a:rPr b="1" lang="es-ES" sz="4000" spc="-1" strike="noStrike">
                <a:solidFill>
                  <a:srgbClr val="0000cc"/>
                </a:solidFill>
                <a:latin typeface="Verdana"/>
              </a:rPr>
              <a:t>Evaluación </a:t>
            </a:r>
            <a:r>
              <a:rPr b="1" lang="es-CL" sz="4000" spc="-1" strike="noStrike">
                <a:solidFill>
                  <a:srgbClr val="0000cc"/>
                </a:solidFill>
                <a:latin typeface="Verdana"/>
              </a:rPr>
              <a:t>P</a:t>
            </a:r>
            <a:r>
              <a:rPr b="1" lang="es-ES" sz="4000" spc="-1" strike="noStrike">
                <a:solidFill>
                  <a:srgbClr val="0000cc"/>
                </a:solidFill>
                <a:latin typeface="Verdana"/>
              </a:rPr>
              <a:t>ara el</a:t>
            </a:r>
            <a:r>
              <a:rPr b="1" lang="es-CL" sz="4000" spc="-1" strike="noStrike">
                <a:solidFill>
                  <a:srgbClr val="0000cc"/>
                </a:solidFill>
                <a:latin typeface="Verdana"/>
              </a:rPr>
              <a:t> Aprendizaje”</a:t>
            </a:r>
            <a:endParaRPr b="0" lang="en-US" sz="40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23" name="AutoShape 7"/>
          <p:cNvSpPr/>
          <p:nvPr/>
        </p:nvSpPr>
        <p:spPr>
          <a:xfrm>
            <a:off x="8534520" y="2666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AutoShape 8"/>
          <p:cNvSpPr/>
          <p:nvPr/>
        </p:nvSpPr>
        <p:spPr>
          <a:xfrm>
            <a:off x="853452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9"/>
          <p:cNvSpPr/>
          <p:nvPr/>
        </p:nvSpPr>
        <p:spPr>
          <a:xfrm>
            <a:off x="8534520" y="4724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AutoShape 10"/>
          <p:cNvSpPr/>
          <p:nvPr/>
        </p:nvSpPr>
        <p:spPr>
          <a:xfrm>
            <a:off x="8534520" y="5791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1"/>
          <p:cNvSpPr/>
          <p:nvPr/>
        </p:nvSpPr>
        <p:spPr>
          <a:xfrm>
            <a:off x="304920" y="24382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buClr>
                <a:srgbClr val="646b86"/>
              </a:buClr>
              <a:buFont typeface="Times New Roman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s-ES_tradnl" sz="2800" spc="-1" strike="noStrike">
                <a:solidFill>
                  <a:srgbClr val="646b8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646b86"/>
                </a:solidFill>
                <a:latin typeface="Times New Roman"/>
              </a:rPr>
              <a:t>Concepción de evaluación como </a:t>
            </a:r>
            <a:r>
              <a:rPr b="0" lang="es-ES" sz="2800" spc="-1" strike="noStrike">
                <a:solidFill>
                  <a:srgbClr val="990033"/>
                </a:solidFill>
                <a:latin typeface="Times New Roman"/>
              </a:rPr>
              <a:t>componente </a:t>
            </a:r>
            <a:r>
              <a:rPr b="0" lang="es-ES_tradnl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990033"/>
                </a:solidFill>
                <a:latin typeface="Times New Roman"/>
              </a:rPr>
              <a:t>constitutivo</a:t>
            </a:r>
            <a:r>
              <a:rPr b="0" lang="es-ES" sz="2800" spc="-1" strike="noStrike">
                <a:solidFill>
                  <a:srgbClr val="646b86"/>
                </a:solidFill>
                <a:latin typeface="Times New Roman"/>
              </a:rPr>
              <a:t> del proceso de enseñanza </a:t>
            </a:r>
            <a:r>
              <a:rPr b="0" lang="es-ES_tradnl" sz="2800" spc="-1" strike="noStrike">
                <a:solidFill>
                  <a:srgbClr val="646b86"/>
                </a:solidFill>
                <a:latin typeface="Times New Roman"/>
              </a:rPr>
              <a:t>y de </a:t>
            </a:r>
            <a:r>
              <a:rPr b="0" lang="es-ES_tradnl" sz="2800" spc="-1" strike="noStrike">
                <a:solidFill>
                  <a:srgbClr val="646b86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646b86"/>
                </a:solidFill>
                <a:latin typeface="Times New Roman"/>
              </a:rPr>
              <a:t>aprendizaj</a:t>
            </a:r>
            <a:r>
              <a:rPr b="0" lang="es-ES_tradnl" sz="2800" spc="-1" strike="noStrike">
                <a:solidFill>
                  <a:srgbClr val="646b86"/>
                </a:solidFill>
                <a:latin typeface="Times New Roman"/>
              </a:rPr>
              <a:t>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3"/>
          <p:cNvSpPr/>
          <p:nvPr/>
        </p:nvSpPr>
        <p:spPr>
          <a:xfrm>
            <a:off x="304920" y="350532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buClr>
                <a:srgbClr val="990033"/>
              </a:buClr>
              <a:buFont typeface="Times New Roman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990033"/>
                </a:solidFill>
                <a:latin typeface="Times New Roman"/>
              </a:rPr>
              <a:t>Criterios preestablecidos</a:t>
            </a:r>
            <a:r>
              <a:rPr b="0" lang="es-ES" sz="2800" spc="-1" strike="noStrike">
                <a:solidFill>
                  <a:srgbClr val="646b86"/>
                </a:solidFill>
                <a:latin typeface="Times New Roman"/>
              </a:rPr>
              <a:t>, compartidos entre </a:t>
            </a:r>
            <a:r>
              <a:rPr b="0" lang="es-ES_tradnl" sz="2800" spc="-1" strike="noStrike">
                <a:solidFill>
                  <a:srgbClr val="646b86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646b86"/>
                </a:solidFill>
                <a:latin typeface="Times New Roman"/>
              </a:rPr>
              <a:t>alumnos y</a:t>
            </a:r>
            <a:r>
              <a:rPr b="0" lang="es-CL" sz="2800" spc="-1" strike="noStrike">
                <a:solidFill>
                  <a:srgbClr val="646b86"/>
                </a:solidFill>
                <a:latin typeface="Times New Roman"/>
              </a:rPr>
              <a:t>   </a:t>
            </a:r>
            <a:r>
              <a:rPr b="0" lang="es-ES" sz="2800" spc="-1" strike="noStrike">
                <a:solidFill>
                  <a:srgbClr val="646b86"/>
                </a:solidFill>
                <a:latin typeface="Times New Roman"/>
              </a:rPr>
              <a:t>profesores</a:t>
            </a:r>
            <a:r>
              <a:rPr b="0" lang="es-ES_tradnl" sz="2800" spc="-1" strike="noStrike">
                <a:solidFill>
                  <a:srgbClr val="646b8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14"/>
          <p:cNvSpPr/>
          <p:nvPr/>
        </p:nvSpPr>
        <p:spPr>
          <a:xfrm>
            <a:off x="304920" y="54864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buClr>
                <a:srgbClr val="990033"/>
              </a:buClr>
              <a:buFont typeface="Times New Roman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s-ES" sz="2800" spc="-1" strike="noStrike">
                <a:solidFill>
                  <a:srgbClr val="990033"/>
                </a:solidFill>
                <a:latin typeface="Times New Roman"/>
              </a:rPr>
              <a:t>Retroalimentación efectiva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: i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volucra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a profesores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alumnos en los datos que se obtienen de la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16"/>
          <p:cNvSpPr/>
          <p:nvPr/>
        </p:nvSpPr>
        <p:spPr>
          <a:xfrm>
            <a:off x="304920" y="4343400"/>
            <a:ext cx="8001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buClr>
                <a:srgbClr val="990033"/>
              </a:buClr>
              <a:buFont typeface="Times New Roman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990033"/>
                </a:solidFill>
                <a:latin typeface="Times New Roman"/>
              </a:rPr>
              <a:t>Expectativas de aprendizaje</a:t>
            </a:r>
            <a:r>
              <a:rPr b="0" lang="es-ES" sz="2800" spc="-1" strike="noStrike">
                <a:solidFill>
                  <a:srgbClr val="646b86"/>
                </a:solidFill>
                <a:latin typeface="Times New Roman"/>
              </a:rPr>
              <a:t> claras y conocidas </a:t>
            </a:r>
            <a:r>
              <a:rPr b="0" lang="es-ES_tradnl" sz="2800" spc="-1" strike="noStrike">
                <a:solidFill>
                  <a:srgbClr val="646b86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646b86"/>
                </a:solidFill>
                <a:latin typeface="Times New Roman"/>
              </a:rPr>
              <a:t>previamente</a:t>
            </a:r>
            <a:r>
              <a:rPr b="0" lang="es-ES_tradnl" sz="2800" spc="-1" strike="noStrike">
                <a:solidFill>
                  <a:srgbClr val="646b8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1" name="Object 2"/>
          <p:cNvGraphicFramePr/>
          <p:nvPr/>
        </p:nvGraphicFramePr>
        <p:xfrm>
          <a:off x="2081160" y="762120"/>
          <a:ext cx="5081760" cy="60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1160" y="762120"/>
                    <a:ext cx="5081760" cy="6019560"/>
                  </a:xfrm>
                  <a:prstGeom prst="rect">
                    <a:avLst/>
                  </a:prstGeom>
                  <a:ln w="5724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med">
    <p:split dir="in" orient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1" dur="1" fill="hold"/>
                                  <p:tgtEl>
                                    <p:spTgt spid="53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Object 1026"/>
          <p:cNvGraphicFramePr/>
          <p:nvPr/>
        </p:nvGraphicFramePr>
        <p:xfrm>
          <a:off x="1752480" y="990720"/>
          <a:ext cx="5867640" cy="57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990720"/>
                    <a:ext cx="5867640" cy="5705280"/>
                  </a:xfrm>
                  <a:prstGeom prst="rect">
                    <a:avLst/>
                  </a:prstGeom>
                  <a:ln w="5724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35" name="AutoShape 1027"/>
          <p:cNvSpPr/>
          <p:nvPr/>
        </p:nvSpPr>
        <p:spPr>
          <a:xfrm>
            <a:off x="8305920" y="6019920"/>
            <a:ext cx="509400" cy="58572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34">
                <a:moveTo>
                  <a:pt x="0" y="0"/>
                </a:moveTo>
                <a:lnTo>
                  <a:pt x="21600" y="0"/>
                </a:lnTo>
                <a:lnTo>
                  <a:pt x="21600" y="24834"/>
                </a:lnTo>
                <a:lnTo>
                  <a:pt x="0" y="24834"/>
                </a:lnTo>
                <a:close/>
              </a:path>
              <a:path fill="lightenLess" w="21600" h="248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34">
                <a:moveTo>
                  <a:pt x="21600" y="0"/>
                </a:moveTo>
                <a:lnTo>
                  <a:pt x="21600" y="24834"/>
                </a:lnTo>
                <a:lnTo>
                  <a:pt x="20200" y="23434"/>
                </a:lnTo>
                <a:lnTo>
                  <a:pt x="20200" y="1400"/>
                </a:lnTo>
                <a:close/>
              </a:path>
              <a:path fill="darkenLess" w="21600" h="24834">
                <a:moveTo>
                  <a:pt x="21600" y="24834"/>
                </a:moveTo>
                <a:lnTo>
                  <a:pt x="0" y="24834"/>
                </a:lnTo>
                <a:lnTo>
                  <a:pt x="1400" y="23434"/>
                </a:lnTo>
                <a:lnTo>
                  <a:pt x="20200" y="23434"/>
                </a:lnTo>
                <a:close/>
              </a:path>
              <a:path fill="lighten" w="21600" h="24834">
                <a:moveTo>
                  <a:pt x="0" y="248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34"/>
                </a:lnTo>
                <a:close/>
              </a:path>
              <a:path fill="darken" w="21600" h="24834">
                <a:moveTo>
                  <a:pt x="3794" y="9110"/>
                </a:moveTo>
                <a:lnTo>
                  <a:pt x="7301" y="9110"/>
                </a:lnTo>
                <a:lnTo>
                  <a:pt x="7301" y="14445"/>
                </a:lnTo>
                <a:cubicBezTo>
                  <a:pt x="7301" y="15368"/>
                  <a:pt x="8102" y="16099"/>
                  <a:pt x="9138" y="16099"/>
                </a:cubicBezTo>
                <a:lnTo>
                  <a:pt x="10800" y="16099"/>
                </a:lnTo>
                <a:cubicBezTo>
                  <a:pt x="11836" y="16099"/>
                  <a:pt x="12636" y="15368"/>
                  <a:pt x="12636" y="14445"/>
                </a:cubicBezTo>
                <a:lnTo>
                  <a:pt x="12636" y="9110"/>
                </a:lnTo>
                <a:lnTo>
                  <a:pt x="10800" y="9110"/>
                </a:lnTo>
                <a:lnTo>
                  <a:pt x="14308" y="5602"/>
                </a:lnTo>
                <a:lnTo>
                  <a:pt x="17981" y="9110"/>
                </a:lnTo>
                <a:lnTo>
                  <a:pt x="16144" y="9110"/>
                </a:lnTo>
                <a:lnTo>
                  <a:pt x="16144" y="14445"/>
                </a:lnTo>
                <a:cubicBezTo>
                  <a:pt x="16144" y="17213"/>
                  <a:pt x="13568" y="19772"/>
                  <a:pt x="10800" y="19772"/>
                </a:cubicBezTo>
                <a:lnTo>
                  <a:pt x="9138" y="19772"/>
                </a:lnTo>
                <a:cubicBezTo>
                  <a:pt x="6370" y="19772"/>
                  <a:pt x="3794" y="17213"/>
                  <a:pt x="3794" y="14445"/>
                </a:cubicBez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Verdana"/>
              </a:rPr>
              <a:t>Comprensión del problema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357120" y="99972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Times New Roman"/>
              </a:rPr>
              <a:t>¿Hasta qué punto demuestra </a:t>
            </a:r>
            <a:r>
              <a:rPr b="0" lang="es-ES_tradnl" sz="1800" spc="-1" strike="noStrike">
                <a:solidFill>
                  <a:srgbClr val="0000cc"/>
                </a:solidFill>
                <a:latin typeface="Times New Roman"/>
              </a:rPr>
              <a:t>comprensión del tema, de las ideas o los sentimientos sobre los cuales está escribiendo o hablando</a:t>
            </a:r>
            <a:r>
              <a:rPr b="0" lang="es-ES" sz="18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228600" y="1523880"/>
          <a:ext cx="8686800" cy="4943520"/>
        </p:xfrm>
        <a:graphic>
          <a:graphicData uri="http://schemas.openxmlformats.org/drawingml/2006/table">
            <a:tbl>
              <a:tblPr/>
              <a:tblGrid>
                <a:gridCol w="1600200"/>
                <a:gridCol w="7086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Nivel de log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Descrip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Excelente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9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Las ideas y sentimientos expresados demuestran una comprensión acabada del tema con sus matices y complejidades.</a:t>
                      </a:r>
                      <a:r>
                        <a:rPr b="0" lang="es-ES_tradnl" sz="19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_tradnl" sz="19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Establece con habilidad conexiones entre las ideas que expone e ilustra sus ideas con </a:t>
                      </a:r>
                      <a:r>
                        <a:rPr b="0" lang="es-ES_tradnl" sz="19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ejemplos pertinentes y original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Bueno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9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Las ideas y sentimientos expresados demuestran comprensión buena del tema.</a:t>
                      </a:r>
                      <a:r>
                        <a:rPr b="0" lang="es-ES_tradnl" sz="19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_tradnl" sz="19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Las relaciones que establece entre ideas son generalmente apropiadas.</a:t>
                      </a:r>
                      <a:r>
                        <a:rPr b="0" lang="es-ES_tradnl" sz="19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Los ejemplos usados para ilustrar las ideas son apropiado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Satisfactorio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9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Las ideas y sentimientos expresados demuestran una comprensión básica del tema.</a:t>
                      </a:r>
                      <a:r>
                        <a:rPr b="0" lang="es-ES_tradnl" sz="19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_tradnl" sz="19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Se establece algunas relaciones entre las ideas aunque éstas no siempre</a:t>
                      </a:r>
                      <a:r>
                        <a:rPr b="0" lang="es-ES_tradnl" sz="19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_tradnl" sz="19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son apropiadas.</a:t>
                      </a:r>
                      <a:r>
                        <a:rPr b="0" lang="es-ES_tradnl" sz="19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Intenta ilustrar algunas de sus ideas con ejemplos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Insatisfactori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9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Las ideas y sentimientos expresados demuestran poca comprensión del tem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plit dir="in" orient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cc"/>
                </a:solidFill>
                <a:latin typeface="Arial Black"/>
                <a:ea typeface="Times New Roman"/>
              </a:rPr>
              <a:t>	</a:t>
            </a:r>
            <a:br>
              <a:rPr sz="4400"/>
            </a:br>
            <a:r>
              <a:rPr b="0" lang="es-CL" sz="2800" spc="-1" strike="noStrike">
                <a:solidFill>
                  <a:srgbClr val="0000cc"/>
                </a:solidFill>
                <a:latin typeface="Verdana"/>
                <a:ea typeface="Times New Roman"/>
              </a:rPr>
              <a:t>CONCLUSIONES</a:t>
            </a:r>
            <a:br>
              <a:rPr sz="2800"/>
            </a:br>
            <a:r>
              <a:rPr b="1" lang="es-ES" sz="2800" spc="-1" strike="noStrike" u="sng">
                <a:solidFill>
                  <a:srgbClr val="0000cc"/>
                </a:solidFill>
                <a:uFillTx/>
                <a:latin typeface="Verdana"/>
                <a:ea typeface="Times New Roman"/>
              </a:rPr>
              <a:t>¿</a:t>
            </a:r>
            <a:r>
              <a:rPr b="1" lang="es-ES" sz="2800" spc="-1" strike="noStrike">
                <a:solidFill>
                  <a:srgbClr val="0000cc"/>
                </a:solidFill>
                <a:latin typeface="Verdana"/>
                <a:ea typeface="Times New Roman"/>
              </a:rPr>
              <a:t>Puede la evaluación mejorar el aprendizaje de los alumnos?</a:t>
            </a:r>
            <a:r>
              <a:rPr b="1" lang="es-ES" sz="3600" spc="-1" strike="noStrike" u="sng">
                <a:solidFill>
                  <a:srgbClr val="0000cc"/>
                </a:solidFill>
                <a:uFillTx/>
                <a:latin typeface="Verdana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La investigación </a:t>
            </a:r>
            <a:r>
              <a:rPr b="0" lang="es-ES_tradnl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s-E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reciente ha</a:t>
            </a:r>
            <a:r>
              <a:rPr b="0" lang="es-CL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de</a:t>
            </a:r>
            <a:r>
              <a:rPr b="0" lang="es-E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ostrado que la respuesta a esta</a:t>
            </a:r>
            <a:r>
              <a:rPr b="0" lang="es-ES_tradnl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s-E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regunta es un inequívoco 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'sí'.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cc"/>
                </a:solidFill>
                <a:latin typeface="Verdana"/>
              </a:rPr>
              <a:t>CONCLUSIONES</a:t>
            </a:r>
            <a:br>
              <a:rPr sz="3200"/>
            </a:br>
            <a:r>
              <a:rPr b="0" lang="es-ES" sz="3200" spc="-1" strike="noStrike">
                <a:solidFill>
                  <a:srgbClr val="0000cc"/>
                </a:solidFill>
                <a:latin typeface="Verdana"/>
              </a:rPr>
              <a:t>Desde la investigación y la teoría</a:t>
            </a:r>
            <a:br>
              <a:rPr sz="3200"/>
            </a:br>
            <a:r>
              <a:rPr b="0" lang="es-CL" sz="32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es-CL" sz="2000" spc="-1" strike="noStrike">
                <a:solidFill>
                  <a:srgbClr val="0000cc"/>
                </a:solidFill>
                <a:latin typeface="Verdana"/>
              </a:rPr>
              <a:t>Conclusiones concordantes en las distintas investigaciones</a:t>
            </a:r>
            <a:endParaRPr b="0" lang="en-US" sz="20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kins, M., Beattie, J., &amp; Dockrell, W. (1993). </a:t>
            </a:r>
            <a:r>
              <a:rPr b="0" i="1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ment issues in higher education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University of Newcastle upon Tyne</a:t>
            </a:r>
            <a:r>
              <a:rPr b="0" lang="es-E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lack, P., and Wiliam, D. (1998a). Assessment and classroom learning. Assessment in Education, 5 (1): 7-74. 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lack, P. and Wiliam, D. (1998b). Inside the black box: Raising standards through classroom assessment. </a:t>
            </a:r>
            <a:r>
              <a:rPr b="0" lang="es-E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hi Delta Kappan, 80 (2): 139-148. 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ud, D. (1986). </a:t>
            </a:r>
            <a:r>
              <a:rPr b="0" i="1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Student Self-Assessment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Vol. No 5). Campbelltown: HERDSA.</a:t>
            </a:r>
            <a:r>
              <a:rPr b="0" lang="es-E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erman, J.L., Ashbacher, P.R., and Winters, L. (1992). A Practical Guide to Alternative Assessment. Alexandria, VA: Association for Supervision and Curriculum Development. 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mes, R., McInnis, C. and Devlin, M. (2002). </a:t>
            </a:r>
            <a:r>
              <a:rPr b="0" i="1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ing Learning in Australian Universities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ctoria: Centre for the Study of Higher Education University of Melbourne</a:t>
            </a:r>
            <a:r>
              <a:rPr b="0" lang="es-E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ight, P. (Ed.). (1995). </a:t>
            </a:r>
            <a:r>
              <a:rPr b="0" i="1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ment for Learning in Higher Education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London: Kogan Page Ltd.</a:t>
            </a:r>
            <a:r>
              <a:rPr b="0" lang="es-E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cCurdy, B.L., and Shapiro, E.S. (1992). A comparison of teacher monitoring, peer monitoring, and self-monitoring with curriculum-based measurement in reading among students with learning disabilities. Journal of Special Education, 26 (2): 162-180. 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Ramaprasad, A. (1983). On the definition of feedback. Behavioral Science, 28 (1): 4-13. 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adler, D.R. (1989). Formative assessment and the design of instructional systems. Instructional Science, 18 (2): 119-144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marL="32220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..........esto es sólo la punta del iceberg de los últimos quince años..........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0T17:50:55Z</dcterms:created>
  <dc:creator>mbick</dc:creator>
  <dc:description/>
  <dc:language>en-US</dc:language>
  <cp:lastModifiedBy>..</cp:lastModifiedBy>
  <dcterms:modified xsi:type="dcterms:W3CDTF">2010-04-22T23:21:56Z</dcterms:modified>
  <cp:revision>79</cp:revision>
  <dc:subject/>
  <dc:title>Formación en evaluación para el aprendizaje</dc:title>
</cp:coreProperties>
</file>