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50FB4-6B89-4048-AB0D-E7A04690F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CACF1-E9EC-4992-A1E9-DB0A0213D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8D3CA-ADD2-4366-BAB5-92BBB2A1B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BC38E-28F1-47CC-8118-C75BB262C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5F18E-3493-471F-83B7-985B515CF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191D8-C5F0-4CB2-8E95-143F33DCA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F791F-D849-4901-90C0-DE65D7916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B4AA3-2BC5-4856-9EE2-A19A8D666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8753A-F7C0-4972-8527-13AD09DEF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A5E64-42AB-4869-9F82-FD787556D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4260E-CAD4-439A-8C11-9940B56FA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360B7-06D5-43A3-830E-A17269FFE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7A0FF-41C7-430C-A36B-2064E43D3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68B31-17CD-47D0-82E5-1E8F54E66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0801C-5F89-4A4E-BBEB-6990BB97B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1DE4C-5553-4069-A328-4DE7AE8CD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A8CAB4-6A8C-4BFA-A52D-D5A98811C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91DEAF-24B2-490B-8E04-853CFF5D22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F91ECA-A0FB-4B45-9D83-962C6FF89D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A42C25-0A41-42C8-9E8D-B640E9B358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5E221-3F7B-458F-BDB1-563DD40347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F8810C-A75D-414E-B7C8-472C0523F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E66CD-DFAB-4694-B80A-7E0A4C497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A385E8-FE95-4471-B4D4-5D22A3D9A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564F6-5660-4BC2-8F21-B9DE5F6777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15514-28D1-4C35-B042-378944ABB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EBA56-0B33-4FD2-8E3A-EDB3DB9B6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DB1248-AD75-44F2-A094-97260A396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37127E-B86E-458E-B338-E1E7AC0DCB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25203E-42AC-409B-A61E-98874D3ABB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DCA990-F812-4723-BE7E-EF37EBF416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F6487-682D-4687-A62A-25249C43F5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30F069-816B-4C3C-B084-A93F464BF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48A1F-E5E1-4A7B-9595-4A91517A8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D0A22B-114D-4C96-BCA6-712B239E06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6A9771-527C-4E04-9EDE-12943FBD5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1BC3FA-CB8F-46DE-9B7C-C4B0DECE6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73965-D1E0-4E9F-B7E5-B23BACB8F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2AA55-7BB2-4429-8871-7BCF3D941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000D9-F102-4263-AF8C-786A017D2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A585DA-85FD-4082-AB50-E226C48E80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CB3B23-7445-42F1-B412-F9C32BC29E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0FFF50-F0C2-4302-935B-E33B8ECABA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A78AC7-35E9-481B-B3D4-C8E8C5A2E1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03135-154E-43D5-9A13-242A7E2DF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938D87-8574-4548-AF36-7A312CDC3B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4BA4F6-F6E4-487A-AA8A-671F73C9FA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50A808-42B5-4704-ACA1-A2AA63115D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24EE26-FBB3-4F5B-9EB7-3C3723A373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7D8BCD-9446-40A9-8BAA-C27EE7CB5D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19624-AC19-48BE-9741-7478339ED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24002D-A22B-4CFC-B976-941100543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1AD662-EFE8-482F-AD49-83653E724E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1E61B9-1479-4057-9E3E-98D7F18F96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8746FF-D075-4EDD-9637-6006E4D430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D150A-B2AA-4304-9677-03904C305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3987CE-D002-4B30-A478-30D5956099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6E9DEF-90F9-45A3-A414-5EC9A9C2ED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D53BDE-2F51-43D6-B70C-18C8AD107B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90D7C2-42D4-48C6-BA25-A4BB4E16EF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F69B85-7A76-4318-8A55-A28F00D3BF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7B73EF-08FB-4DE5-A177-FA02888458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6FBA4C-0BB0-41FF-9F59-A18F12054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5888E-888F-47C4-B83C-CA38E9505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C9B62B-38F3-4973-8279-59B15FAF1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3346FE-7DE6-4098-B203-946970917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9191-3EF2-41EC-AA60-967C1E065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984B66-093A-4EEA-AF5B-067F4D047F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1D956C-CC05-420F-AF84-8395FD5DD2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AA4F2E-E4BC-49E1-AF95-60759EB326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39601D-CF61-47E7-B8DF-0951619F4C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A9E20A-73A0-4B04-B566-7F4AD5C1CD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D8D824-C149-4899-9ABB-ED78B04806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40D1A1-3414-4DC8-A74E-CFA31D0B3F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1C41B9-E6C5-40CB-B19B-8FF15F494D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581324-6819-4D25-A856-952D7E8DFB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3870D-06AA-4A07-89CE-DE2A6F56A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9736A-D171-4587-9E24-73F9C8F88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C66C6-3206-4676-9161-5570AD1D96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14EA8C-25D6-43BA-9E01-23573D0CFC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97E9CE-4E5E-4E6C-8BBB-576F9ABDC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3B9E77-7DFE-463A-B769-387E6E86D0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5B10A7-E8FF-495F-95C4-F0B450B4AD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B754A9-DC30-4874-8721-4A67027EEB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DCC8F4-0AC8-4783-9EA4-30B6D5E6F8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EF4774-900D-45C7-B329-C0DE500920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B593E6-D9CD-4145-8430-43C2C8C5FC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964913-A065-4ED2-8E1E-E086D2E0E7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0BF8E-EBD6-475A-A125-9F1CC20BA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85E52B-3E61-4697-884C-80BBC54B55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B63708-8EBD-44D6-B1DD-5E84C39393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8E69A6-A58F-45EC-9001-E9B7DFFE83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44E1D7-D133-424D-A434-1BFB033FE5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7737F9-C98D-4E67-9378-C6BDD7A238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37332D-B1FC-4156-AB2E-9898F0049F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9C05C0-8E5F-4230-A088-AB67690F72C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63FE-0169-45DB-AE16-4B4D641F8E1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A7D9-7360-4532-8602-911D491CC364}"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1F00-8721-40DD-8399-C0BA882FFAC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4E25-6E1E-4998-BE33-36F71264D35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A047-C753-4FDB-8FC2-AFCB4F961CE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3871-0106-498E-9434-318485BC49D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69E6-9A73-436E-B54C-CB7DA218596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49FE-931D-4324-B933-D5E3A68EBB92}"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1 CuadroTexto"/>
          <p:cNvSpPr/>
          <p:nvPr/>
        </p:nvSpPr>
        <p:spPr>
          <a:xfrm>
            <a:off x="1299240" y="2214720"/>
            <a:ext cx="6675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ondiciones de educabili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1447920" y="2057400"/>
            <a:ext cx="7102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El amor en la escuela se llama aprendizaje. Si entiendo al profe de matemáticas, soy feliz; si no aprendo, soy infeli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Entonces, un LICEO HUMANO, es un liceo donde se apren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Prof. Gabriel Castil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2"/>
          <p:cNvSpPr/>
          <p:nvPr/>
        </p:nvSpPr>
        <p:spPr>
          <a:xfrm>
            <a:off x="1143000" y="1143000"/>
            <a:ext cx="7178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alibri"/>
                <a:ea typeface="Times New Roman"/>
              </a:rPr>
              <a:t>El año escolar llegaba a su fin y el señor Bernard los había reteni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Bueno-dijo el señor Bernard- he decidido presentaros a la beca de los liceos (...) La escuela primaria es la mejor de todas, pero no lleva a ninguna parte. El liceo abre todas las puertas. Y prefiero que sean los chicos pobres como vosotros los que entren por esas puertas.” </a:t>
            </a: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Albert Camus “El Primer Hombr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1219320" y="838080"/>
            <a:ext cx="7407000" cy="471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Times New Roman"/>
              </a:rPr>
              <a:t>En la plaza de un pueb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En medio de la plaza de de un pequeño pueblo de Cataluña había un banco de madera. Junto al banco un funcionario hacía guardia. Nadie sabía por qué se hacía la guardia del banco. La guardia se hacía porque se hacía, noche y día, todas las noches,  todos los días, y de generación en generación, los sucesivos alcaldes transmitían la orden y los funcionarios la obedecían. Nadie nunca dudó, nadie nunca preguntó. Si así se hacía, y siempre se había hecho, por algo serí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Y así siguió siendo hasta que alguien, no sé que alcalde o director de servicio, quiso conocer la orden original. Hubo que revolver a fondo los archivos. Y después de mucho hurgar, se supo. Hacía treinta y un años, dos meses y cuatro días, el alcalde de turno había mandado montar guardia junto al banco, que estaba recién pintado, para que a nadie se le ocurriera sentarse sobre la pintura fres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 Eduardo Galeano, </a:t>
            </a:r>
            <a:r>
              <a:rPr b="0" lang="es-ES_tradnl" sz="1600" spc="-1" strike="noStrike">
                <a:solidFill>
                  <a:srgbClr val="000000"/>
                </a:solidFill>
                <a:latin typeface="Arial"/>
                <a:ea typeface="Times New Roman"/>
              </a:rPr>
              <a:t>El libro de los abrazos</a:t>
            </a:r>
            <a:r>
              <a:rPr b="0" i="1" lang="es-ES_tradnl" sz="1600" spc="-1" strike="noStrike">
                <a:solidFill>
                  <a:srgbClr val="000000"/>
                </a:solidFill>
                <a:latin typeface="Arial"/>
                <a:ea typeface="Times New Roman"/>
              </a:rPr>
              <a:t>-</a:t>
            </a:r>
            <a:r>
              <a:rPr b="0" lang="es-ES" sz="1600" spc="-1" strike="noStrike">
                <a:solidFill>
                  <a:srgbClr val="000000"/>
                </a:solidFill>
                <a:latin typeface="Arial"/>
              </a:rPr>
              <a:t> </a:t>
            </a:r>
            <a:r>
              <a:rPr b="0" lang="es-ES_tradnl" sz="1600" spc="-1" strike="noStrike">
                <a:solidFill>
                  <a:srgbClr val="000000"/>
                </a:solidFill>
                <a:latin typeface="Arial"/>
              </a:rPr>
              <a:t>(</a:t>
            </a:r>
            <a:r>
              <a:rPr b="0" i="1" lang="es-ES_tradnl" sz="1600" spc="-1" strike="noStrike">
                <a:solidFill>
                  <a:srgbClr val="000000"/>
                </a:solidFill>
                <a:latin typeface="Arial"/>
                <a:ea typeface="Times New Roman"/>
              </a:rPr>
              <a:t>Adapt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1371600" y="1143000"/>
            <a:ext cx="67975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Times New Roman"/>
              </a:rPr>
              <a:t>Educación Compensato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Considera la diferencia como carencia, déficit, minusvalía, o  falta ; parte del déficit de los individuos culturalmente marginados, y por ello genera múltiples dispositivos escolares como modalidades de recuperación o mantenimiento en el sistema escolar, sin abordar el tema de las posibilidades de aprendizaje de esos mismos individu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1143000" y="1219320"/>
            <a:ext cx="76201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Times New Roman"/>
              </a:rPr>
              <a:t>Divers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n el campo educativo implica considerar a cada uno de acuerdo con lo que es y reconocer  lo que puede y necesi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diversidad no se aprecia como algo bajo lo normal o como una desviación respecto de lo común, o como una patología digna de tratami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n el liceo implica abrir posibilidades de caminos diversos para personas diversas, que tienen los mismos puntos de llegada,  reconociendo, de esa forma, las posibilidades de cada cual en el ámbito de los aprendizajes.</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3"/>
          <p:cNvSpPr/>
          <p:nvPr/>
        </p:nvSpPr>
        <p:spPr>
          <a:xfrm>
            <a:off x="1295280" y="838080"/>
            <a:ext cx="7255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ea typeface="Arial"/>
              </a:rPr>
              <a:t>Implementación curricular en contextos adversos:</a:t>
            </a:r>
            <a:r>
              <a:rPr b="1" lang="es-CL"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cuestión de la diversidad adquiere especial relevancia en este punto en tanto se la considera como punto de partida para el ofrecimiento de caminos distintos para quiénes disponen de modos y ritmos de aprendizaje diversos, pero con miras a contextualizar las orientaciones del curriculum. No se trata de ofrecer un curriculum minimizado, compensatorio para alumnos y alumnas cuyas condiciones de vida son adversas, sino que de abrir alternativas que conecten al alumnado con las demandas de la sociedad glob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1660680" y="801720"/>
            <a:ext cx="694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ea typeface="Arial"/>
              </a:rPr>
              <a:t>Condiciones de educabi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Se trata de empezar a enseñar desde el punto donde se encuentran los jóvenes, es decir,  considerar los cambios ocurridos en el contexto socio-económico que influyen en las condiciones de acceso a la escuela, así como los referidos a la cultura juvenil. En otras palabras, el acceso a la escuela no está acompañado solamente por expectativas de movilidad social, sino que también por grados de incertidumbre que emanan de un mercado de trabajo cambiante y segment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295280" y="1143000"/>
            <a:ext cx="7255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Cuando una comunidad escolar toma conciencia de que existen ciertos aprendizajes básicos- ciertos valores, ciertos hábitos, ciertos conocimientos, ciertas habilidades- que necesitan poseer todas las personas; y cuando luego de esa toma de conciencia, asume la decisión de llevarla a la práctica y se empeña fuertemente en su realización, aún antes de que esa decisión alcance los resultados esperados, tales resultados ya han apareci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1295280" y="1143000"/>
            <a:ext cx="7315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La Escuela de Anticipación necesita un profesional al mismo tiempo</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 </a:t>
            </a:r>
            <a:r>
              <a:rPr b="0" i="1" lang="es-ES_tradnl" sz="2400" spc="-1" strike="noStrike">
                <a:solidFill>
                  <a:srgbClr val="000000"/>
                </a:solidFill>
                <a:latin typeface="Arial"/>
                <a:ea typeface="Times New Roman"/>
              </a:rPr>
              <a:t>capacitado en un saber y en la suscitación de su aprendizaje,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en la programación con los alumnos de acciones comunes y de acciones individuale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en la habilidad para encaminar a los alumnos hacia niveles superiores de aprendizaj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 </a:t>
            </a:r>
            <a:r>
              <a:rPr b="0" i="1" lang="es-ES_tradnl" sz="2400" spc="-1" strike="noStrike">
                <a:solidFill>
                  <a:srgbClr val="000000"/>
                </a:solidFill>
                <a:latin typeface="Arial"/>
                <a:ea typeface="Times New Roman"/>
              </a:rPr>
              <a:t>en la capacidad para trabajar con alumnos que son diferente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y en la capacidad de dar testimonio del cuidado de la vi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7T14:53:10Z</dcterms:created>
  <dc:creator>Olidata Chile S.A.</dc:creator>
  <dc:description/>
  <dc:language>en-US</dc:language>
  <cp:lastModifiedBy>Carlos Ossa Illanes</cp:lastModifiedBy>
  <dcterms:modified xsi:type="dcterms:W3CDTF">2008-03-31T16:10:00Z</dcterms:modified>
  <cp:revision>5</cp:revision>
  <dc:subject/>
  <dc:title>Presentación de PowerPoint</dc:title>
</cp:coreProperties>
</file>