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FE6-2A25-4442-9A72-8CE7F3B4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3F60-46B0-4FA9-AE3B-1173F492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193-8E5E-4B49-BD74-E9F8FE5E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AFE-B728-44FA-892F-AAB8E068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CE0D-5C6E-496C-83C8-A7186DA4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00ED-E5D3-4244-8448-79E31211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3265-C7D1-4A30-892A-5BD40E08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EDB3-D4A7-4725-B9EF-FCF3D808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CC96-AB33-4985-B175-22D2D547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0D93-640E-49F8-A33F-73FF8EFD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221A-7390-42C4-8337-8F52DBC0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FC4-4F95-45EC-9376-8B80CD19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F1E2-3881-47B4-B2B9-9A5EC34A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E244-C549-4A4C-A1B3-B28DB906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429C-8558-4E88-AB01-8C0D5009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8CA8-8196-4A01-B553-1CF8DF39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B469-C59E-4BDC-AE5B-F1E71B00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E312F-9933-402F-ADE5-C8FE2BC4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7DF48-0249-4570-8A89-5667D303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B4805-ABFE-4B41-875D-F96F64E8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5B423-DF5D-4D75-968B-BE98F6FE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79E0D-C696-498B-8DE5-04B79161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0E4-872C-4F4B-A9EB-B3A70E1C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78D64-2BB9-4737-8241-F67C2CC9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8B27C-87A9-4700-9B51-36CC80E9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78D06-B709-468C-A970-DC1EE7C8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1EDE9-A5BF-4ECB-9411-24AC0B84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1C78C-0A6E-4233-BADB-2D1053C0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24B4D-4217-4164-A554-922E0529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FF71C-67F9-4AD8-B2A3-956FDE60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67FF03-B12A-4C70-B417-D0A5F343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F3607E-9D8B-4102-8E23-0CAE2AA6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00A798-70E8-4620-8903-430E70F0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E97-EAE4-47C5-872C-1DA9C183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1B3BB-D518-44D7-99BD-EB32648C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08F8A-EC16-4EDC-B5FB-E3044D4C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A95FF6-244C-4663-BCE4-82BE5A61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F415D-937A-4329-974F-405AC6A0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CA87F1-DF88-4650-AE36-AAABE6A9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C0FD2E-E7B0-4DE0-A5FE-C9D8C942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FD4D3E-FCC5-457F-AD73-ECFA90A3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7F594C-BF3B-4A76-BFAE-C3C608BD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247178-588C-4033-918E-7F4086EE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8799F6-FA73-43CB-B493-088A8926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B37-185E-445F-A381-46D0DEB2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8B870-BE00-4793-BD61-48C69DB1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BE3D20-1BD2-41AD-9675-38C4CE6A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9639C-DE7F-40BD-8FEE-5A5545DF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DB6EB4-F6BB-4CC5-A7CA-88068F0C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1B57C5-F3D7-4685-B1D9-5E5304D6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9C9A04-6CBD-4BCD-A76A-16691F6F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47125C-B9A3-4713-9C68-CC0C4023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A1ECC-9C9D-4936-B46A-FEBBCD48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9472E-1EF4-4B34-9504-A09FDBAB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580CE-80A2-472B-967D-57BC1A57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521C-CFE2-4AB7-815E-B75A652E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DDAF49-14D1-42F0-AAEC-3BAC8A15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9D3D0-5AF1-4EC1-8352-7ACCE576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8469F-3539-4078-8B85-A8EAC051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57CF4-2F14-476D-8B7A-6DAAAF5C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A4650-A8A3-4330-BFAC-8562828C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17321-9B59-4B25-A8A3-7D7B5961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F6495-1BB3-46B3-B925-0EE6D987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5F903-D9FD-4C99-BF12-2802F68D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52C29-5F84-4440-ADDB-221077C5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15663-EE35-4FEF-B1B3-81E621A8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0311-7F7D-4B3D-BE63-5B7643B8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02845-AA6E-4ABB-9083-2E4A4FC5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11120-6B7B-4A4F-AB9A-4A36B4D7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0CD0E-4C7F-4276-9B1D-70FEE5A3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AC58EB-470C-4183-8A73-722D03EB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D14631-D869-4A58-BC88-D0973B85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FE66A0-333C-445D-97BD-32AA0173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12D167-B984-4BC8-99C7-E0196B6C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066716-EC72-4F6C-A7A1-99F02AD4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5986C2-8508-40A8-AB16-02E52024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C839FC-5B0E-4DE8-ABFD-3FCDEC5A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25B-FE7D-47EA-94A2-68CA1334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FF2B1A-6F40-4F5F-B31C-8C94C4AD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5BF36-4374-4C97-92AA-B2B4D33F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B8D3D1-FF5C-4E68-B7BB-0372F950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3A2DE-5659-45DF-A720-2B750ECB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55F1B3-2C81-4ED1-B9AC-9F717BA5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084B2-D9E2-42CA-8C9B-336A0B72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97711-3ED3-4959-AA42-41F220F1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D8CD8-149C-49F0-9266-57DBCE30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7C119-D131-44D8-9F41-360379F3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66427-6305-4E0F-B224-2329EC2F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FC5-A76B-49D1-80C1-767C3907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C1EE0-CA5F-4924-B0C3-D94CB64E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74774-36BA-486A-8253-B3361A01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112E6-F23A-4496-B369-04417B8E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77C55-1169-4219-993D-EAA7B092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C880B-0877-486B-8B41-C843AD57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B5A55-7FA6-41C0-ADBA-BE9A36AD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7AC92-B7A1-442F-B79D-22FB3EB3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8C4E-40FB-4513-9339-ABF7763BAB1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F796-8C3E-4DD8-9B0F-45AB8A50BC7E}" type="slidenum">
              <a:rPr b="1" lang="es-C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F9E2-BC2D-4766-8D15-7331692A8ABE}" type="slidenum"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B797-B99A-4ABE-8B42-DA0B58461F1F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34E8-3541-49CF-97BD-0D9DCF98B2D6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0682-33D8-47EF-A2DB-ED89B0BDE88A}" type="slidenum">
              <a:rPr b="1" lang="es-C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5284-69A8-44B6-BBE0-CCEBB1B786A8}" type="slidenum"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04E5-86CD-460D-854B-EBE8CEC3274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dc3"/>
                </a:solidFill>
                <a:latin typeface="Tw Cen MT"/>
              </a:rPr>
              <a:t>EVALUAR PARA QUE SE APRENDA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Afl 004"/>
          <p:cNvPicPr/>
          <p:nvPr/>
        </p:nvPicPr>
        <p:blipFill>
          <a:blip r:embed="rId1"/>
          <a:stretch/>
        </p:blipFill>
        <p:spPr>
          <a:xfrm>
            <a:off x="1403280" y="836640"/>
            <a:ext cx="61930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Afl 005"/>
          <p:cNvPicPr/>
          <p:nvPr/>
        </p:nvPicPr>
        <p:blipFill>
          <a:blip r:embed="rId1"/>
          <a:stretch/>
        </p:blipFill>
        <p:spPr>
          <a:xfrm>
            <a:off x="1476360" y="1197000"/>
            <a:ext cx="58323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Afl 006"/>
          <p:cNvPicPr/>
          <p:nvPr/>
        </p:nvPicPr>
        <p:blipFill>
          <a:blip r:embed="rId1"/>
          <a:stretch/>
        </p:blipFill>
        <p:spPr>
          <a:xfrm>
            <a:off x="1476360" y="1079640"/>
            <a:ext cx="6416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15c6f"/>
                </a:solidFill>
                <a:latin typeface="Tahoma"/>
              </a:rPr>
              <a:t>¿De qué aprendizaje se está hablando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2685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15c6f"/>
                </a:solidFill>
                <a:latin typeface="Tahoma"/>
                <a:ea typeface="Times New Roman"/>
              </a:rPr>
              <a:t>Capacidad de movilizar conocimientos, habilidades y actitudes en contextos determinados, no como conocimientos puntuales, aislados unos de otros, sino que puestos en acción y, por ende, articulado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2685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2685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15c6f"/>
                </a:solidFill>
                <a:latin typeface="Tahoma"/>
                <a:ea typeface="Times New Roman"/>
              </a:rPr>
              <a:t>Son clave en la medida que están a la base de muchos desempeños, se trata de las competencias de fondo que trascienden los aprendizajes puntua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2685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42920" y="500040"/>
          <a:ext cx="8677080" cy="5821560"/>
        </p:xfrm>
        <a:graphic>
          <a:graphicData uri="http://schemas.openxmlformats.org/drawingml/2006/table">
            <a:tbl>
              <a:tblPr/>
              <a:tblGrid>
                <a:gridCol w="4284720"/>
                <a:gridCol w="43923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endizaje profun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endizaje superfici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intento por desarrollar compresiones personales (de los temas estudiados)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intento por ser capaz de reproducir contenidos, tanto como sea necesario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acción “activa” con los contenidos, particularmente los relacionados con conocimiento previo y experiencia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eptación pasiva de ideas e informació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r principios integradores para  aglutinar idea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lta de reconocimiento de principios articuladores y patrones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ona evidencias con conclusione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alización de los esfuerzos de aprendizaje en los requerimientos de la evaluació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75f55"/>
                </a:solidFill>
                <a:latin typeface="Tw Cen MT"/>
              </a:rPr>
              <a:t>De aprender, lo que es aprender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El ser humano no aprende cosas con las que no puede establecer relaciones, o de las que no tenga la más mínima noc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05a76"/>
                </a:solidFill>
                <a:latin typeface="Tahoma"/>
              </a:rPr>
              <a:t>La evaluación de aula tradicionalmente</a:t>
            </a:r>
            <a:r>
              <a:rPr b="0" lang="es-ES" sz="4000" spc="-1" strike="noStrike">
                <a:solidFill>
                  <a:srgbClr val="205a76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205a76"/>
                </a:solidFill>
                <a:latin typeface="Tahoma"/>
              </a:rPr>
              <a:t> </a:t>
            </a:r>
            <a:r>
              <a:rPr b="1" lang="es-ES" sz="2900" spc="-1" strike="noStrike">
                <a:solidFill>
                  <a:srgbClr val="205a76"/>
                </a:solidFill>
                <a:latin typeface="Tahoma"/>
              </a:rPr>
              <a:t>Da cuenta de aprendizajes poco relevantes para el estudiante y para las expectativas curricular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205a76"/>
                </a:solidFill>
                <a:latin typeface="Tahoma"/>
              </a:rPr>
              <a:t> </a:t>
            </a:r>
            <a:r>
              <a:rPr b="1" lang="es-ES" sz="2900" spc="-1" strike="noStrike">
                <a:solidFill>
                  <a:srgbClr val="205a76"/>
                </a:solidFill>
                <a:latin typeface="Tahoma"/>
              </a:rPr>
              <a:t>Se hace bajo criterios que solo tiene el profesor en la men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205a76"/>
                </a:solidFill>
                <a:latin typeface="Tahoma"/>
              </a:rPr>
              <a:t>Se vincula a la calificación y toma importancia en momentos puntuales del proceso enseñanza y aprendizaj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05a76"/>
                </a:solidFill>
                <a:latin typeface="Tahoma"/>
              </a:rPr>
              <a:t>La evaluación contribuye a mejorar el aprendizaje de alumnos y alumnas cuando: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1749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dd8047"/>
                </a:solidFill>
                <a:uFillTx/>
                <a:latin typeface="Tahoma"/>
              </a:rPr>
              <a:t>Se basa en criterios que son conocidos y comprendidos por todo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1375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Si el parámetro es conocido y comprendido por los involucrados, permite orientar el aprendizaje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1375"/>
              </a:spcBef>
              <a:buClr>
                <a:srgbClr val="dd804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Los criterios de evaluación explicitan qué es lo que se evaluará y  ofrecen descripciones de distintos niveles de calidad en un continuo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1375"/>
              </a:spcBef>
              <a:buClr>
                <a:srgbClr val="dd804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Permiten definir niveles de desempeño para ver cuán bueno es el trabajo del estudiante y así responsabilizarse de su aprendizaj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1375"/>
              </a:spcBef>
              <a:buClr>
                <a:srgbClr val="dd804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Criterios estables permiten monitorear la progresión del aprendizaj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03:05:36Z</dcterms:created>
  <dc:creator>Carlos Ossa Illanes</dc:creator>
  <dc:description/>
  <dc:language>en-US</dc:language>
  <cp:lastModifiedBy>..</cp:lastModifiedBy>
  <dcterms:modified xsi:type="dcterms:W3CDTF">2010-05-05T17:09:21Z</dcterms:modified>
  <cp:revision>4</cp:revision>
  <dc:subject/>
  <dc:title>Evaluar para que se aprenda</dc:title>
</cp:coreProperties>
</file>