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6564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7"/>
          </p:nvPr>
        </p:nvSpPr>
        <p:spPr>
          <a:xfrm>
            <a:off x="3772080" y="-360"/>
            <a:ext cx="288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8"/>
          </p:nvPr>
        </p:nvSpPr>
        <p:spPr>
          <a:xfrm>
            <a:off x="0" y="8735760"/>
            <a:ext cx="288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9"/>
          </p:nvPr>
        </p:nvSpPr>
        <p:spPr>
          <a:xfrm>
            <a:off x="3772080" y="8735760"/>
            <a:ext cx="288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798E-8605-42F5-B526-C4E1E57B3DC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772080" y="8736120"/>
            <a:ext cx="28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5E18-6178-4658-A1F8-732A221E9C7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772080" y="8736120"/>
            <a:ext cx="28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9A47-30C4-4E8F-9E0F-6B7A7B3A18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772080" y="8736120"/>
            <a:ext cx="28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166E-AD56-489E-816D-9DB86FE1B7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772080" y="8736120"/>
            <a:ext cx="28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8234-9441-4D8F-8301-B9A62DCF74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25A-5E4C-4138-B7FA-622B759C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85F-7D44-4734-BD77-5E144FC5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0E428-1B88-4AFA-96D3-515DD1FE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3AFD6-7BA6-4BA0-9666-1C981F84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668E2-0B8F-4226-A499-54F6071E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FCB53-2E5D-4EE1-898A-AA81AB6A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CF753-F802-4F61-BA8D-E8175D8B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29256-6F3A-4FD8-9E8E-AC570A5D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3EEA9-4AB5-469C-9FCC-F98A3924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64797-15F5-4B41-A856-AA59A851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4687B-6B8D-4ACB-9947-B954398A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DFEFF-23E5-41CC-A7AC-69E3FE7E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AE5-6CC0-4158-A778-D3DB804F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DAC8E-C685-4A8E-9DB1-7818008B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B26AF-59F3-4EB7-8E8C-9475C53A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D8C10-5D54-4A93-8DE6-C907CA11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775F2-5B7B-49BE-BC05-87AD689F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B6ED4-5113-47DD-A757-074C3698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86D5D-AFA1-4A71-8645-89CD3484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93A39-9498-4DDE-BEA7-01AE69A6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2ED94-174A-4E13-B3CA-7ECB78C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A9D01-5305-4DC7-A4C2-0F619983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E1678-C58D-44A2-93E4-3674D876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346-9120-4AB9-BBBB-D50F327A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11087-B3F1-409D-BC6F-A4C4F73A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DBC6D-6755-4209-9B4D-36C1AA57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9C079-EFF4-41A3-8AD0-FEB0A687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4D6C6-AA06-4713-BC7D-7E566CFC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65EE5-6AF6-4B31-B7AD-119E6136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B9DF4-2298-4732-8F0D-3873F6AA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F6EC7-44FA-4B3A-8D75-EB3AA562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B551B-1E30-43D7-A105-50F31B9D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3C910-5694-43E9-8D28-EF213347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F5EBA-ED1F-472E-A860-CFE658DB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D57B-815E-4671-A519-5CEE41E2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27BC4-6BA2-449D-B438-07FD9767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2A9DA-603E-4938-B1B1-5D6C8501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6010C-3518-4D40-BDBB-D5F15F10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B9675-5021-4F60-9C0C-D1B5FDB3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E7C71-699A-4B0A-8E70-82E5269C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1D745-8B9E-4979-95CE-DEBD169C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A85E7-F8C9-49AA-85D5-82C3F375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834FB-581A-45EA-BD38-E59E150B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72F23-9EA7-45BE-BA2A-959AE809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4D737-EB8D-45C7-9D1B-5D637750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3D78-3C32-4BB4-A3D9-086556C6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0EAB5-F615-44F7-943A-F38B7E58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B28BB-AF79-41B1-A27C-77716BA8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A5CD2-2391-4354-AE67-58EB5581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6506C-1C26-44F9-A2A4-B5038F3A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2FA53-3B7D-44F6-AAC9-C9A16A19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B363-57CF-4A3C-B1BE-91C009C8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ECD2-A79B-43DF-AE2D-C6504681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9C66-2949-4D3C-94B0-22A23CF2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682E-1BC4-46B7-AA7B-4B12F146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5181-918D-4AA4-8C4B-54EFDDC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11A-5B97-4557-9E09-A8CF496F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6EF1-CB2C-4DAD-AF28-090FCA1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FE9E-99F7-453B-A11A-7314C41F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1021-FD54-4386-833E-97855A9C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B04D-C6CD-4F37-8006-EB176BD6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F330-76AB-4E41-A84E-C3AD7C02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DF27-04FC-4A4E-A2EC-CAFAE467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E53CD-DA88-443C-BB09-36DDFE59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4B6A-96F8-4452-89AF-BC649B05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B6B07-7EC0-41EF-8E86-5409313D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C9FC9-571D-4D51-9C7A-5CD5FCE7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FC8-66A3-410F-B58E-B5CA15A9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2816-FE13-4E24-8BE0-D7332C4B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5A76-A2D7-454B-BF90-706A8CD3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41B1-87A7-4DF0-8D45-3B505FA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9B4B-7E64-42D6-A6C3-8D1FA021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74AA-E519-45FC-AC20-34A76B2B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4ACB-A05D-4E19-8EA1-C456F614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C2C79-CA47-484C-98C4-C825A6CB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D0B54-2402-4A32-8608-36445F74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C12E7-1815-4EDE-ABEA-FC88EAFE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E609-666F-4832-AA04-C7364BDF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564-BB25-4382-A9E3-9AF9BCB3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1F170-4768-4649-8BF3-10B9BC36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748D2-49E6-40E4-84F6-DF88FA99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230A-5967-4531-AF53-11EE35AE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14257-B467-4E38-921A-944C9F78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7D8F7-5B94-4569-8423-8B4D0A46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8655A-EE33-439F-B569-566225C7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6DB04-96B2-497F-8E68-53AE5A08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E13D1-23C9-4D8F-9E35-8E29CDA6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5B36A-7B1F-46A3-BD5A-D45B9B2C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7F953-6303-455C-8CF2-7EE186FC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82D-5C4F-4591-8F23-E42BD734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1AE6A-8F7E-4ED0-B8B4-FCF41D8A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75F02-B6B7-4A8C-A58A-15A6CFD5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C6EF9-816B-4E21-B0DE-4C4DF14D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506C2-6968-462C-846C-68DDE866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D514D-6ED1-45B8-8D95-CB3B534F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647F1-C964-41E4-98FF-AAA9F9D7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D4DBC-B48C-4B1C-AAEA-865D2FEB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9B7F3-3FCF-48F2-8D0D-CEE9B1CF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A61F-91F4-45E5-9FD7-C6676FAF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621DE-A43C-4BF0-B4FF-74C28B6A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E1C-6C6A-4BD7-BC55-9AF9B3DE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E18BF-E5A0-49C4-85C3-7BCDDF35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982F2-D104-48FA-8135-830CCB48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875A5-9406-482F-B6F2-BE0794EA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765B2-6C76-4289-9932-8841CED5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6B59-9ED7-4A78-8379-13E3771B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120F8-33A2-4022-BF94-E6B5EC40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54CA6-F594-402F-9038-739A4760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C4874-A7DB-4079-ACDC-26E3D56E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CEF2E-2D38-4053-BC8F-C65A9185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CEAEE-4529-42D4-80B4-34D48FCC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E2D-D998-45DF-8ED7-D5A0CCF1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DB933-0DA8-41E9-8236-9093D764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3641F-9065-4216-A74D-EF60FD72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2FA9B-3931-40E5-BC65-0225DC65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6C04B-A6BB-4B7F-9A6A-1E3C0EDB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27418-BBF3-43E6-83AE-A28DB82F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54E8B-5B57-451C-A385-09ABC114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9A59F-443B-4137-A32F-F84CF92F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2479F-1CA3-4F93-A28D-62AF4358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336D6-0911-40F6-8E02-2D551B3A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A6C1A-A09F-418E-8EA4-C6F7E7D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1BD-D67A-42D2-B599-17195BB7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73F31-A80E-4667-9CB3-2F9F5F9B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5E189-D1B1-4DF8-B9CD-300CE3C2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1078A-6605-4609-91F8-6F93826A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B6EE7-2CCB-4AB0-8C96-FD3FCE24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0E269-56AA-44A3-B07C-132CE35F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A5D6E-42AF-4292-89C0-15950260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6CB72-0426-47DD-9FB8-7A3D883E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E3791-8AFB-4152-9211-8A23B18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575AC-2EA8-461F-AAD5-EE4FDA3E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76C68-FEAF-430C-A6BD-40DF6DCD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ECD-8A97-4187-86D3-A885A143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421D4-069F-4050-BBAF-6D68ADEE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3C9B4-8692-4491-83E1-F9EFCD03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2D1AC-8E8F-4073-91AF-C61486F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58F45-19A2-4D90-84A2-EA2FF5CC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5C817-D104-46C2-8593-2C6BD04C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3AA7A-8921-432D-8E91-10BFAB79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FC87E-6501-48CE-8248-3CB80B5A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53320-A61E-4AFA-903E-C7855CB1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CA5D4-6FA0-4808-A037-3AC385BD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89188-9F38-4872-A83D-B7D7B0B4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652320" y="81000"/>
            <a:ext cx="7848720" cy="952560"/>
            <a:chOff x="652320" y="81000"/>
            <a:chExt cx="7848720" cy="952560"/>
          </a:xfrm>
        </p:grpSpPr>
        <p:pic>
          <p:nvPicPr>
            <p:cNvPr id="1" name="Picture 9" descr="161"/>
            <p:cNvPicPr/>
            <p:nvPr/>
          </p:nvPicPr>
          <p:blipFill>
            <a:blip r:embed="rId2"/>
            <a:stretch/>
          </p:blipFill>
          <p:spPr>
            <a:xfrm>
              <a:off x="5605200" y="81000"/>
              <a:ext cx="28958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8" descr="uchile"/>
            <p:cNvPicPr/>
            <p:nvPr/>
          </p:nvPicPr>
          <p:blipFill>
            <a:blip r:embed="rId3"/>
            <a:srcRect l="26272" t="0" r="0" b="34073"/>
            <a:stretch/>
          </p:blipFill>
          <p:spPr>
            <a:xfrm>
              <a:off x="652320" y="81000"/>
              <a:ext cx="497196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037A-AB5E-4961-BE41-C7DF43422D7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0C95-46C2-4716-9C56-4C62BD744AF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315E-D474-4701-A1F1-8ADAC5A58D4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EDD7-6F35-4EC6-916F-ADAEA3CA49E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4744-8C14-4F1B-8A99-72E6E4F59CC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1054-C5E4-469C-AC5A-55BEE4E19B8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F5C9-A729-4246-8BDE-00A73354474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7AAA-D704-4610-AA80-1D9BB00B488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AC99-D537-45FF-9F95-5450AFF6C1F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BBA2-E749-43AF-947D-02445051671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C41E-73BE-44B6-A453-A42CD865C1D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A760-E5D9-43E7-B2DA-6DD4F97243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cc"/>
                </a:solidFill>
                <a:latin typeface="Calibri"/>
              </a:rPr>
              <a:t>Evaluación para el aprendizaje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90033"/>
                </a:solidFill>
                <a:latin typeface="Calibri"/>
              </a:rPr>
              <a:t>Una experiencia en aula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5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cc"/>
                </a:solidFill>
                <a:latin typeface="Verdana"/>
              </a:rPr>
              <a:t>CONCLUSIONES</a:t>
            </a:r>
            <a:br>
              <a:rPr sz="2800"/>
            </a:br>
            <a:r>
              <a:rPr b="0" lang="es-CL" sz="2800" spc="-1" strike="noStrike">
                <a:solidFill>
                  <a:srgbClr val="0000cc"/>
                </a:solidFill>
                <a:latin typeface="Verdana"/>
              </a:rPr>
              <a:t>Cambiar prácticas evaluativas requiere</a:t>
            </a:r>
            <a:endParaRPr b="0" lang="en-US" sz="28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57140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1 </a:t>
            </a: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Saber qué y por qué evaluar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Saber cómo evaluar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Predomina el hacer</a:t>
            </a:r>
            <a:r>
              <a:rPr b="0" lang="es-CL" sz="2800" spc="-1" strike="noStrike">
                <a:solidFill>
                  <a:srgbClr val="0000cc"/>
                </a:solidFill>
                <a:latin typeface="Times New Roman"/>
              </a:rPr>
              <a:t> y necesariamente involucra sus alumn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Ensayo y error.....</a:t>
            </a:r>
            <a:r>
              <a:rPr b="0" lang="es-CL" sz="2800" spc="-1" strike="noStrike">
                <a:solidFill>
                  <a:srgbClr val="0000cc"/>
                </a:solidFill>
                <a:latin typeface="Times New Roman"/>
              </a:rPr>
              <a:t>tener con quién(es) reflexionar críticamente acerca de la práctica, recomenzar, tomar decisiones (colegas, UTP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Apoyo institucional</a:t>
            </a:r>
            <a:r>
              <a:rPr b="0" lang="es-CL" sz="2800" spc="-1" strike="noStrike">
                <a:solidFill>
                  <a:srgbClr val="0000cc"/>
                </a:solidFill>
                <a:latin typeface="Times New Roman"/>
              </a:rPr>
              <a:t> tiempo, espacio, apertura (UTP, Sostenedor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mimi"/>
          <p:cNvPicPr/>
          <p:nvPr/>
        </p:nvPicPr>
        <p:blipFill>
          <a:blip r:embed="rId1"/>
          <a:srcRect l="0" t="0" r="0" b="47341"/>
          <a:stretch/>
        </p:blipFill>
        <p:spPr>
          <a:xfrm>
            <a:off x="380880" y="1143000"/>
            <a:ext cx="8229600" cy="244008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grpSp>
        <p:nvGrpSpPr>
          <p:cNvPr id="546" name="Group 3"/>
          <p:cNvGrpSpPr/>
          <p:nvPr/>
        </p:nvGrpSpPr>
        <p:grpSpPr>
          <a:xfrm>
            <a:off x="380880" y="3733920"/>
            <a:ext cx="8153640" cy="2490840"/>
            <a:chOff x="380880" y="3733920"/>
            <a:chExt cx="8153640" cy="2490840"/>
          </a:xfrm>
        </p:grpSpPr>
        <p:pic>
          <p:nvPicPr>
            <p:cNvPr id="547" name="Picture 4" descr="eva 1"/>
            <p:cNvPicPr/>
            <p:nvPr/>
          </p:nvPicPr>
          <p:blipFill>
            <a:blip r:embed="rId2"/>
            <a:srcRect l="0" t="47985" r="0" b="30867"/>
            <a:stretch/>
          </p:blipFill>
          <p:spPr>
            <a:xfrm>
              <a:off x="380880" y="3733920"/>
              <a:ext cx="8153640" cy="2490840"/>
            </a:xfrm>
            <a:prstGeom prst="rect">
              <a:avLst/>
            </a:prstGeom>
            <a:ln w="28440">
              <a:solidFill>
                <a:srgbClr val="ccccff"/>
              </a:solidFill>
              <a:miter/>
            </a:ln>
          </p:spPr>
        </p:pic>
        <p:sp>
          <p:nvSpPr>
            <p:cNvPr id="548" name="Line 5"/>
            <p:cNvSpPr/>
            <p:nvPr/>
          </p:nvSpPr>
          <p:spPr>
            <a:xfrm>
              <a:off x="4952880" y="449568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>
              <a:off x="2133720" y="480060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7"/>
            <p:cNvSpPr/>
            <p:nvPr/>
          </p:nvSpPr>
          <p:spPr>
            <a:xfrm>
              <a:off x="2895480" y="487692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8"/>
            <p:cNvSpPr/>
            <p:nvPr/>
          </p:nvSpPr>
          <p:spPr>
            <a:xfrm>
              <a:off x="4495680" y="518148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9"/>
            <p:cNvSpPr/>
            <p:nvPr/>
          </p:nvSpPr>
          <p:spPr>
            <a:xfrm>
              <a:off x="2514600" y="594360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0"/>
            <p:cNvSpPr/>
            <p:nvPr/>
          </p:nvSpPr>
          <p:spPr>
            <a:xfrm>
              <a:off x="5334120" y="5943600"/>
              <a:ext cx="20574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1"/>
            <p:cNvSpPr/>
            <p:nvPr/>
          </p:nvSpPr>
          <p:spPr>
            <a:xfrm>
              <a:off x="4191120" y="594360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2"/>
            <p:cNvSpPr/>
            <p:nvPr/>
          </p:nvSpPr>
          <p:spPr>
            <a:xfrm>
              <a:off x="2895480" y="556272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3"/>
            <p:cNvSpPr/>
            <p:nvPr/>
          </p:nvSpPr>
          <p:spPr>
            <a:xfrm>
              <a:off x="2362320" y="457200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4"/>
            <p:cNvSpPr/>
            <p:nvPr/>
          </p:nvSpPr>
          <p:spPr>
            <a:xfrm>
              <a:off x="6705720" y="548640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5"/>
            <p:cNvSpPr/>
            <p:nvPr/>
          </p:nvSpPr>
          <p:spPr>
            <a:xfrm>
              <a:off x="7772400" y="548640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Text Box 16"/>
          <p:cNvSpPr/>
          <p:nvPr/>
        </p:nvSpPr>
        <p:spPr>
          <a:xfrm>
            <a:off x="533520" y="533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trick Süskind,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 Perf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7"/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058"/>
          <p:cNvSpPr/>
          <p:nvPr/>
        </p:nvSpPr>
        <p:spPr>
          <a:xfrm>
            <a:off x="380880" y="105084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Pregunta: ¿Cómo es el personaje de C. Auguste Dupin y por qué el protagonista lo describe como una persona analítica?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2060"/>
          <p:cNvSpPr/>
          <p:nvPr/>
        </p:nvSpPr>
        <p:spPr>
          <a:xfrm>
            <a:off x="762120" y="2300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mn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Object 2059" descr=""/>
          <p:cNvPicPr/>
          <p:nvPr/>
        </p:nvPicPr>
        <p:blipFill>
          <a:blip r:embed="rId1"/>
          <a:stretch/>
        </p:blipFill>
        <p:spPr>
          <a:xfrm>
            <a:off x="685800" y="2629080"/>
            <a:ext cx="7616880" cy="11048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2061"/>
          <p:cNvSpPr/>
          <p:nvPr/>
        </p:nvSpPr>
        <p:spPr>
          <a:xfrm>
            <a:off x="838080" y="39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mn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Object 2062"/>
          <p:cNvGraphicFramePr/>
          <p:nvPr/>
        </p:nvGraphicFramePr>
        <p:xfrm>
          <a:off x="685800" y="4200480"/>
          <a:ext cx="7620120" cy="12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6" name="Object 20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200480"/>
                    <a:ext cx="76201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Rectangle 2064"/>
          <p:cNvSpPr/>
          <p:nvPr/>
        </p:nvSpPr>
        <p:spPr>
          <a:xfrm>
            <a:off x="914400" y="5653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mn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Object 2067"/>
          <p:cNvGraphicFramePr/>
          <p:nvPr/>
        </p:nvGraphicFramePr>
        <p:xfrm>
          <a:off x="685800" y="5952960"/>
          <a:ext cx="762480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9" name="Object 206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952960"/>
                    <a:ext cx="76248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AutoShape 2069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prueba1"/>
          <p:cNvPicPr/>
          <p:nvPr/>
        </p:nvPicPr>
        <p:blipFill>
          <a:blip r:embed="rId1"/>
          <a:stretch/>
        </p:blipFill>
        <p:spPr>
          <a:xfrm>
            <a:off x="1600200" y="838080"/>
            <a:ext cx="5486400" cy="579132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6"/>
          <p:cNvSpPr/>
          <p:nvPr/>
        </p:nvSpPr>
        <p:spPr>
          <a:xfrm>
            <a:off x="1143000" y="304920"/>
            <a:ext cx="723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Calendario de Pruebas II Semestre 2010</a:t>
            </a:r>
            <a:endParaRPr b="0" lang="en-US" sz="2800" spc="-1" strike="noStrike">
              <a:solidFill>
                <a:srgbClr val="0000cc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57200" y="1782720"/>
          <a:ext cx="8570880" cy="4848120"/>
        </p:xfrm>
        <a:graphic>
          <a:graphicData uri="http://schemas.openxmlformats.org/drawingml/2006/table">
            <a:tbl>
              <a:tblPr/>
              <a:tblGrid>
                <a:gridCol w="1617840"/>
                <a:gridCol w="1535040"/>
                <a:gridCol w="541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FEC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UN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NTENI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12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3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istema de Ecu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-Métodos para la resolución de sistemas de ecuaciones.-Aplicación de los sistemas de ecuaciones a problemas de plante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80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2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laciones y Fun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-Formas de expresión una relación perteneciente a un producto cartesiano.-Representación de una relación  en el plano cartesiano.-Determinación y Recorrido de una relación.-Funciones y clasificación de funci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8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Geometría  Ana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-Representación de puntos en el plano.-Cálculo de pendientes y ángulo de inclinación de la recta en el plano cartesiano.-Coordinadas del punto medio.-Distancia entre 2 pun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AutoShape 136"/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037"/>
          <p:cNvSpPr/>
          <p:nvPr/>
        </p:nvSpPr>
        <p:spPr>
          <a:xfrm>
            <a:off x="457200" y="2514600"/>
            <a:ext cx="7620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Evaluación frecuentemente desvinculada de aprendizajes claves o cent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040"/>
          <p:cNvSpPr/>
          <p:nvPr/>
        </p:nvSpPr>
        <p:spPr>
          <a:xfrm>
            <a:off x="457200" y="3352680"/>
            <a:ext cx="762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Preguntas y tareas muy a menudo rutinarias, prima la memorización, uso de algoritmos, sin presencia de problematización, conceptualización, análisis cr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41"/>
          <p:cNvSpPr/>
          <p:nvPr/>
        </p:nvSpPr>
        <p:spPr>
          <a:xfrm>
            <a:off x="457200" y="4876920"/>
            <a:ext cx="769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Notas </a:t>
            </a: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c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arentes de significado, en términos descriptivos</a:t>
            </a: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43"/>
          <p:cNvSpPr/>
          <p:nvPr/>
        </p:nvSpPr>
        <p:spPr>
          <a:xfrm>
            <a:off x="457200" y="569268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Poco frecuente retroalimentación a los alumnos, más allá de la 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Calibri"/>
              </a:rPr>
              <a:t>Evaluación en la actualidad</a:t>
            </a:r>
            <a:endParaRPr b="0" lang="en-US" sz="4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09" name="AutoShape 1029"/>
          <p:cNvSpPr/>
          <p:nvPr/>
        </p:nvSpPr>
        <p:spPr>
          <a:xfrm>
            <a:off x="8229600" y="2819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32"/>
          <p:cNvSpPr/>
          <p:nvPr/>
        </p:nvSpPr>
        <p:spPr>
          <a:xfrm>
            <a:off x="82296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33"/>
          <p:cNvSpPr/>
          <p:nvPr/>
        </p:nvSpPr>
        <p:spPr>
          <a:xfrm>
            <a:off x="8229600" y="5029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038"/>
          <p:cNvSpPr/>
          <p:nvPr/>
        </p:nvSpPr>
        <p:spPr>
          <a:xfrm>
            <a:off x="82296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044"/>
          <p:cNvSpPr/>
          <p:nvPr/>
        </p:nvSpPr>
        <p:spPr>
          <a:xfrm>
            <a:off x="4495680" y="1752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11"/>
          <p:cNvGrpSpPr/>
          <p:nvPr/>
        </p:nvGrpSpPr>
        <p:grpSpPr>
          <a:xfrm>
            <a:off x="914400" y="2743200"/>
            <a:ext cx="6934320" cy="3276720"/>
            <a:chOff x="914400" y="2743200"/>
            <a:chExt cx="6934320" cy="3276720"/>
          </a:xfrm>
        </p:grpSpPr>
        <p:sp>
          <p:nvSpPr>
            <p:cNvPr id="515" name="Oval 2"/>
            <p:cNvSpPr/>
            <p:nvPr/>
          </p:nvSpPr>
          <p:spPr>
            <a:xfrm>
              <a:off x="1219320" y="2743200"/>
              <a:ext cx="2057400" cy="1752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cc"/>
                  </a:solidFill>
                  <a:latin typeface="Verdana"/>
                </a:rPr>
                <a:t>Enseñan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3"/>
            <p:cNvSpPr/>
            <p:nvPr/>
          </p:nvSpPr>
          <p:spPr>
            <a:xfrm>
              <a:off x="5334120" y="2819520"/>
              <a:ext cx="198108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cc"/>
                  </a:solidFill>
                  <a:latin typeface="Verdana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4"/>
            <p:cNvSpPr/>
            <p:nvPr/>
          </p:nvSpPr>
          <p:spPr>
            <a:xfrm>
              <a:off x="914400" y="4952880"/>
              <a:ext cx="693432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cc"/>
                  </a:solidFill>
                  <a:latin typeface="Verdana"/>
                </a:rPr>
                <a:t>Dos mom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cc"/>
                  </a:solidFill>
                  <a:latin typeface="Verdana"/>
                </a:rPr>
                <a:t>separadas en tiempo, espacio y propósi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5"/>
            <p:cNvSpPr/>
            <p:nvPr/>
          </p:nvSpPr>
          <p:spPr>
            <a:xfrm flipV="1">
              <a:off x="4343400" y="35812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6"/>
            <p:cNvSpPr/>
            <p:nvPr/>
          </p:nvSpPr>
          <p:spPr>
            <a:xfrm>
              <a:off x="3657600" y="3581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AutoShape 9"/>
          <p:cNvSpPr/>
          <p:nvPr/>
        </p:nvSpPr>
        <p:spPr>
          <a:xfrm>
            <a:off x="8305920" y="5867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685800" y="10810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es-CL" sz="3600" spc="-1" strike="noStrike">
                <a:solidFill>
                  <a:srgbClr val="990000"/>
                </a:solidFill>
                <a:latin typeface="Verdana"/>
              </a:rPr>
              <a:t>Evaluación es equivalente a calif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1" lang="es-CL" sz="4000" spc="-1" strike="noStrike">
                <a:solidFill>
                  <a:srgbClr val="0000cc"/>
                </a:solidFill>
                <a:latin typeface="Verdana"/>
              </a:rPr>
              <a:t>II “</a:t>
            </a:r>
            <a:r>
              <a:rPr b="1" lang="es-ES" sz="4000" spc="-1" strike="noStrike">
                <a:solidFill>
                  <a:srgbClr val="0000cc"/>
                </a:solidFill>
                <a:latin typeface="Verdana"/>
              </a:rPr>
              <a:t>Evaluación </a:t>
            </a:r>
            <a:r>
              <a:rPr b="1" lang="es-CL" sz="4000" spc="-1" strike="noStrike">
                <a:solidFill>
                  <a:srgbClr val="0000cc"/>
                </a:solidFill>
                <a:latin typeface="Verdana"/>
              </a:rPr>
              <a:t>P</a:t>
            </a:r>
            <a:r>
              <a:rPr b="1" lang="es-ES" sz="4000" spc="-1" strike="noStrike">
                <a:solidFill>
                  <a:srgbClr val="0000cc"/>
                </a:solidFill>
                <a:latin typeface="Verdana"/>
              </a:rPr>
              <a:t>ara el</a:t>
            </a:r>
            <a:r>
              <a:rPr b="1" lang="es-CL" sz="4000" spc="-1" strike="noStrike">
                <a:solidFill>
                  <a:srgbClr val="0000cc"/>
                </a:solidFill>
                <a:latin typeface="Verdana"/>
              </a:rPr>
              <a:t> Aprendizaje”</a:t>
            </a:r>
            <a:endParaRPr b="0" lang="en-US" sz="4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23" name="AutoShape 7"/>
          <p:cNvSpPr/>
          <p:nvPr/>
        </p:nvSpPr>
        <p:spPr>
          <a:xfrm>
            <a:off x="8534520" y="2666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8"/>
          <p:cNvSpPr/>
          <p:nvPr/>
        </p:nvSpPr>
        <p:spPr>
          <a:xfrm>
            <a:off x="853452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9"/>
          <p:cNvSpPr/>
          <p:nvPr/>
        </p:nvSpPr>
        <p:spPr>
          <a:xfrm>
            <a:off x="8534520" y="4724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10"/>
          <p:cNvSpPr/>
          <p:nvPr/>
        </p:nvSpPr>
        <p:spPr>
          <a:xfrm>
            <a:off x="853452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304920" y="2438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646b86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Concepción de evaluación como </a:t>
            </a: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componente </a:t>
            </a:r>
            <a:r>
              <a:rPr b="0" lang="es-ES_tradnl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constitutivo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 del proceso de enseñanza 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y de 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aprendizaj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3"/>
          <p:cNvSpPr/>
          <p:nvPr/>
        </p:nvSpPr>
        <p:spPr>
          <a:xfrm>
            <a:off x="304920" y="35053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990033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Criterios preestablecidos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, compartidos entre 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alumnos y</a:t>
            </a:r>
            <a:r>
              <a:rPr b="0" lang="es-CL" sz="2800" spc="-1" strike="noStrike">
                <a:solidFill>
                  <a:srgbClr val="646b86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profesores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4"/>
          <p:cNvSpPr/>
          <p:nvPr/>
        </p:nvSpPr>
        <p:spPr>
          <a:xfrm>
            <a:off x="304920" y="54864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990033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Retroalimentación efectiv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volucr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profesore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alumnos en los datos que se obtienen de la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304920" y="43434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990033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Expectativas de aprendizaje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 claras y conocidas 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previamente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Object 2"/>
          <p:cNvGraphicFramePr/>
          <p:nvPr/>
        </p:nvGraphicFramePr>
        <p:xfrm>
          <a:off x="2081160" y="762120"/>
          <a:ext cx="508176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1160" y="762120"/>
                    <a:ext cx="5081760" cy="601956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1" dur="1" fill="hold"/>
                                  <p:tgtEl>
                                    <p:spTgt spid="5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Object 1026"/>
          <p:cNvGraphicFramePr/>
          <p:nvPr/>
        </p:nvGraphicFramePr>
        <p:xfrm>
          <a:off x="1752480" y="990720"/>
          <a:ext cx="5867640" cy="57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990720"/>
                    <a:ext cx="5867640" cy="570528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5" name="AutoShape 1027"/>
          <p:cNvSpPr/>
          <p:nvPr/>
        </p:nvSpPr>
        <p:spPr>
          <a:xfrm>
            <a:off x="8305920" y="6019920"/>
            <a:ext cx="509400" cy="5857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34">
                <a:moveTo>
                  <a:pt x="0" y="0"/>
                </a:moveTo>
                <a:lnTo>
                  <a:pt x="21600" y="0"/>
                </a:lnTo>
                <a:lnTo>
                  <a:pt x="21600" y="24834"/>
                </a:lnTo>
                <a:lnTo>
                  <a:pt x="0" y="24834"/>
                </a:lnTo>
                <a:close/>
              </a:path>
              <a:path fill="lightenLess" w="21600" h="24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4">
                <a:moveTo>
                  <a:pt x="21600" y="0"/>
                </a:moveTo>
                <a:lnTo>
                  <a:pt x="21600" y="24834"/>
                </a:lnTo>
                <a:lnTo>
                  <a:pt x="20200" y="23434"/>
                </a:lnTo>
                <a:lnTo>
                  <a:pt x="20200" y="1400"/>
                </a:lnTo>
                <a:close/>
              </a:path>
              <a:path fill="darkenLess" w="21600" h="24834">
                <a:moveTo>
                  <a:pt x="21600" y="24834"/>
                </a:moveTo>
                <a:lnTo>
                  <a:pt x="0" y="24834"/>
                </a:lnTo>
                <a:lnTo>
                  <a:pt x="1400" y="23434"/>
                </a:lnTo>
                <a:lnTo>
                  <a:pt x="20200" y="23434"/>
                </a:lnTo>
                <a:close/>
              </a:path>
              <a:path fill="lighten" w="21600" h="24834">
                <a:moveTo>
                  <a:pt x="0" y="24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4"/>
                </a:lnTo>
                <a:close/>
              </a:path>
              <a:path fill="darken" w="21600" h="24834">
                <a:moveTo>
                  <a:pt x="3794" y="9110"/>
                </a:moveTo>
                <a:lnTo>
                  <a:pt x="7301" y="9110"/>
                </a:lnTo>
                <a:lnTo>
                  <a:pt x="7301" y="14445"/>
                </a:lnTo>
                <a:cubicBezTo>
                  <a:pt x="7301" y="15368"/>
                  <a:pt x="8102" y="16099"/>
                  <a:pt x="9138" y="16099"/>
                </a:cubicBezTo>
                <a:lnTo>
                  <a:pt x="10800" y="16099"/>
                </a:lnTo>
                <a:cubicBezTo>
                  <a:pt x="11836" y="16099"/>
                  <a:pt x="12636" y="15368"/>
                  <a:pt x="12636" y="14445"/>
                </a:cubicBezTo>
                <a:lnTo>
                  <a:pt x="12636" y="9110"/>
                </a:lnTo>
                <a:lnTo>
                  <a:pt x="10800" y="9110"/>
                </a:lnTo>
                <a:lnTo>
                  <a:pt x="14308" y="5602"/>
                </a:lnTo>
                <a:lnTo>
                  <a:pt x="17981" y="9110"/>
                </a:lnTo>
                <a:lnTo>
                  <a:pt x="16144" y="9110"/>
                </a:lnTo>
                <a:lnTo>
                  <a:pt x="16144" y="14445"/>
                </a:lnTo>
                <a:cubicBezTo>
                  <a:pt x="16144" y="17213"/>
                  <a:pt x="13568" y="19772"/>
                  <a:pt x="10800" y="19772"/>
                </a:cubicBezTo>
                <a:lnTo>
                  <a:pt x="9138" y="19772"/>
                </a:lnTo>
                <a:cubicBezTo>
                  <a:pt x="6370" y="19772"/>
                  <a:pt x="3794" y="17213"/>
                  <a:pt x="3794" y="14445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Verdana"/>
              </a:rPr>
              <a:t>Comprensión del problema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357120" y="99972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Times New Roman"/>
              </a:rPr>
              <a:t>¿Hasta qué punto demuestra </a:t>
            </a:r>
            <a:r>
              <a:rPr b="0" lang="es-ES_tradnl" sz="1800" spc="-1" strike="noStrike">
                <a:solidFill>
                  <a:srgbClr val="0000cc"/>
                </a:solidFill>
                <a:latin typeface="Times New Roman"/>
              </a:rPr>
              <a:t>comprensión del tema, de las ideas o los sentimientos sobre los cuales está escribiendo o hablando</a:t>
            </a:r>
            <a:r>
              <a:rPr b="0" lang="es-ES" sz="1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28600" y="1523880"/>
          <a:ext cx="8686800" cy="4943520"/>
        </p:xfrm>
        <a:graphic>
          <a:graphicData uri="http://schemas.openxmlformats.org/drawingml/2006/table">
            <a:tbl>
              <a:tblPr/>
              <a:tblGrid>
                <a:gridCol w="1600200"/>
                <a:gridCol w="7086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ivel de log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Excelent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9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as ideas y sentimientos expresados demuestran una comprensión acabada del tema con sus matices y complejidades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9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Establece con habilidad conexiones entre las ideas que expone e ilustra sus ideas con 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ejemplos pertinentes y original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Buen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9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as ideas y sentimientos expresados demuestran comprensión buena del tema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9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Las relaciones que establece entre ideas son generalmente apropiadas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Los ejemplos usados para ilustrar las ideas son apropiad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atisfactori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9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as ideas y sentimientos expresados demuestran una comprensión básica del tema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9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Se establece algunas relaciones entre las ideas aunque éstas no siempre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9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son apropiadas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Intenta ilustrar algunas de sus ideas con ejemplo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satisfacto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9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as ideas y sentimientos expresados demuestran poca comprensión del te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in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	</a:t>
            </a:r>
            <a:br>
              <a:rPr sz="4400"/>
            </a:br>
            <a:r>
              <a:rPr b="0" lang="es-CL" sz="2800" spc="-1" strike="noStrike">
                <a:solidFill>
                  <a:srgbClr val="0000cc"/>
                </a:solidFill>
                <a:latin typeface="Verdana"/>
                <a:ea typeface="Times New Roman"/>
              </a:rPr>
              <a:t>CONCLUSIONES</a:t>
            </a:r>
            <a:br>
              <a:rPr sz="2800"/>
            </a:br>
            <a:r>
              <a:rPr b="1" lang="es-ES" sz="2800" spc="-1" strike="noStrike" u="sng">
                <a:solidFill>
                  <a:srgbClr val="0000cc"/>
                </a:solidFill>
                <a:uFillTx/>
                <a:latin typeface="Verdana"/>
                <a:ea typeface="Times New Roman"/>
              </a:rPr>
              <a:t>¿</a:t>
            </a:r>
            <a:r>
              <a:rPr b="1" lang="es-ES" sz="2800" spc="-1" strike="noStrike">
                <a:solidFill>
                  <a:srgbClr val="0000cc"/>
                </a:solidFill>
                <a:latin typeface="Verdana"/>
                <a:ea typeface="Times New Roman"/>
              </a:rPr>
              <a:t>Puede la evaluación mejorar el aprendizaje de los alumnos?</a:t>
            </a:r>
            <a:r>
              <a:rPr b="1" lang="es-ES" sz="3600" spc="-1" strike="noStrike" u="sng">
                <a:solidFill>
                  <a:srgbClr val="0000cc"/>
                </a:solidFill>
                <a:uFillTx/>
                <a:latin typeface="Verdan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a investigación </a:t>
            </a:r>
            <a:r>
              <a:rPr b="0" lang="es-ES_tradnl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s-E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eciente ha</a:t>
            </a:r>
            <a:r>
              <a:rPr b="0" lang="es-CL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de</a:t>
            </a:r>
            <a:r>
              <a:rPr b="0" lang="es-E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ostrado que la respuesta a esta</a:t>
            </a:r>
            <a:r>
              <a:rPr b="0" lang="es-ES_tradnl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s-E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egunta es un inequívoco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'sí'.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Verdana"/>
              </a:rPr>
              <a:t>CONCLUSIONES</a:t>
            </a:r>
            <a:br>
              <a:rPr sz="3200"/>
            </a:br>
            <a:r>
              <a:rPr b="0" lang="es-ES" sz="3200" spc="-1" strike="noStrike">
                <a:solidFill>
                  <a:srgbClr val="0000cc"/>
                </a:solidFill>
                <a:latin typeface="Verdana"/>
              </a:rPr>
              <a:t>Desde la investigación y la teoría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0000cc"/>
                </a:solidFill>
                <a:latin typeface="Verdana"/>
              </a:rPr>
              <a:t>Conclusiones concordantes en las distintas investigaciones</a:t>
            </a:r>
            <a:endParaRPr b="0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M., Beattie, J., &amp; Dockrell, W. (1993). </a:t>
            </a:r>
            <a:r>
              <a:rPr b="0" i="1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issues in higher education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University of Newcastle upon Tyne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lack, P., and Wiliam, D. (1998a). Assessment and classroom learning. Assessment in Education, 5 (1): 7-74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lack, P. and Wiliam, D. (1998b). Inside the black box: Raising standards through classroom assessment. 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hi Delta Kappan, 80 (2): 139-148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d, D. (1986). </a:t>
            </a:r>
            <a:r>
              <a:rPr b="0" i="1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Student Self-Assessment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ol. No 5). Campbelltown: HERDSA.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erman, J.L., Ashbacher, P.R., and Winters, L. (1992). A Practical Guide to Alternative Assessment. Alexandria, VA: Association for Supervision and Curriculum Development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es, R., McInnis, C. and Devlin, M. (2002). </a:t>
            </a:r>
            <a:r>
              <a:rPr b="0" i="1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ing Learning in Australian Universitie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ctoria: Centre for the Study of Higher Education University of Melbourne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ght, P. (Ed.). (1995). </a:t>
            </a:r>
            <a:r>
              <a:rPr b="0" i="1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for Learning in Higher Education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ondon: Kogan Page Ltd.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cCurdy, B.L., and Shapiro, E.S. (1992). A comparison of teacher monitoring, peer monitoring, and self-monitoring with curriculum-based measurement in reading among students with learning disabilities. Journal of Special Education, 26 (2): 162-180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amaprasad, A. (1983). On the definition of feedback. Behavioral Science, 28 (1): 4-13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dler, D.R. (1989). Formative assessment and the design of instructional systems. Instructional Science, 18 (2): 119-144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.........esto es sólo la punta del iceberg de los últimos quince años..........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7:50:55Z</dcterms:created>
  <dc:creator>mbick</dc:creator>
  <dc:description/>
  <dc:language>en-US</dc:language>
  <cp:lastModifiedBy>..</cp:lastModifiedBy>
  <dcterms:modified xsi:type="dcterms:W3CDTF">2010-04-22T23:21:56Z</dcterms:modified>
  <cp:revision>79</cp:revision>
  <dc:subject/>
  <dc:title>Formación en evaluación para el aprendizaje</dc:title>
</cp:coreProperties>
</file>