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F69-7513-40D2-8054-A366DE10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325-9BB0-4FA8-B891-E3F84521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149-A319-462D-8102-40D58EA7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E73-E94B-4F20-AEDF-05F6CABF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426A-BD6D-4F44-B13E-D6A9C605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8CD8-68C1-49AF-AB3D-54EF2B2D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5979-C563-417B-98B8-8C6428EB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3CEA-FE0B-4B41-B2D6-983B7754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3522-826B-4F8C-A461-09F6D05D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029A-E044-43BC-8383-8320D9FF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D7B8-6365-4F61-B989-EDEE4448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E96-59FA-41A2-83F0-47CBD099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6A9C-4A2B-4C32-AA0E-786D042E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D599-BF49-4BFD-ADCB-92DA643D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BE15-F8C4-4BE1-86E3-15B2653F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1C75-A4F3-4CD9-BB66-FDA875E6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A78E-C186-4E41-B936-79FC5056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4D598-EDBF-4FA9-BD8F-6F89A07F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F7B6F-2EA3-4920-B8AE-8BF5B16F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4CA1E-7A94-40DE-8D71-80C33DF2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1703B-1D69-4DF3-B547-CBE93168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E9DC5-7148-44E8-8ADE-6B2D2D18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156-C78A-4112-8881-88AE3C48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4EB0C-6BD4-4F2F-8F1D-39D09B42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6B245-0E2F-487F-80EC-0DA03ECD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6C44E-F9E3-4F2C-BC47-4502C91D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666E9-581E-4C66-A2DD-E270675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49F17-1424-4525-8EB8-9D0E6CA2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5477C-E8A8-4DF2-9E7E-7631026B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487A9-F638-4C01-B9E5-F79D0113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B6D8F-58C3-4BDA-8962-7B8E8170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6B1AD-20A6-4032-980A-586C734E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C6954-C003-41DE-ADA3-8BEC47AA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557-D18E-4959-A211-F1E6B76C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06D9B-A3A4-4CDA-81B1-5DB59289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A4861D-95B2-4D32-8BFA-850F6001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F7ECA-1A5A-4F76-A2D9-80BDFD37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0BCD1-5E2A-452A-96A1-66507F49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60078-246B-40AE-985F-B10A0339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7AC2E0-5A0C-4AB8-BF15-2E11E897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1198C-5AE0-44E2-8DDE-FBEE5795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D4EF6-1E96-47A2-AC00-2A7248CE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9E730-30EB-4817-B784-BAAF4FAF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B9609-70BB-4E25-97AC-8AE70EEC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20F-C716-4438-9D01-AE5DA2E9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A0AE6-1299-4C0C-B113-52B4082C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F98DC-BA8B-40A2-A7EF-EF856384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275C6-0FF9-4EF4-9C69-4A7C40F0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EFCFF-F865-47D2-BC90-70F6A063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C1A62-D169-4DC1-9EF0-E381F156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CC8A4-F52D-46D2-8BF6-C3BED177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90CFE-2405-4970-8499-F12821C6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48EA9-39A2-468F-B7C6-805DFA28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5ECAA-46FB-42B2-9025-262B6A11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03477-AAA7-4ACF-928A-2C8403D3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DDA-7641-4D41-AD9C-75514BA3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F1A34-F640-46B2-B51A-3124E630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2A0F5-8143-4B50-8204-35BCFA9A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61724-7256-4C3E-A8FB-1424A77D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F8BB-2CFA-44CB-9800-3FBE2BAB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13487-ED6D-4B52-8B5C-3F82945D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9F1A1-CB27-4476-9708-10C73CB8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570D8-4F8D-4C57-B51B-77BC5C58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73816-7EB8-41DD-AB7C-F1539419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DF85E-B0ED-4525-9063-0C5275EA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81D26-A2C3-4354-BA87-566497BF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643-F380-426E-A75F-3C1AAFE1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2B67F-A238-4A91-9354-559D7984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66055-6CB3-4070-A1CE-6DC321BC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6638C-192A-49C1-9054-3795E1B6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BBE06-7E87-4426-A3F6-D3F33149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8663A6-3569-45BD-BFBD-1CACD7ED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AD7B7-57FB-4B9F-A538-8695A1F1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D24A0-CAE1-480A-9F06-5982246B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CBE95-6F8E-4254-A34F-ABCD1223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64C44-51EF-4764-8FE4-A4366E3F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4C333-0B1E-413B-80A8-16AA3C8A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883-1187-4E0A-A7D5-0A686E07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BC0E8-1589-4853-9BD8-EA96D764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DC68EA-A6CB-4C0D-BA70-875C56E2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8173D-F9A6-4BE3-8C9D-7101FE00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F8ADC5-2807-45E6-9C57-C621AA47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DE163-B4FA-4092-8475-B13D9B61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82422-AD6E-4535-9D32-945EF485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E9D86-5CD5-43AA-B52E-CB69F553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AD070-9A5E-4A78-8218-6EE87AC7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64CDB-6F28-40C2-8B28-EF3EBB87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FA5E9-4E67-435F-84B1-242AEC62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893-FDE0-4B35-8875-88DF4372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0843B-7C21-4DB1-BF21-A93C1D0C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B981C-198E-4B87-8409-BEC20F55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277FE-B052-4BBC-9A4D-45F90BB6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3F03C-D471-4EFA-AAA1-E55D5E08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8BF3E-2BFC-49A8-9F44-7433D9A0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785F6-963F-4925-9AB5-D26945A3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EFCC1-2757-48E0-AD11-CEC54C37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570-111C-43AB-9BEA-23C6454B2684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D6CF-B5BF-482B-871F-88E0C5D94D84}" type="slidenum">
              <a:rPr b="1" lang="es-C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7D35-D288-48E0-9003-07746AF8FE04}" type="slidenum"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77B3-FD5C-4320-AA19-F62B1FA2B936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D0F2-6400-474D-B08C-A5292979540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2DA2-331A-46A0-900F-BE0898C230E7}" type="slidenum">
              <a:rPr b="1" lang="es-C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D48C-EE30-416F-8646-2389A8DD7476}" type="slidenum"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B658-E0FF-4A50-B4E4-B33668209BD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dc3"/>
                </a:solidFill>
                <a:latin typeface="Tw Cen MT"/>
              </a:rPr>
              <a:t>EVALUAR PARA QUE SE APRENDA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Afl 004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Afl 005"/>
          <p:cNvPicPr/>
          <p:nvPr/>
        </p:nvPicPr>
        <p:blipFill>
          <a:blip r:embed="rId1"/>
          <a:stretch/>
        </p:blipFill>
        <p:spPr>
          <a:xfrm>
            <a:off x="1476360" y="1197000"/>
            <a:ext cx="58323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Afl 006"/>
          <p:cNvPicPr/>
          <p:nvPr/>
        </p:nvPicPr>
        <p:blipFill>
          <a:blip r:embed="rId1"/>
          <a:stretch/>
        </p:blipFill>
        <p:spPr>
          <a:xfrm>
            <a:off x="1476360" y="1079640"/>
            <a:ext cx="6416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15c6f"/>
                </a:solidFill>
                <a:latin typeface="Tahoma"/>
              </a:rPr>
              <a:t>¿De qué aprendizaje se está hablando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2685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15c6f"/>
                </a:solidFill>
                <a:latin typeface="Tahoma"/>
                <a:ea typeface="Times New Roman"/>
              </a:rPr>
              <a:t>Capacidad de movilizar conocimientos, habilidades y actitudes en contextos determinados, no como conocimientos puntuales, aislados unos de otros, sino que puestos en acción y, por ende, articulado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2685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2685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15c6f"/>
                </a:solidFill>
                <a:latin typeface="Tahoma"/>
                <a:ea typeface="Times New Roman"/>
              </a:rPr>
              <a:t>Son clave en la medida que están a la base de muchos desempeños, se trata de las competencias de fondo que trascienden los aprendizajes puntua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2685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42920" y="500040"/>
          <a:ext cx="8677080" cy="5821560"/>
        </p:xfrm>
        <a:graphic>
          <a:graphicData uri="http://schemas.openxmlformats.org/drawingml/2006/table">
            <a:tbl>
              <a:tblPr/>
              <a:tblGrid>
                <a:gridCol w="4284720"/>
                <a:gridCol w="4392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endizaje profun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endizaje superfic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intento por desarrollar compresiones personales (de los temas estudiados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intento por ser capaz de reproducir contenidos, tanto como sea necesari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acción “activa” con los contenidos, particularmente los relacionados con conocimiento previo y experiencia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eptación pasiva de ideas e informació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r principios integradores para  aglutinar idea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ta de reconocimiento de principios articuladores y patrones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a evidencias con conclusion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alización de los esfuerzos de aprendizaje en los requerimientos de la evaluació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De aprender, lo que es aprender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l ser humano no aprende cosas con las que no puede establecer relaciones, o de las que no tenga la más mínima no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05a76"/>
                </a:solidFill>
                <a:latin typeface="Tahoma"/>
              </a:rPr>
              <a:t>La evaluación de aula tradicionalmente</a:t>
            </a:r>
            <a:r>
              <a:rPr b="0" lang="es-ES" sz="4000" spc="-1" strike="noStrike">
                <a:solidFill>
                  <a:srgbClr val="205a76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1" lang="es-ES" sz="2900" spc="-1" strike="noStrike">
                <a:solidFill>
                  <a:srgbClr val="205a76"/>
                </a:solidFill>
                <a:latin typeface="Tahoma"/>
              </a:rPr>
              <a:t>Da cuenta de aprendizajes poco relevantes para el estudiante y para las expectativas curricular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1" lang="es-ES" sz="2900" spc="-1" strike="noStrike">
                <a:solidFill>
                  <a:srgbClr val="205a76"/>
                </a:solidFill>
                <a:latin typeface="Tahoma"/>
              </a:rPr>
              <a:t>Se hace bajo criterios que solo tiene el profesor en la men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205a76"/>
                </a:solidFill>
                <a:latin typeface="Tahoma"/>
              </a:rPr>
              <a:t>Se vincula a la calificación y toma importancia en momentos puntuales del proceso enseñanza y aprendizaj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05a76"/>
                </a:solidFill>
                <a:latin typeface="Tahoma"/>
              </a:rPr>
              <a:t>La evaluación contribuye a mejorar el aprendizaje de alumnos y alumnas cuando: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749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dd8047"/>
                </a:solidFill>
                <a:uFillTx/>
                <a:latin typeface="Tahoma"/>
              </a:rPr>
              <a:t>Se basa en criterios que son conocidos y comprendidos por todo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1375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Si el parámetro es conocido y comprendido por los involucrados, permite orientar el aprendizaj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1375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Los criterios de evaluación explicitan qué es lo que se evaluará y  ofrecen descripciones de distintos niveles de calidad en un continuo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1375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Permiten definir niveles de desempeño para ver cuán bueno es el trabajo del estudiante y así responsabilizarse de su aprendizaj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1375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Criterios estables permiten monitorear la progresión del aprendizaj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03:05:36Z</dcterms:created>
  <dc:creator>Carlos Ossa Illanes</dc:creator>
  <dc:description/>
  <dc:language>en-US</dc:language>
  <cp:lastModifiedBy>..</cp:lastModifiedBy>
  <dcterms:modified xsi:type="dcterms:W3CDTF">2010-05-05T17:09:21Z</dcterms:modified>
  <cp:revision>4</cp:revision>
  <dc:subject/>
  <dc:title>Evaluar para que se aprenda</dc:title>
</cp:coreProperties>
</file>