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772080" y="-3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0" y="87357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772080" y="8735760"/>
            <a:ext cx="2884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BEB-B2F2-471D-B43C-D2213BB1E0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4B9-6834-4AE2-B103-075DB777EF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C86-CF08-4E51-932B-D749255185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0C6B-9C50-4D05-A5CD-C7F0A6790C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772080" y="8736120"/>
            <a:ext cx="28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C6FA-417C-4144-911A-BFBE3EA1EA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28880" y="689040"/>
            <a:ext cx="4598640" cy="34495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D40-26EE-4019-8EED-B2B3F7BD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F70-62F3-4BEF-9F3E-A5676810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B29FD-0E7A-4F23-AF04-B59B9CE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F5F3D-3259-4D46-BA46-3A46F44C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40531-7A74-46AA-941F-F6B6AD5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0B2B1-2985-4AEE-A9FF-36F60F9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3E1BD-32EC-4BF4-9449-9BEE7EE6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83FD-2D6E-452B-93A2-B9A6E8C4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54C8-C020-4954-A149-2EC86C9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34411-336B-46B4-A5DA-A0FDD9FC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3D111-B6A5-40AD-8B89-90753C94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8ACC5-93A7-442C-9942-05DA0A02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1D6-0045-4DED-9903-7655CE5F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1450F-0478-4E10-8865-8B0BAE1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D345E-A30C-4C1D-AD76-D4F74C7D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35CF6-0BA7-4D0C-87FD-8FB16F87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E7EFE-8590-46AB-96F4-B4BA157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B74CC-83D7-45E8-91A1-1984C333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1B822-65FE-4DC3-B2C6-E73476B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5CBC3-130A-49C0-8014-1E67805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DF083-C7DA-4CDE-9C31-D8EBE6E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55C3F-757B-465E-B616-2B527D8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23043-065C-4AFC-9597-4578B630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1C7-A217-4F9E-81BA-BEAAE8BB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94A2E-5F13-4E90-B01F-AACF7A0F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0A5DC-0DFE-47AC-AA8E-4A7A560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479E-F6FA-43BC-A605-22CE0C8F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82DD9-1CA0-44AD-AC56-E095D3B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96143-7008-44E2-A6E4-05CFB93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48CFC-F8C0-4C57-BE5D-7D4D276C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3C473-DF08-42AF-80A7-3F493849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25DE2-6946-437A-9861-707FE5C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45516-5D1B-4669-AC5F-61F3DA7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71D0A-8B10-4FE9-9A78-8EA819F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2EA0-170C-4A53-8B8B-FB40994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B1A54-58F0-4E03-93BB-B4BA854F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4649-26D3-4AC8-9DF9-A21803A2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8D8F3-4BE1-4BCF-8F16-117F8918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196D2-85AD-4719-A01D-9BF73E86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33DFE-BCC7-4B15-9187-163522FE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BD1EA-7525-443A-BB49-1F43C69D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3F47A-2307-4E77-9869-BEA6F0B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F42CC-1090-421C-B39A-B8125D1C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D58CD-11B5-4AB9-9EDF-1A7BD384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3FA3D-12BA-45B3-980C-DC72B8E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2B3-DADF-4DF0-9F9F-5115648C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21AD2-A326-40E4-924E-96367E5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0A2CD-458C-4526-B118-FA03F9F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566F2-F631-4034-BBA6-4D9A09D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3182D-5DF0-4084-BD3B-DEC49076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E95A5-4859-4EC3-9070-DCF3EE8A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B23A-DAB7-43FA-90AF-E3327036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7194-5FD5-4106-8B6B-B6C1F92A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DF89-663D-41B3-B0B2-2060D0F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E2CF-745A-4B17-86EE-D12E95D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65FB-7746-4B3F-AD2C-0DC357CC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F1A-52BC-4151-A936-FFF0E86A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501-650C-4BDB-93A0-89F778A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DDFA-642E-4570-BC0F-36F73F0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C52F-8187-4BB5-913E-C8A731FF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FD43-FABD-43C6-BC64-60D44445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7B8E-A67E-4A6E-8F0B-4646EEC9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7200-AB67-44AB-8E7D-60313009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0426-B467-41EF-808A-CD1F266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7AEC-C601-4401-9A48-B70D46E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243E-55BF-4D31-80B8-84F9680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E849-F59E-4DFC-9C49-B8C6EE4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FDC-4A9E-48FF-9C2B-C68D9AB6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E3CE-BF4E-453F-81D6-091066C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6574-EEDD-4180-A121-AAC9C78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AF0A-5164-4AE0-81D9-402646E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459C-DD29-4A1A-B4C9-5697C19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35AC-242D-4B07-B16D-3A7459A8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4BE7-5E21-4594-8750-F217B262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AC2A-E6F2-4164-B6B8-97B6F79E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8D53-0044-4472-94FC-B6B8BB27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DCC2-8873-4EEE-8410-D92CC695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12A1-3A98-4594-9912-087CA90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AA2-6AF4-432A-B9FB-36A6556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29F8-E96E-460E-9AF4-CFE8BA6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5BDF-676B-4B9E-A5F7-75B9BBD0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7690-AF2F-4B29-B809-B6EBFC3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011C-421F-4C79-8578-8DABDEE2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2773-93D0-440B-9CB4-09A449D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8C43-FA27-4EAB-BBC3-7B406CE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460A-C22E-4089-B93E-9583843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4C24-73E7-4FA0-BE91-78153F89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1C57-E1B0-403D-B8A2-63A06449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88E5-1987-49D7-9E10-29DD9D8D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5DC-DEF0-4087-9A19-9C1DBDC7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EEA7E-A633-4DDD-9524-EB05FF6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2B5A3-149D-4388-9FD2-EADC01D7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B38E-237D-43E9-B09A-CBBF9C9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E9418-7585-469C-963F-4BD0699F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F3EDD-22E9-4544-A017-2CDCC67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F064-082C-4C95-B7B2-C4A2FDD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F02B-89CB-46B6-9FE8-4469B78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3CE8-C0CD-415E-8CBA-8FB23562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ECD91-945D-4316-AFE3-E372E1A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E2B1-ACE4-423B-A379-734D58CD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DF9-5A00-4A88-9E7E-9A361052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1588-7EF7-40A9-8A7E-A5601535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1CBB-7BF8-4628-8209-96394E03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E675-837F-4F17-91D4-DE04528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C365F-259E-4111-AE29-E2E052D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EFAD-DD69-4D2D-8785-9DF103D9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ADC92-175A-4215-8953-D4883880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7088-B506-4E33-AE64-017941D8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4580D-A5B3-43D4-89F3-75D884E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882F0-AFE5-42DA-924D-7D67BD8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8C8D-0BAC-4D31-9E14-64393B4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2F0-CFB4-4E44-917A-682FBC3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8A71-C4AF-4B64-9EC4-1E7DEC70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E1D2-DA1D-44D1-A540-46879FD9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7F28-9791-4924-914D-10DF7F14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8556-C2B6-41D2-AC2D-487F80E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9836-0DE1-42D6-943B-025C5767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6E3E-DA75-4AF0-862A-FAB61103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F705-410B-4510-8829-C606B6F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6499F-E14F-4BE6-8A99-BD822D60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7EF00-765F-411A-909A-9A6AC723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9928-2A92-480B-84EA-D6189E0B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C5E-B84A-4C9D-B39B-7A1E7EA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F94B-1436-48EA-B7ED-3C33D7B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AA35-362D-4A25-9AE0-B43E882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ACC3-A7C4-4007-B51C-7BD3704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4327-9B32-4DBE-A7FF-5D12164C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4D37-A40D-4F60-BE84-47D8EF23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22A7B-2D8B-405D-8324-D68052DC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CF0F4-083B-4324-A106-33641F9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6E36-D656-447F-9977-41BD8962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60B43-0994-424F-8C34-A281CEE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BDD6-0C25-455D-B02A-69D7A33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C61-D564-4104-9495-4B885980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6C1ED-B399-4B8B-AF0D-C7CF9C0D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FEE16-3B52-4DE4-A8BE-D32F999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0E114-D454-49AA-832D-DAE7B37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EA041-555A-46AF-B30E-AB44644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2449-9BF2-4830-B36B-5969B696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A1CC-8216-426B-AB64-BB6B10F3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6B3AC-DC83-43D6-8BE9-6C13BE2D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6C48F-48FD-43CD-95BD-7D5B01A7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1B970-7916-42F9-A93C-4217B5D9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6266D-430C-4DB7-A6FA-5141FA58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652320" y="81000"/>
            <a:ext cx="7848720" cy="952560"/>
            <a:chOff x="652320" y="81000"/>
            <a:chExt cx="7848720" cy="952560"/>
          </a:xfrm>
        </p:grpSpPr>
        <p:pic>
          <p:nvPicPr>
            <p:cNvPr id="1" name="Picture 9" descr="161"/>
            <p:cNvPicPr/>
            <p:nvPr/>
          </p:nvPicPr>
          <p:blipFill>
            <a:blip r:embed="rId2"/>
            <a:stretch/>
          </p:blipFill>
          <p:spPr>
            <a:xfrm>
              <a:off x="5605200" y="81000"/>
              <a:ext cx="28958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uchile"/>
            <p:cNvPicPr/>
            <p:nvPr/>
          </p:nvPicPr>
          <p:blipFill>
            <a:blip r:embed="rId3"/>
            <a:srcRect l="26272" t="0" r="0" b="34073"/>
            <a:stretch/>
          </p:blipFill>
          <p:spPr>
            <a:xfrm>
              <a:off x="652320" y="81000"/>
              <a:ext cx="497196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B8C1-F784-44CC-AD2C-1827B162F2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8564-C5CD-4560-8916-5136350229B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BBDC-AAF2-4A0B-871C-11DB7FD2D0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2DA3-530F-4EA1-97AD-05847EF476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86A-B133-45EC-ACB4-72BBFFB547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7DF-C3CB-4664-8E6C-0DA131D4E30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A5FD-C628-4395-BE4C-C345114252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BB6A-507D-43B9-A8E6-2AC1143AA4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3AC7-9390-43DF-98E0-33D7C3AB0C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24B-6475-4CB9-8D19-A8A83F5CEC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090-3426-4C11-9E27-70EF2ECC16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A38-EE12-4888-A4EB-A4990B0EF8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cc"/>
                </a:solidFill>
                <a:latin typeface="Calibri"/>
              </a:rPr>
              <a:t>Evaluación para el aprendizaje</a:t>
            </a:r>
            <a:endParaRPr b="0" lang="en-US" sz="4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0033"/>
                </a:solidFill>
                <a:latin typeface="Calibri"/>
              </a:rPr>
              <a:t>Una experiencia en aula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5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cc"/>
                </a:solidFill>
                <a:latin typeface="Verdana"/>
              </a:rPr>
              <a:t>CONCLUSIONES</a:t>
            </a:r>
            <a:br>
              <a:rPr sz="2800"/>
            </a:br>
            <a:r>
              <a:rPr b="0" lang="es-CL" sz="2800" spc="-1" strike="noStrike">
                <a:solidFill>
                  <a:srgbClr val="0000cc"/>
                </a:solidFill>
                <a:latin typeface="Verdana"/>
              </a:rPr>
              <a:t>Cambiar prácticas evaluativas requiere</a:t>
            </a:r>
            <a:endParaRPr b="0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7140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1 </a:t>
            </a: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Saber qué y por qué evalua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Saber cómo evaluar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Predomina el hacer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 y necesariamente involucra sus alumno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Ensayo y error.....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tener con quién(es) reflexionar críticamente acerca de la práctica, recomenzar, tomar decisiones (colegas, UTP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Times New Roman"/>
              </a:rPr>
              <a:t>Apoyo institucional</a:t>
            </a:r>
            <a:r>
              <a:rPr b="0" lang="es-CL" sz="2800" spc="-1" strike="noStrike">
                <a:solidFill>
                  <a:srgbClr val="0000cc"/>
                </a:solidFill>
                <a:latin typeface="Times New Roman"/>
              </a:rPr>
              <a:t> tiempo, espacio, apertura (UTP, Sostenedor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mimi"/>
          <p:cNvPicPr/>
          <p:nvPr/>
        </p:nvPicPr>
        <p:blipFill>
          <a:blip r:embed="rId1"/>
          <a:srcRect l="0" t="0" r="0" b="47341"/>
          <a:stretch/>
        </p:blipFill>
        <p:spPr>
          <a:xfrm>
            <a:off x="380880" y="1143000"/>
            <a:ext cx="8229600" cy="244008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grpSp>
        <p:nvGrpSpPr>
          <p:cNvPr id="546" name="Group 3"/>
          <p:cNvGrpSpPr/>
          <p:nvPr/>
        </p:nvGrpSpPr>
        <p:grpSpPr>
          <a:xfrm>
            <a:off x="380880" y="3733920"/>
            <a:ext cx="8153640" cy="2490840"/>
            <a:chOff x="380880" y="3733920"/>
            <a:chExt cx="8153640" cy="2490840"/>
          </a:xfrm>
        </p:grpSpPr>
        <p:pic>
          <p:nvPicPr>
            <p:cNvPr id="547" name="Picture 4" descr="eva 1"/>
            <p:cNvPicPr/>
            <p:nvPr/>
          </p:nvPicPr>
          <p:blipFill>
            <a:blip r:embed="rId2"/>
            <a:srcRect l="0" t="47985" r="0" b="30867"/>
            <a:stretch/>
          </p:blipFill>
          <p:spPr>
            <a:xfrm>
              <a:off x="380880" y="3733920"/>
              <a:ext cx="8153640" cy="2490840"/>
            </a:xfrm>
            <a:prstGeom prst="rect">
              <a:avLst/>
            </a:prstGeom>
            <a:ln w="28440">
              <a:solidFill>
                <a:srgbClr val="ccccff"/>
              </a:solidFill>
              <a:miter/>
            </a:ln>
          </p:spPr>
        </p:pic>
        <p:sp>
          <p:nvSpPr>
            <p:cNvPr id="548" name="Line 5"/>
            <p:cNvSpPr/>
            <p:nvPr/>
          </p:nvSpPr>
          <p:spPr>
            <a:xfrm>
              <a:off x="4952880" y="449568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2133720" y="48006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2895480" y="487692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"/>
            <p:cNvSpPr/>
            <p:nvPr/>
          </p:nvSpPr>
          <p:spPr>
            <a:xfrm>
              <a:off x="4495680" y="518148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9"/>
            <p:cNvSpPr/>
            <p:nvPr/>
          </p:nvSpPr>
          <p:spPr>
            <a:xfrm>
              <a:off x="2514600" y="594360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"/>
            <p:cNvSpPr/>
            <p:nvPr/>
          </p:nvSpPr>
          <p:spPr>
            <a:xfrm>
              <a:off x="5334120" y="5943600"/>
              <a:ext cx="20574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4191120" y="59436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>
              <a:off x="2895480" y="556272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>
              <a:off x="2362320" y="45720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>
              <a:off x="6705720" y="548640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>
              <a:off x="7772400" y="548640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16"/>
          <p:cNvSpPr/>
          <p:nvPr/>
        </p:nvSpPr>
        <p:spPr>
          <a:xfrm>
            <a:off x="5335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trick Süskind,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Perf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7"/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058"/>
          <p:cNvSpPr/>
          <p:nvPr/>
        </p:nvSpPr>
        <p:spPr>
          <a:xfrm>
            <a:off x="380880" y="10508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Pregunta: ¿Cómo es el personaje de C. Auguste Dupin y por qué el protagonista lo describe como una persona analítica?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060"/>
          <p:cNvSpPr/>
          <p:nvPr/>
        </p:nvSpPr>
        <p:spPr>
          <a:xfrm>
            <a:off x="762120" y="2300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Object 2059" descr=""/>
          <p:cNvPicPr/>
          <p:nvPr/>
        </p:nvPicPr>
        <p:blipFill>
          <a:blip r:embed="rId1"/>
          <a:stretch/>
        </p:blipFill>
        <p:spPr>
          <a:xfrm>
            <a:off x="685800" y="2629080"/>
            <a:ext cx="7616880" cy="1104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2061"/>
          <p:cNvSpPr/>
          <p:nvPr/>
        </p:nvSpPr>
        <p:spPr>
          <a:xfrm>
            <a:off x="838080" y="39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Object 2062"/>
          <p:cNvGraphicFramePr/>
          <p:nvPr/>
        </p:nvGraphicFramePr>
        <p:xfrm>
          <a:off x="685800" y="4200480"/>
          <a:ext cx="7620120" cy="12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Object 20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200480"/>
                    <a:ext cx="76201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Rectangle 2064"/>
          <p:cNvSpPr/>
          <p:nvPr/>
        </p:nvSpPr>
        <p:spPr>
          <a:xfrm>
            <a:off x="914400" y="56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mn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2067"/>
          <p:cNvGraphicFramePr/>
          <p:nvPr/>
        </p:nvGraphicFramePr>
        <p:xfrm>
          <a:off x="685800" y="5952960"/>
          <a:ext cx="762480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Object 206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952960"/>
                    <a:ext cx="7624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AutoShape 2069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prueba1"/>
          <p:cNvPicPr/>
          <p:nvPr/>
        </p:nvPicPr>
        <p:blipFill>
          <a:blip r:embed="rId1"/>
          <a:stretch/>
        </p:blipFill>
        <p:spPr>
          <a:xfrm>
            <a:off x="1600200" y="838080"/>
            <a:ext cx="5486400" cy="57913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1143000" y="30492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Calendario de Pruebas II Semestre 2010</a:t>
            </a:r>
            <a:endParaRPr b="0" lang="en-US" sz="2800" spc="-1" strike="noStrike">
              <a:solidFill>
                <a:srgbClr val="0000cc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782720"/>
          <a:ext cx="8570880" cy="4848120"/>
        </p:xfrm>
        <a:graphic>
          <a:graphicData uri="http://schemas.openxmlformats.org/drawingml/2006/table">
            <a:tbl>
              <a:tblPr/>
              <a:tblGrid>
                <a:gridCol w="1617840"/>
                <a:gridCol w="1535040"/>
                <a:gridCol w="541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C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UN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NTEN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stema de Ecu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Métodos para la resolución de sistemas de ecuaciones.-Aplicación de los sistemas de ecuaciones a problemas de plante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8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laciones y Fun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Formas de expresión una relación perteneciente a un producto cartesiano.-Representación de una relación  en el plano cartesiano.-Determinación y Recorrido de una relación.-Funciones y clasificación de fun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8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Geometría  Ana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-Representación de puntos en el plano.-Cálculo de pendientes y ángulo de inclinación de la recta en el plano cartesiano.-Coordinadas del punto medio.-Distancia entre 2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cc"/>
                      </a:solidFill>
                    </a:lnL>
                    <a:lnR w="9360">
                      <a:solidFill>
                        <a:srgbClr val="0000cc"/>
                      </a:solidFill>
                    </a:lnR>
                    <a:lnT w="9360">
                      <a:solidFill>
                        <a:srgbClr val="0000cc"/>
                      </a:solidFill>
                    </a:lnT>
                    <a:lnB w="936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AutoShape 136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037"/>
          <p:cNvSpPr/>
          <p:nvPr/>
        </p:nvSpPr>
        <p:spPr>
          <a:xfrm>
            <a:off x="457200" y="2514600"/>
            <a:ext cx="7620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Evaluación frecuentemente desvinculada de aprendizajes claves o cen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0"/>
          <p:cNvSpPr/>
          <p:nvPr/>
        </p:nvSpPr>
        <p:spPr>
          <a:xfrm>
            <a:off x="457200" y="335268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Preguntas y tareas muy a menudo rutinarias, prima la memorización, uso de algoritmos, sin presencia de problematización, conceptualización, análisis cr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41"/>
          <p:cNvSpPr/>
          <p:nvPr/>
        </p:nvSpPr>
        <p:spPr>
          <a:xfrm>
            <a:off x="457200" y="48769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Notas 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c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arentes de significado, en términos descriptivos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43"/>
          <p:cNvSpPr/>
          <p:nvPr/>
        </p:nvSpPr>
        <p:spPr>
          <a:xfrm>
            <a:off x="457200" y="569268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Poco frecuente retroalimentación a los alumnos, más allá de la 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Calibri"/>
              </a:rPr>
              <a:t>Evaluación en la actualidad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09" name="AutoShape 1029"/>
          <p:cNvSpPr/>
          <p:nvPr/>
        </p:nvSpPr>
        <p:spPr>
          <a:xfrm>
            <a:off x="8229600" y="2819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32"/>
          <p:cNvSpPr/>
          <p:nvPr/>
        </p:nvSpPr>
        <p:spPr>
          <a:xfrm>
            <a:off x="82296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33"/>
          <p:cNvSpPr/>
          <p:nvPr/>
        </p:nvSpPr>
        <p:spPr>
          <a:xfrm>
            <a:off x="822960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38"/>
          <p:cNvSpPr/>
          <p:nvPr/>
        </p:nvSpPr>
        <p:spPr>
          <a:xfrm>
            <a:off x="82296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044"/>
          <p:cNvSpPr/>
          <p:nvPr/>
        </p:nvSpPr>
        <p:spPr>
          <a:xfrm>
            <a:off x="4495680" y="1752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1"/>
          <p:cNvGrpSpPr/>
          <p:nvPr/>
        </p:nvGrpSpPr>
        <p:grpSpPr>
          <a:xfrm>
            <a:off x="914400" y="2743200"/>
            <a:ext cx="6934320" cy="3276720"/>
            <a:chOff x="914400" y="2743200"/>
            <a:chExt cx="6934320" cy="3276720"/>
          </a:xfrm>
        </p:grpSpPr>
        <p:sp>
          <p:nvSpPr>
            <p:cNvPr id="515" name="Oval 2"/>
            <p:cNvSpPr/>
            <p:nvPr/>
          </p:nvSpPr>
          <p:spPr>
            <a:xfrm>
              <a:off x="1219320" y="2743200"/>
              <a:ext cx="2057400" cy="175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Enseña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3"/>
            <p:cNvSpPr/>
            <p:nvPr/>
          </p:nvSpPr>
          <p:spPr>
            <a:xfrm>
              <a:off x="5334120" y="2819520"/>
              <a:ext cx="198108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4"/>
            <p:cNvSpPr/>
            <p:nvPr/>
          </p:nvSpPr>
          <p:spPr>
            <a:xfrm>
              <a:off x="914400" y="4952880"/>
              <a:ext cx="693432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Dos mo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cc"/>
                  </a:solidFill>
                  <a:latin typeface="Verdana"/>
                </a:rPr>
                <a:t>separadas en tiempo, espacio y propós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5"/>
            <p:cNvSpPr/>
            <p:nvPr/>
          </p:nvSpPr>
          <p:spPr>
            <a:xfrm flipV="1">
              <a:off x="4343400" y="3581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6"/>
            <p:cNvSpPr/>
            <p:nvPr/>
          </p:nvSpPr>
          <p:spPr>
            <a:xfrm>
              <a:off x="3657600" y="3581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AutoShape 9"/>
          <p:cNvSpPr/>
          <p:nvPr/>
        </p:nvSpPr>
        <p:spPr>
          <a:xfrm>
            <a:off x="8305920" y="5867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685800" y="1081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CL" sz="3600" spc="-1" strike="noStrike">
                <a:solidFill>
                  <a:srgbClr val="990000"/>
                </a:solidFill>
                <a:latin typeface="Verdana"/>
              </a:rPr>
              <a:t>Evaluación es equivalente a cal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II “</a:t>
            </a:r>
            <a:r>
              <a:rPr b="1" lang="es-ES" sz="4000" spc="-1" strike="noStrike">
                <a:solidFill>
                  <a:srgbClr val="0000cc"/>
                </a:solidFill>
                <a:latin typeface="Verdana"/>
              </a:rPr>
              <a:t>Evaluación 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P</a:t>
            </a:r>
            <a:r>
              <a:rPr b="1" lang="es-ES" sz="4000" spc="-1" strike="noStrike">
                <a:solidFill>
                  <a:srgbClr val="0000cc"/>
                </a:solidFill>
                <a:latin typeface="Verdana"/>
              </a:rPr>
              <a:t>ara el</a:t>
            </a:r>
            <a:r>
              <a:rPr b="1" lang="es-CL" sz="4000" spc="-1" strike="noStrike">
                <a:solidFill>
                  <a:srgbClr val="0000cc"/>
                </a:solidFill>
                <a:latin typeface="Verdana"/>
              </a:rPr>
              <a:t> Aprendizaje”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8534520" y="2666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85345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9"/>
          <p:cNvSpPr/>
          <p:nvPr/>
        </p:nvSpPr>
        <p:spPr>
          <a:xfrm>
            <a:off x="853452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0"/>
          <p:cNvSpPr/>
          <p:nvPr/>
        </p:nvSpPr>
        <p:spPr>
          <a:xfrm>
            <a:off x="853452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304920" y="2438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646b86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Concepción de evaluación como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omponente </a:t>
            </a: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onstitutivo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 del proceso de enseñanza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y de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aprendizaj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304920" y="35053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Criterios preestablecidos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, compartidos entre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alumnos y</a:t>
            </a:r>
            <a:r>
              <a:rPr b="0" lang="es-CL" sz="2800" spc="-1" strike="noStrike">
                <a:solidFill>
                  <a:srgbClr val="646b86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profesores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304920" y="54864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Retroalimentación efectiv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volucr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profesor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alumnos en los datos que se obtienen de la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304920" y="43434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990033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990033"/>
                </a:solidFill>
                <a:latin typeface="Times New Roman"/>
              </a:rPr>
              <a:t>Expectativas de aprendizaje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 claras y conocidas 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646b86"/>
                </a:solidFill>
                <a:latin typeface="Times New Roman"/>
              </a:rPr>
              <a:t>previamente</a:t>
            </a:r>
            <a:r>
              <a:rPr b="0" lang="es-ES_tradnl" sz="2800" spc="-1" strike="noStrike">
                <a:solidFill>
                  <a:srgbClr val="646b8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Object 2"/>
          <p:cNvGraphicFramePr/>
          <p:nvPr/>
        </p:nvGraphicFramePr>
        <p:xfrm>
          <a:off x="2081160" y="762120"/>
          <a:ext cx="508176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1160" y="762120"/>
                    <a:ext cx="5081760" cy="601956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1" dur="1" fill="hold"/>
                                  <p:tgtEl>
                                    <p:spTgt spid="5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1026"/>
          <p:cNvGraphicFramePr/>
          <p:nvPr/>
        </p:nvGraphicFramePr>
        <p:xfrm>
          <a:off x="1752480" y="990720"/>
          <a:ext cx="586764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990720"/>
                    <a:ext cx="5867640" cy="570528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AutoShape 1027"/>
          <p:cNvSpPr/>
          <p:nvPr/>
        </p:nvSpPr>
        <p:spPr>
          <a:xfrm>
            <a:off x="8305920" y="601992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3794" y="9110"/>
                </a:moveTo>
                <a:lnTo>
                  <a:pt x="7301" y="9110"/>
                </a:lnTo>
                <a:lnTo>
                  <a:pt x="7301" y="14445"/>
                </a:lnTo>
                <a:cubicBezTo>
                  <a:pt x="7301" y="15368"/>
                  <a:pt x="8102" y="16099"/>
                  <a:pt x="9138" y="16099"/>
                </a:cubicBezTo>
                <a:lnTo>
                  <a:pt x="10800" y="16099"/>
                </a:lnTo>
                <a:cubicBezTo>
                  <a:pt x="11836" y="16099"/>
                  <a:pt x="12636" y="15368"/>
                  <a:pt x="12636" y="14445"/>
                </a:cubicBezTo>
                <a:lnTo>
                  <a:pt x="12636" y="9110"/>
                </a:lnTo>
                <a:lnTo>
                  <a:pt x="10800" y="9110"/>
                </a:lnTo>
                <a:lnTo>
                  <a:pt x="14308" y="5602"/>
                </a:lnTo>
                <a:lnTo>
                  <a:pt x="17981" y="9110"/>
                </a:lnTo>
                <a:lnTo>
                  <a:pt x="16144" y="9110"/>
                </a:lnTo>
                <a:lnTo>
                  <a:pt x="16144" y="14445"/>
                </a:lnTo>
                <a:cubicBezTo>
                  <a:pt x="16144" y="17213"/>
                  <a:pt x="13568" y="19772"/>
                  <a:pt x="10800" y="19772"/>
                </a:cubicBezTo>
                <a:lnTo>
                  <a:pt x="9138" y="19772"/>
                </a:lnTo>
                <a:cubicBezTo>
                  <a:pt x="6370" y="19772"/>
                  <a:pt x="3794" y="17213"/>
                  <a:pt x="3794" y="14445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Comprensión del problema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57120" y="99972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Times New Roman"/>
              </a:rPr>
              <a:t>¿Hasta qué punto demuestra </a:t>
            </a: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comprensión del tema, de las ideas o los sentimientos sobre los cuales está escribiendo o hablando</a:t>
            </a:r>
            <a:r>
              <a:rPr b="0" lang="es-ES" sz="1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28600" y="1523880"/>
          <a:ext cx="8686800" cy="494352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xcelent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una comprensión acabada del tema con sus matices y complejidade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Establece con habilidad conexiones entre las ideas que expone e ilustra sus ideas con 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ejemplos pertinentes y original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en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comprensión buena del tema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Las relaciones que establece entre ideas son generalmente apropiada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Los ejemplos usados para ilustrar las ideas son apropiad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atisfactori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una comprensión básica del tema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Se establece algunas relaciones entre las ideas aunque éstas no siempre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9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son apropiadas.</a:t>
                      </a:r>
                      <a:r>
                        <a:rPr b="0" lang="es-ES_tradnl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Intenta ilustrar algunas de sus ideas con ejemplo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satisfacto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9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Las ideas y sentimientos expresados demuestran poca comprensión del te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	</a:t>
            </a:r>
            <a:br>
              <a:rPr sz="4400"/>
            </a:br>
            <a:r>
              <a:rPr b="0" lang="es-CL" sz="2800" spc="-1" strike="noStrike">
                <a:solidFill>
                  <a:srgbClr val="0000cc"/>
                </a:solidFill>
                <a:latin typeface="Verdana"/>
                <a:ea typeface="Times New Roman"/>
              </a:rPr>
              <a:t>CONCLUSIONES</a:t>
            </a:r>
            <a:br>
              <a:rPr sz="2800"/>
            </a:br>
            <a:r>
              <a:rPr b="1" lang="es-ES" sz="2800" spc="-1" strike="noStrike" u="sng">
                <a:solidFill>
                  <a:srgbClr val="0000cc"/>
                </a:solidFill>
                <a:uFillTx/>
                <a:latin typeface="Verdana"/>
                <a:ea typeface="Times New Roman"/>
              </a:rPr>
              <a:t>¿</a:t>
            </a:r>
            <a:r>
              <a:rPr b="1" lang="es-ES" sz="2800" spc="-1" strike="noStrike">
                <a:solidFill>
                  <a:srgbClr val="0000cc"/>
                </a:solidFill>
                <a:latin typeface="Verdana"/>
                <a:ea typeface="Times New Roman"/>
              </a:rPr>
              <a:t>Puede la evaluación mejorar el aprendizaje de los alumnos?</a:t>
            </a:r>
            <a:r>
              <a:rPr b="1" lang="es-ES" sz="3600" spc="-1" strike="noStrike" u="sng">
                <a:solidFill>
                  <a:srgbClr val="0000cc"/>
                </a:solidFill>
                <a:uFillTx/>
                <a:latin typeface="Verdan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a investigación </a:t>
            </a:r>
            <a:r>
              <a:rPr b="0" lang="es-ES_tradn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ciente ha</a:t>
            </a:r>
            <a:r>
              <a:rPr b="0" lang="es-C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de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strado que la respuesta a esta</a:t>
            </a:r>
            <a:r>
              <a:rPr b="0" lang="es-ES_tradnl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egunta es un inequívoco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'sí'.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Verdana"/>
              </a:rPr>
              <a:t>CONCLUSIONES</a:t>
            </a:r>
            <a:br>
              <a:rPr sz="3200"/>
            </a:br>
            <a:r>
              <a:rPr b="0" lang="es-ES" sz="3200" spc="-1" strike="noStrike">
                <a:solidFill>
                  <a:srgbClr val="0000cc"/>
                </a:solidFill>
                <a:latin typeface="Verdana"/>
              </a:rPr>
              <a:t>Desde la investigación y la teoría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0000cc"/>
                </a:solidFill>
                <a:latin typeface="Verdana"/>
              </a:rPr>
              <a:t>Conclusiones concordantes en las distintas investigaciones</a:t>
            </a:r>
            <a:endParaRPr b="0" lang="en-US" sz="20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M., Beattie, J., &amp; Dockrell, W. (1993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issues in higher education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University of Newcastle upon Tyne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lack, P., and Wiliam, D. (1998a). Assessment and classroom learning. Assessment in Education, 5 (1): 7-74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lack, P. and Wiliam, D. (1998b). Inside the black box: Raising standards through classroom assessment. 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hi Delta Kappan, 80 (2): 139-148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d, D. (1986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Student Self-Assessment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ol. No 5). Campbelltown: HERDSA.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erman, J.L., Ashbacher, P.R., and Winters, L. (1992). A Practical Guide to Alternative Assessment. Alexandria, VA: Association for Supervision and Curriculum Development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, R., McInnis, C. and Devlin, M. (2002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Learning in Australian Universiti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toria: Centre for the Study of Higher Education University of Melbourne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, P. (Ed.). (1995). </a:t>
            </a:r>
            <a:r>
              <a:rPr b="0" i="1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for Learning in Higher Education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ndon: Kogan Page Ltd.</a:t>
            </a:r>
            <a:r>
              <a:rPr b="0" lang="es-E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cCurdy, B.L., and Shapiro, E.S. (1992). A comparison of teacher monitoring, peer monitoring, and self-monitoring with curriculum-based measurement in reading among students with learning disabilities. Journal of Special Education, 26 (2): 162-180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amaprasad, A. (1983). On the definition of feedback. Behavioral Science, 28 (1): 4-13.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dler, D.R. (1989). Formative assessment and the design of instructional systems. Instructional Science, 18 (2): 119-144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.........esto es sólo la punta del iceberg de los últimos quince años..........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50:55Z</dcterms:created>
  <dc:creator>mbick</dc:creator>
  <dc:description/>
  <dc:language>en-US</dc:language>
  <cp:lastModifiedBy>..</cp:lastModifiedBy>
  <dcterms:modified xsi:type="dcterms:W3CDTF">2010-04-22T23:21:56Z</dcterms:modified>
  <cp:revision>79</cp:revision>
  <dc:subject/>
  <dc:title>Formación en evaluación para el aprendizaje</dc:title>
</cp:coreProperties>
</file>