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media/image6.jpeg" ContentType="image/jpe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17F6C9-C294-418D-A634-B3AC756A00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752CA1-B536-4BC3-A0C7-022D37DB62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C9E896-1C2C-463F-96E0-E3B0106E55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6298C4-5DCC-4127-9A05-55E680F72E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D9CE25D-A75F-4523-87A6-357EB455223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63E14B-7CF5-42A8-BBD3-F270E03742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BB677F-6BF5-49A2-9E62-403A48D971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1939FC-6052-4435-81FE-76148BA3C7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6BD43E-B2D9-4B60-9683-5AEF25405F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DF8928-64B6-4416-B00A-25E9E159A9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CFF213-CF28-4AE8-B179-20268179D2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1470F3-1B19-47D8-B856-4D77330C89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06C4B7-AE43-4EB1-AF57-9DC8F1E127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8E1EC5-B7BF-43E9-BF05-E9C14FFCB4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099E87-62D6-49ED-9450-BE004E1B38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D1826A3-CFC0-4E22-A9C0-2A67C8403A1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135F032-19B0-483B-8959-3D4D73F48B8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121466C-2D70-4781-9A48-D9C8390B1EF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D192C56-E05C-4CD6-A060-C36E2A2DE15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C27EF44-BE80-4231-9027-8F863E30D2E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B1399D5-6658-4C71-9BE7-6450A305818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49EA109-EB4E-4ED1-B1D3-1F2CE0D4125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DF3465-8FCB-4C86-BCAA-243E583C70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EB641BB-67E1-48A6-9C34-9449EA6ADE5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61D68F8-1B41-421F-A1A9-8F3C88EB7AB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573C9EE-1467-4F22-98B4-52C24097F3D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A7B70D2-C60C-4302-91E4-1888BF28D71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50D73B4-5579-4B46-B467-033A34A97B5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1A4C882-EEF1-425C-8706-E5D833FAF65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A36062C-058B-4942-BC24-B0C86D18679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5326002-3B73-463A-972B-450F1373B39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35AD20E-15C5-48F3-A62A-9826319C014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0923547-1491-466E-BA39-216D5C9AD69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B251EE-554E-46DD-B5A7-8895B1DFDE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2949032-8E40-40F6-8B3E-D9A103D5634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605B2F0-8577-4927-B2A6-DC5F627C92B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44D060F-AD61-4825-9583-5D4DC83117A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317245B-DB30-4AA5-9AE2-DEFCD98778C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29F6EA9-5513-4CB8-A428-4A2F826614F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57E8503-4661-4EAC-A65B-0B2E0DEFADC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3476312-21E3-4FA8-AAC2-C8C55374F28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C140EF3-4B52-42B6-A655-0307FF4DD7B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5B40467-E2D0-417A-9B93-5D38A52445B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0B307F8-154F-4EEC-B375-F50B74D3BB0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81B7F0-94BD-448D-93AA-02975041FD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577A21E-85DD-4997-ABB6-537DAB0F553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FE485F8-EEF9-43A6-A3CF-9E34EF41A79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7C0E0F8-0B78-4237-834C-71BC40067C3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0A2839C-8E18-4837-9E2C-56880FF24C0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FAD01E6-F425-4987-97D2-C6DE81DA2BD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563AED6-AE4B-4D33-B114-3F0119554B7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B1FFDFC-07C1-4A88-B270-44EBABD01FA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AA41507-0576-490B-ABE3-461D6E58034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0161788-9EDD-441B-947D-60B8FE2EF28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1CC567D-7F1A-45F4-9E1D-95318B933B5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FDB55E-B4C1-483E-8C2D-9EEA7074BA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26B2F59-5D0D-4AD1-B998-D465B66E569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B8B62B8-E884-41C3-8A7A-F360A68C608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1B76BE7-F5EC-43B7-8B8E-6132590E5BA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E8AFE90-519B-4102-AEF2-847CCF5678B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F93539B-25A5-4C57-9114-64732F13AF2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882897A-73F9-4D8E-8B61-0D2AFD410FE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F343504-987A-45C9-AED6-D7ECEC3D12B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3847DE2-AB5C-44C5-87ED-578F713D5F5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AF8C7AA-E5EE-4075-B281-F8BAA611BDF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B5DD18E-2293-47E8-A537-E9C8EC5C45D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1B7EF2-2489-405B-90BA-60552352F1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14611A9-449C-4863-A538-71077B514B1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1AC4D80-591A-4954-A778-E292FDC65B9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0E381A9-401F-443E-9E9D-21CE7367EF0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C9EA534-89E1-4D6A-B742-2F7181F1F0B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1A9F442-3CB0-4C3B-8353-4348DA1CA49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B02DB3F-9E84-423A-B253-D596FFCF914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A88A661-A3B3-4A9F-9814-20F38730AA8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0F93F3F-A213-41CE-90B5-E273E0821ED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A5C01F6-02B8-410E-A055-99831938DAD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1D59E01-549E-4B5C-8429-EE990F7671B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8714FD-5681-4730-969C-5C754057BA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5A3EBAF-12DC-4CC7-8292-2730C01F284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D14E79C-E61E-4C5C-B779-6848657ED32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84FDC74-E4D2-4ACF-A52F-79ED92553ED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832B45A-86F4-4463-901B-EAF056D1D4D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BE03676-9402-4436-B6C0-A0E68A909EE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7BD985C-F65C-4341-A24B-8BDCB911FD3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7FA52B2-6990-4DD0-9116-899D1D507F7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762D659-6379-432D-8F63-651D2707CC0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8E28071-9C46-46CF-8C69-58A180DE7C9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B1A1B4D-131F-4D9D-A700-D20304866FE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6304DD-C4AA-4CDD-B416-2ED1FC719E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1D4D602-04D7-4909-AFC6-FC29580AE05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AE7C809-9529-4558-A7C9-4700A8C5B6B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29394AA-FCD2-4598-B4AD-A99264F52BB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DAAB762-B1CE-4F2C-8266-8BDD9DC0CC2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1950799-11B3-4D70-8B9D-0D7252317F0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19643DC-9EB9-429E-9AD0-C6A3D5CDEC0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401B040-B014-463D-911D-D22516DD4E80}"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12 Forma libre"/>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11 Forma libre"/>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 name="13 Triángulo rectángulo"/>
          <p:cNvGrpSpPr/>
          <p:nvPr/>
        </p:nvGrpSpPr>
        <p:grpSpPr>
          <a:xfrm>
            <a:off x="-12600" y="5784840"/>
            <a:ext cx="3414600" cy="1092240"/>
            <a:chOff x="-12600" y="5784840"/>
            <a:chExt cx="3414600" cy="1092240"/>
          </a:xfrm>
        </p:grpSpPr>
        <p:pic>
          <p:nvPicPr>
            <p:cNvPr id="3" name="13 Triángulo rectángulo" descr=""/>
            <p:cNvPicPr/>
            <p:nvPr/>
          </p:nvPicPr>
          <p:blipFill>
            <a:blip r:embed="rId2"/>
            <a:stretch/>
          </p:blipFill>
          <p:spPr>
            <a:xfrm>
              <a:off x="-12600" y="5784840"/>
              <a:ext cx="3414600" cy="109224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5" name="14 Conector recto" descr=""/>
          <p:cNvPicPr/>
          <p:nvPr/>
        </p:nvPicPr>
        <p:blipFill>
          <a:blip r:embed="rId3"/>
          <a:stretch/>
        </p:blipFill>
        <p:spPr>
          <a:xfrm>
            <a:off x="-19080" y="5772240"/>
            <a:ext cx="3421080" cy="11095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657C74-6B10-473C-96AC-1D56E81D0F35}" type="slidenum">
              <a:rPr b="0" lang="es-E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10 Triángulo rectángulo"/>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 name="15 Grupo"/>
          <p:cNvGrpSpPr/>
          <p:nvPr/>
        </p:nvGrpSpPr>
        <p:grpSpPr>
          <a:xfrm>
            <a:off x="-3240" y="4952880"/>
            <a:ext cx="9147240" cy="1911600"/>
            <a:chOff x="-3240" y="4952880"/>
            <a:chExt cx="9147240" cy="1911600"/>
          </a:xfrm>
        </p:grpSpPr>
        <p:sp>
          <p:nvSpPr>
            <p:cNvPr id="49" name="16 Forma libre"/>
            <p:cNvSpPr/>
            <p:nvPr/>
          </p:nvSpPr>
          <p:spPr>
            <a:xfrm>
              <a:off x="1693440" y="4952880"/>
              <a:ext cx="7444440" cy="48672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18 Forma libre"/>
            <p:cNvSpPr/>
            <p:nvPr/>
          </p:nvSpPr>
          <p:spPr>
            <a:xfrm>
              <a:off x="44280" y="5236560"/>
              <a:ext cx="9093600" cy="7862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1" name="19 Forma libre"/>
            <p:cNvGrpSpPr/>
            <p:nvPr/>
          </p:nvGrpSpPr>
          <p:grpSpPr>
            <a:xfrm>
              <a:off x="2520" y="4992120"/>
              <a:ext cx="9141480" cy="1872360"/>
              <a:chOff x="2520" y="4992120"/>
              <a:chExt cx="9141480" cy="1872360"/>
            </a:xfrm>
          </p:grpSpPr>
          <p:pic>
            <p:nvPicPr>
              <p:cNvPr id="52" name="19 Forma libre" descr=""/>
              <p:cNvPicPr/>
              <p:nvPr/>
            </p:nvPicPr>
            <p:blipFill>
              <a:blip r:embed="rId2"/>
              <a:stretch/>
            </p:blipFill>
            <p:spPr>
              <a:xfrm>
                <a:off x="2520" y="4992120"/>
                <a:ext cx="9141480" cy="1872360"/>
              </a:xfrm>
              <a:prstGeom prst="rect">
                <a:avLst/>
              </a:prstGeom>
              <a:ln w="0">
                <a:noFill/>
              </a:ln>
            </p:spPr>
          </p:pic>
          <p:sp>
            <p:nvSpPr>
              <p:cNvPr id="53" name=""/>
              <p:cNvSpPr/>
              <p:nvPr/>
            </p:nvSpPr>
            <p:spPr>
              <a:xfrm>
                <a:off x="8280" y="500040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54" name="20 Conector recto" descr=""/>
            <p:cNvPicPr/>
            <p:nvPr/>
          </p:nvPicPr>
          <p:blipFill>
            <a:blip r:embed="rId3"/>
            <a:stretch/>
          </p:blipFill>
          <p:spPr>
            <a:xfrm>
              <a:off x="-3240" y="4986000"/>
              <a:ext cx="9147240" cy="814320"/>
            </a:xfrm>
            <a:prstGeom prst="rect">
              <a:avLst/>
            </a:prstGeom>
            <a:ln w="0">
              <a:noFill/>
            </a:ln>
          </p:spPr>
        </p:pic>
      </p:gr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3F904B-1DA8-47B9-B8D6-EEA31BFBDAE9}" type="slidenum">
              <a:rPr b="0" lang="es-E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12 Forma libre"/>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11 Forma libre"/>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98" name="13 Triángulo rectángulo"/>
          <p:cNvGrpSpPr/>
          <p:nvPr/>
        </p:nvGrpSpPr>
        <p:grpSpPr>
          <a:xfrm>
            <a:off x="-12600" y="5784840"/>
            <a:ext cx="3414600" cy="1092240"/>
            <a:chOff x="-12600" y="5784840"/>
            <a:chExt cx="3414600" cy="1092240"/>
          </a:xfrm>
        </p:grpSpPr>
        <p:pic>
          <p:nvPicPr>
            <p:cNvPr id="99" name="13 Triángulo rectángulo" descr=""/>
            <p:cNvPicPr/>
            <p:nvPr/>
          </p:nvPicPr>
          <p:blipFill>
            <a:blip r:embed="rId3"/>
            <a:stretch/>
          </p:blipFill>
          <p:spPr>
            <a:xfrm>
              <a:off x="-12600" y="5784840"/>
              <a:ext cx="3414600" cy="1092240"/>
            </a:xfrm>
            <a:prstGeom prst="rect">
              <a:avLst/>
            </a:prstGeom>
            <a:ln w="0">
              <a:noFill/>
            </a:ln>
          </p:spPr>
        </p:pic>
        <p:sp>
          <p:nvSpPr>
            <p:cNvPr id="1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101" name="14 Conector recto" descr=""/>
          <p:cNvPicPr/>
          <p:nvPr/>
        </p:nvPicPr>
        <p:blipFill>
          <a:blip r:embed="rId4"/>
          <a:stretch/>
        </p:blipFill>
        <p:spPr>
          <a:xfrm>
            <a:off x="-19080" y="5772240"/>
            <a:ext cx="3421080" cy="1109520"/>
          </a:xfrm>
          <a:prstGeom prst="rect">
            <a:avLst/>
          </a:prstGeom>
          <a:ln w="0">
            <a:noFill/>
          </a:ln>
        </p:spPr>
      </p:pic>
      <p:sp>
        <p:nvSpPr>
          <p:cNvPr id="102" name="10 Cheurón"/>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15 Cheurón"/>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0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6"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696DFC-BC2A-4C32-B300-F2C39E1DA60E}" type="slidenum">
              <a:rPr b="0" lang="es-E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5" name="12 Forma libre"/>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 name="11 Forma libre"/>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47" name="13 Triángulo rectángulo"/>
          <p:cNvGrpSpPr/>
          <p:nvPr/>
        </p:nvGrpSpPr>
        <p:grpSpPr>
          <a:xfrm>
            <a:off x="-12600" y="5784840"/>
            <a:ext cx="3414600" cy="1092240"/>
            <a:chOff x="-12600" y="5784840"/>
            <a:chExt cx="3414600" cy="1092240"/>
          </a:xfrm>
        </p:grpSpPr>
        <p:pic>
          <p:nvPicPr>
            <p:cNvPr id="148" name="13 Triángulo rectángulo" descr=""/>
            <p:cNvPicPr/>
            <p:nvPr/>
          </p:nvPicPr>
          <p:blipFill>
            <a:blip r:embed="rId3"/>
            <a:stretch/>
          </p:blipFill>
          <p:spPr>
            <a:xfrm>
              <a:off x="-12600" y="5784840"/>
              <a:ext cx="3414600" cy="1092240"/>
            </a:xfrm>
            <a:prstGeom prst="rect">
              <a:avLst/>
            </a:prstGeom>
            <a:ln w="0">
              <a:noFill/>
            </a:ln>
          </p:spPr>
        </p:pic>
        <p:sp>
          <p:nvSpPr>
            <p:cNvPr id="14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150" name="14 Conector recto" descr=""/>
          <p:cNvPicPr/>
          <p:nvPr/>
        </p:nvPicPr>
        <p:blipFill>
          <a:blip r:embed="rId4"/>
          <a:stretch/>
        </p:blipFill>
        <p:spPr>
          <a:xfrm>
            <a:off x="-19080" y="5772240"/>
            <a:ext cx="3421080" cy="1109520"/>
          </a:xfrm>
          <a:prstGeom prst="rect">
            <a:avLst/>
          </a:prstGeom>
          <a:ln w="0">
            <a:noFill/>
          </a:ln>
        </p:spPr>
      </p:pic>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5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3"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D5F659-C115-4D1C-9180-DC1AB492E00A}" type="slidenum">
              <a:rPr b="0" lang="es-E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9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4"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60BEAD-2F43-4A25-A4B3-B6BB10A3D8F7}" type="slidenum">
              <a:rPr b="0" lang="es-E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12 Forma libre"/>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4" name="11 Forma libre"/>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35" name="13 Triángulo rectángulo"/>
          <p:cNvGrpSpPr/>
          <p:nvPr/>
        </p:nvGrpSpPr>
        <p:grpSpPr>
          <a:xfrm>
            <a:off x="-12600" y="5784840"/>
            <a:ext cx="3414600" cy="1092240"/>
            <a:chOff x="-12600" y="5784840"/>
            <a:chExt cx="3414600" cy="1092240"/>
          </a:xfrm>
        </p:grpSpPr>
        <p:pic>
          <p:nvPicPr>
            <p:cNvPr id="236" name="13 Triángulo rectángulo" descr=""/>
            <p:cNvPicPr/>
            <p:nvPr/>
          </p:nvPicPr>
          <p:blipFill>
            <a:blip r:embed="rId3"/>
            <a:stretch/>
          </p:blipFill>
          <p:spPr>
            <a:xfrm>
              <a:off x="-12600" y="5784840"/>
              <a:ext cx="3414600" cy="1092240"/>
            </a:xfrm>
            <a:prstGeom prst="rect">
              <a:avLst/>
            </a:prstGeom>
            <a:ln w="0">
              <a:noFill/>
            </a:ln>
          </p:spPr>
        </p:pic>
        <p:sp>
          <p:nvSpPr>
            <p:cNvPr id="23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238" name="14 Conector recto" descr=""/>
          <p:cNvPicPr/>
          <p:nvPr/>
        </p:nvPicPr>
        <p:blipFill>
          <a:blip r:embed="rId4"/>
          <a:stretch/>
        </p:blipFill>
        <p:spPr>
          <a:xfrm>
            <a:off x="-19080" y="5772240"/>
            <a:ext cx="3421080" cy="1109520"/>
          </a:xfrm>
          <a:prstGeom prst="rect">
            <a:avLst/>
          </a:prstGeom>
          <a:ln w="0">
            <a:noFill/>
          </a:ln>
        </p:spPr>
      </p:pic>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4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41"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2"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3"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4DE55D-2AF1-4549-A882-05FD26FCF9CF}" type="slidenum">
              <a:rPr b="0" lang="es-E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8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82"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3"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4"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81BE6F-4B1C-4D2F-BF5B-5CD08D0C5DE4}" type="slidenum">
              <a:rPr b="0" lang="es-E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1" name="10 Forma libre"/>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2" name="15 Forma libre"/>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23" name="16 Triángulo rectángulo"/>
          <p:cNvGrpSpPr/>
          <p:nvPr/>
        </p:nvGrpSpPr>
        <p:grpSpPr>
          <a:xfrm>
            <a:off x="-12600" y="5784840"/>
            <a:ext cx="3414600" cy="1092240"/>
            <a:chOff x="-12600" y="5784840"/>
            <a:chExt cx="3414600" cy="1092240"/>
          </a:xfrm>
        </p:grpSpPr>
        <p:pic>
          <p:nvPicPr>
            <p:cNvPr id="324" name="16 Triángulo rectángulo" descr=""/>
            <p:cNvPicPr/>
            <p:nvPr/>
          </p:nvPicPr>
          <p:blipFill>
            <a:blip r:embed="rId3"/>
            <a:stretch/>
          </p:blipFill>
          <p:spPr>
            <a:xfrm>
              <a:off x="-12600" y="5784840"/>
              <a:ext cx="3414600" cy="1092240"/>
            </a:xfrm>
            <a:prstGeom prst="rect">
              <a:avLst/>
            </a:prstGeom>
            <a:ln w="0">
              <a:noFill/>
            </a:ln>
          </p:spPr>
        </p:pic>
        <p:sp>
          <p:nvSpPr>
            <p:cNvPr id="32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326" name="18 Conector recto" descr=""/>
          <p:cNvPicPr/>
          <p:nvPr/>
        </p:nvPicPr>
        <p:blipFill>
          <a:blip r:embed="rId4"/>
          <a:stretch/>
        </p:blipFill>
        <p:spPr>
          <a:xfrm>
            <a:off x="-19080" y="5772240"/>
            <a:ext cx="3421080" cy="1109520"/>
          </a:xfrm>
          <a:prstGeom prst="rect">
            <a:avLst/>
          </a:prstGeom>
          <a:ln w="0">
            <a:noFill/>
          </a:ln>
        </p:spPr>
      </p:pic>
      <p:sp>
        <p:nvSpPr>
          <p:cNvPr id="327" name="19 Cheurón"/>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8" name="20 Cheurón"/>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3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31"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2"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3"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4AF017-5CCF-4AAF-96E6-3660156191C9}" type="slidenum">
              <a:rPr b="0" lang="es-E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1 CuadroTexto"/>
          <p:cNvSpPr/>
          <p:nvPr/>
        </p:nvSpPr>
        <p:spPr>
          <a:xfrm>
            <a:off x="1299240" y="2214720"/>
            <a:ext cx="667584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Condiciones de educabilidad</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Text Box 2"/>
          <p:cNvSpPr/>
          <p:nvPr/>
        </p:nvSpPr>
        <p:spPr>
          <a:xfrm>
            <a:off x="1447920" y="2057400"/>
            <a:ext cx="710244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Arial"/>
                <a:ea typeface="Times New Roman"/>
              </a:rPr>
              <a:t>El amor en la escuela se llama aprendizaje. Si entiendo al profe de matemáticas, soy feliz; si no aprendo, soy infeliz.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Arial"/>
                <a:ea typeface="Times New Roman"/>
              </a:rPr>
              <a:t>Entonces, un LICEO HUMANO, es un liceo donde se aprend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Arial"/>
                <a:ea typeface="Times New Roman"/>
              </a:rPr>
              <a:t>Prof. Gabriel Castill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Text Box 2"/>
          <p:cNvSpPr/>
          <p:nvPr/>
        </p:nvSpPr>
        <p:spPr>
          <a:xfrm>
            <a:off x="1143000" y="1143000"/>
            <a:ext cx="717876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Calibri"/>
                <a:ea typeface="Times New Roman"/>
              </a:rPr>
              <a:t>El año escolar llegaba a su fin y el señor Bernard los había retenid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Calibri"/>
                <a:ea typeface="Times New Roman"/>
              </a:rPr>
              <a:t> “</a:t>
            </a:r>
            <a:r>
              <a:rPr b="0" i="1" lang="es-ES_tradnl" sz="2400" spc="-1" strike="noStrike">
                <a:solidFill>
                  <a:srgbClr val="000000"/>
                </a:solidFill>
                <a:latin typeface="Calibri"/>
                <a:ea typeface="Times New Roman"/>
              </a:rPr>
              <a:t>Bueno-dijo el señor Bernard- he decidido presentaros a la beca de los liceos (...) La escuela primaria es la mejor de todas, pero no lleva a ninguna parte. El liceo abre todas las puertas. Y prefiero que sean los chicos pobres como vosotros los que entren por esas puertas.” </a:t>
            </a:r>
            <a:r>
              <a:rPr b="0" i="1" lang="es-ES_tradnl" sz="2400" spc="-1" strike="noStrike">
                <a:solidFill>
                  <a:srgbClr val="000000"/>
                </a:solidFill>
                <a:latin typeface="Calibri"/>
                <a:ea typeface="Times New Roman"/>
              </a:rPr>
              <a:t>	</a:t>
            </a:r>
            <a:r>
              <a:rPr b="0" i="1" lang="es-ES_tradnl" sz="2400" spc="-1" strike="noStrike">
                <a:solidFill>
                  <a:srgbClr val="000000"/>
                </a:solidFill>
                <a:latin typeface="Calibri"/>
                <a:ea typeface="Times New Roman"/>
              </a:rPr>
              <a:t>	</a:t>
            </a:r>
            <a:r>
              <a:rPr b="0" i="1" lang="es-ES_tradnl" sz="2400" spc="-1" strike="noStrike">
                <a:solidFill>
                  <a:srgbClr val="000000"/>
                </a:solidFill>
                <a:latin typeface="Calibri"/>
                <a:ea typeface="Times New Roman"/>
              </a:rPr>
              <a:t>	</a:t>
            </a:r>
            <a:r>
              <a:rPr b="0" i="1" lang="es-ES_tradnl" sz="2400" spc="-1" strike="noStrike">
                <a:solidFill>
                  <a:srgbClr val="000000"/>
                </a:solidFill>
                <a:latin typeface="Calibri"/>
                <a:ea typeface="Times New Roman"/>
              </a:rPr>
              <a:t>	</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Calibri"/>
                <a:ea typeface="Times New Roman"/>
              </a:rPr>
              <a:t> </a:t>
            </a:r>
            <a:r>
              <a:rPr b="0" i="1" lang="es-ES_tradnl" sz="2400" spc="-1" strike="noStrike">
                <a:solidFill>
                  <a:srgbClr val="000000"/>
                </a:solidFill>
                <a:latin typeface="Calibri"/>
                <a:ea typeface="Times New Roman"/>
              </a:rPr>
              <a:t>Albert Camus “El Primer Hombre” </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Text Box 2"/>
          <p:cNvSpPr/>
          <p:nvPr/>
        </p:nvSpPr>
        <p:spPr>
          <a:xfrm>
            <a:off x="1219320" y="838080"/>
            <a:ext cx="7407000" cy="4717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Arial"/>
                <a:ea typeface="Times New Roman"/>
              </a:rPr>
              <a:t>En la plaza de un puebl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Arial"/>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Arial"/>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Arial"/>
                <a:ea typeface="Times New Roman"/>
              </a:rPr>
              <a:t>En medio de la plaza de de un pequeño pueblo de Cataluña había un banco de madera. Junto al banco un funcionario hacía guardia. Nadie sabía por qué se hacía la guardia del banco. La guardia se hacía porque se hacía, noche y día, todas las noches,  todos los días, y de generación en generación, los sucesivos alcaldes transmitían la orden y los funcionarios la obedecían. Nadie nunca dudó, nadie nunca preguntó. Si así se hacía, y siempre se había hecho, por algo serí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Arial"/>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Arial"/>
                <a:ea typeface="Times New Roman"/>
              </a:rPr>
              <a:t>Y así siguió siendo hasta que alguien, no sé que alcalde o director de servicio, quiso conocer la orden original. Hubo que revolver a fondo los archivos. Y después de mucho hurgar, se supo. Hacía treinta y un años, dos meses y cuatro días, el alcalde de turno había mandado montar guardia junto al banco, que estaba recién pintado, para que a nadie se le ocurriera sentarse sobre la pintura fresc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Arial"/>
                <a:ea typeface="Times New Roman"/>
              </a:rPr>
              <a:t>- Eduardo Galeano, </a:t>
            </a:r>
            <a:r>
              <a:rPr b="0" lang="es-ES_tradnl" sz="1600" spc="-1" strike="noStrike">
                <a:solidFill>
                  <a:srgbClr val="000000"/>
                </a:solidFill>
                <a:latin typeface="Arial"/>
                <a:ea typeface="Times New Roman"/>
              </a:rPr>
              <a:t>El libro de los abrazos</a:t>
            </a:r>
            <a:r>
              <a:rPr b="0" i="1" lang="es-ES_tradnl" sz="1600" spc="-1" strike="noStrike">
                <a:solidFill>
                  <a:srgbClr val="000000"/>
                </a:solidFill>
                <a:latin typeface="Arial"/>
                <a:ea typeface="Times New Roman"/>
              </a:rPr>
              <a:t>-</a:t>
            </a:r>
            <a:r>
              <a:rPr b="0" lang="es-ES" sz="1600" spc="-1" strike="noStrike">
                <a:solidFill>
                  <a:srgbClr val="000000"/>
                </a:solidFill>
                <a:latin typeface="Arial"/>
              </a:rPr>
              <a:t> </a:t>
            </a:r>
            <a:r>
              <a:rPr b="0" lang="es-ES_tradnl" sz="1600" spc="-1" strike="noStrike">
                <a:solidFill>
                  <a:srgbClr val="000000"/>
                </a:solidFill>
                <a:latin typeface="Arial"/>
              </a:rPr>
              <a:t>(</a:t>
            </a:r>
            <a:r>
              <a:rPr b="0" i="1" lang="es-ES_tradnl" sz="1600" spc="-1" strike="noStrike">
                <a:solidFill>
                  <a:srgbClr val="000000"/>
                </a:solidFill>
                <a:latin typeface="Arial"/>
                <a:ea typeface="Times New Roman"/>
              </a:rPr>
              <a:t>Adaptación)</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Text Box 2"/>
          <p:cNvSpPr/>
          <p:nvPr/>
        </p:nvSpPr>
        <p:spPr>
          <a:xfrm>
            <a:off x="1371600" y="1143000"/>
            <a:ext cx="6797520" cy="411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Arial"/>
                <a:ea typeface="Times New Roman"/>
              </a:rPr>
              <a:t>Educación Compensatori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Times New Roman"/>
              </a:rPr>
              <a:t>Considera la diferencia como carencia, déficit, minusvalía, o  falta ; parte del déficit de los individuos culturalmente marginados, y por ello genera múltiples dispositivos escolares como modalidades de recuperación o mantenimiento en el sistema escolar, sin abordar el tema de las posibilidades de aprendizaje de esos mismos individuo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2"/>
          <p:cNvSpPr/>
          <p:nvPr/>
        </p:nvSpPr>
        <p:spPr>
          <a:xfrm>
            <a:off x="1143000" y="1219320"/>
            <a:ext cx="7620120" cy="448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Arial"/>
                <a:ea typeface="Times New Roman"/>
              </a:rPr>
              <a:t>Diversida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Times New Roman"/>
              </a:rPr>
              <a:t>En el campo educativo implica considerar a cada uno de acuerdo con lo que es y reconocer  lo que puede y necesita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Times New Roman"/>
              </a:rPr>
              <a:t>La diversidad no se aprecia como algo bajo lo normal o como una desviación respecto de lo común, o como una patología digna de tratamiento.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Times New Roman"/>
              </a:rPr>
              <a:t>En el liceo implica abrir posibilidades de caminos diversos para personas diversas, que tienen los mismos puntos de llegada,  reconociendo, de esa forma, las posibilidades de cada cual en el ámbito de los aprendizajes.</a:t>
            </a:r>
            <a:r>
              <a:rPr b="0" lang="es-ES" sz="2400" spc="-1" strike="noStrike">
                <a:solidFill>
                  <a:srgbClr val="000000"/>
                </a:solidFill>
                <a:latin typeface="Arial"/>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Text Box 3"/>
          <p:cNvSpPr/>
          <p:nvPr/>
        </p:nvSpPr>
        <p:spPr>
          <a:xfrm>
            <a:off x="1295280" y="838080"/>
            <a:ext cx="725508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000000"/>
                </a:solidFill>
                <a:latin typeface="Arial"/>
                <a:ea typeface="Arial"/>
              </a:rPr>
              <a:t>Implementación curricular en contextos adversos:</a:t>
            </a:r>
            <a:r>
              <a:rPr b="1" lang="es-CL" sz="2400" spc="-1" strike="noStrike">
                <a:solidFill>
                  <a:srgbClr val="000000"/>
                </a:solidFill>
                <a:latin typeface="Arial"/>
                <a:ea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ea typeface="Arial"/>
              </a:rPr>
              <a:t>La cuestión de la diversidad adquiere especial relevancia en este punto en tanto se la considera como punto de partida para el ofrecimiento de caminos distintos para quiénes disponen de modos y ritmos de aprendizaje diversos, pero con miras a contextualizar las orientaciones del curriculum. No se trata de ofrecer un curriculum minimizado, compensatorio para alumnos y alumnas cuyas condiciones de vida son adversas, sino que de abrir alternativas que conecten al alumnado con las demandas de la sociedad globa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Text Box 2"/>
          <p:cNvSpPr/>
          <p:nvPr/>
        </p:nvSpPr>
        <p:spPr>
          <a:xfrm>
            <a:off x="1660680" y="801720"/>
            <a:ext cx="694980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000000"/>
                </a:solidFill>
                <a:latin typeface="Arial"/>
                <a:ea typeface="Arial"/>
              </a:rPr>
              <a:t>Condiciones de educabilida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ea typeface="Arial"/>
              </a:rPr>
              <a:t>Se trata de empezar a enseñar desde el punto donde se encuentran los jóvenes, es decir,  considerar los cambios ocurridos en el contexto socio-económico que influyen en las condiciones de acceso a la escuela, así como los referidos a la cultura juvenil. En otras palabras, el acceso a la escuela no está acompañado solamente por expectativas de movilidad social, sino que también por grados de incertidumbre que emanan de un mercado de trabajo cambiante y segmentado.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Text Box 2"/>
          <p:cNvSpPr/>
          <p:nvPr/>
        </p:nvSpPr>
        <p:spPr>
          <a:xfrm>
            <a:off x="1295280" y="1143000"/>
            <a:ext cx="725508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Arial"/>
                <a:ea typeface="Times New Roman"/>
              </a:rPr>
              <a:t>Cuando una comunidad escolar toma conciencia de que existen ciertos aprendizajes básicos- ciertos valores, ciertos hábitos, ciertos conocimientos, ciertas habilidades- que necesitan poseer todas las personas; y cuando luego de esa toma de conciencia, asume la decisión de llevarla a la práctica y se empeña fuertemente en su realización, aún antes de que esa decisión alcance los resultados esperados, tales resultados ya han aparecido.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Text Box 2"/>
          <p:cNvSpPr/>
          <p:nvPr/>
        </p:nvSpPr>
        <p:spPr>
          <a:xfrm>
            <a:off x="1295280" y="1143000"/>
            <a:ext cx="731520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Arial"/>
                <a:ea typeface="Times New Roman"/>
              </a:rPr>
              <a:t>La Escuela de Anticipación necesita un profesional al mismo tiempo</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Arial"/>
                <a:ea typeface="Times New Roman"/>
              </a:rPr>
              <a:t> </a:t>
            </a:r>
            <a:r>
              <a:rPr b="0" i="1" lang="es-ES_tradnl" sz="2400" spc="-1" strike="noStrike">
                <a:solidFill>
                  <a:srgbClr val="000000"/>
                </a:solidFill>
                <a:latin typeface="Arial"/>
                <a:ea typeface="Times New Roman"/>
              </a:rPr>
              <a:t>capacitado en un saber y en la suscitación de su aprendizaje, </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Arial"/>
                <a:ea typeface="Times New Roman"/>
              </a:rPr>
              <a:t>en la programación con los alumnos de acciones comunes y de acciones individuales, </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Arial"/>
                <a:ea typeface="Times New Roman"/>
              </a:rPr>
              <a:t>en la habilidad para encaminar a los alumnos hacia niveles superiores de aprendizaje,</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Arial"/>
                <a:ea typeface="Times New Roman"/>
              </a:rPr>
              <a:t> </a:t>
            </a:r>
            <a:r>
              <a:rPr b="0" i="1" lang="es-ES_tradnl" sz="2400" spc="-1" strike="noStrike">
                <a:solidFill>
                  <a:srgbClr val="000000"/>
                </a:solidFill>
                <a:latin typeface="Arial"/>
                <a:ea typeface="Times New Roman"/>
              </a:rPr>
              <a:t>en la capacidad para trabajar con alumnos que son diferentes </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Arial"/>
                <a:ea typeface="Times New Roman"/>
              </a:rPr>
              <a:t>y en la capacidad de dar testimonio del cuidado de la vida.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0-27T14:53:10Z</dcterms:created>
  <dc:creator>Olidata Chile S.A.</dc:creator>
  <dc:description/>
  <dc:language>en-US</dc:language>
  <cp:lastModifiedBy>Carlos Ossa Illanes</cp:lastModifiedBy>
  <dcterms:modified xsi:type="dcterms:W3CDTF">2008-03-31T16:10:00Z</dcterms:modified>
  <cp:revision>5</cp:revision>
  <dc:subject/>
  <dc:title>Presentación de PowerPoint</dc:title>
</cp:coreProperties>
</file>