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F0F-8F8A-4D46-9E94-05A5B99C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EB7-6142-4843-8F04-92515853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95C-F1A0-4B0F-AE82-61CD28DC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1B9-CDBF-46EC-8379-0234CAB5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53A-EDFD-41ED-8CB0-8E45DE74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0CA4-7E37-4AE1-BDF3-73442F3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FBC-4CD2-4AB6-AD0B-5D07B81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7550-F918-43DF-B10C-7038F660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9C1-05F9-42CA-9840-C3F2B5A8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0534-FBCA-4BC9-B8B9-17CCA43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F21C-D854-46EA-89AD-3653391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03A-246E-4876-B15D-0A86F18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ED3-20B4-48E9-9DA6-6E5B94DB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C080-63F0-4144-B35F-B57AC0B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5673-5178-4B49-8515-BC18352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15D0-5C66-4CEB-B447-5D570608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6712-6566-4CA4-A1C7-14BE63CB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9AC5F-A9B2-4C29-806D-360977CE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4D48-A88D-48B1-A75D-5E85CCA8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23D3D-C103-4421-B6D2-79B487B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6FF4-A511-4CA0-8C77-002CA8BA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1BA0A-3AB4-4063-B14A-0D6D5AE9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733-E281-478F-A716-F086B0E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FBD09-70A3-4524-983E-6F042B3B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86643-1015-4115-8500-23261C8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83ECA-7A89-4110-B04E-675843A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E9D27-DDC5-4F5A-9881-2EA9E38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83568-F551-43C1-A8D8-22D7966B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06EE1-1218-4E38-B341-B2C2660F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2DD73-F22F-4CFE-B2AD-5CE7E5B6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92EB9-93B3-435D-94B4-5C6AE028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BBDAD-1AE9-4038-9A3A-AD32548F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E1350-7D20-4BB8-9269-35680AA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9A3-45DE-40E9-A942-903C08BC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DA592-018C-480A-A5E9-2E209CF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D98D8-7D83-4E09-981B-46B3DA0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8D759-C0F1-4522-9DD3-A3530B54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F9C19-69D9-4BFE-8381-1F6672A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BC758-CB56-40F9-A7EA-C6D9EB8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86DD6-36D9-443E-B053-3AD7DBAC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D650E-285F-4763-9160-152BA04D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ABCD8-6C77-48B1-9022-621D255E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28320-AA12-4999-85C3-3E8CC6A9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52135-A3A4-4EF0-9008-1A15EF75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A3B-ADA8-48E1-AB3F-010864E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73476-C3D7-433E-A9AA-1DC8F82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BEF20-4E76-4A03-8F95-CE7C675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36133-BB62-4D09-B330-0EC56ED1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3F1EA-B318-47CD-B95A-818406E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8C9BD-AB06-4EC6-90D0-72388F6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BCF14-E3E5-4AE2-AC78-18251CD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1D673-E93B-4B70-9A9E-8D4ED9D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8AC0E-E8DB-4020-BF21-DD4ED2D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9EAC2-6224-4279-9A87-05CC42B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5C758-F5DC-4093-BD66-11E088B7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515-7F93-4443-B853-EF247ADA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351B5-7495-41A0-AB07-AAFFF363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90F5D-4384-45DF-B5C8-8034A6D1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A587-D06A-4AC5-A8B8-56A6C933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3AB8-D963-404E-9EA5-65784F15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1FBF4-D5C5-4139-A4BA-7984D8A1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3667-436B-4EDA-99B2-CDA958D9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C379-D5F5-4947-9893-7F55BB7E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3BCD-C81D-434B-87F6-6A401AF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D36C-B797-4739-AED2-B44AB34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5319-5C27-4A4B-A435-5882808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465-F899-4647-B585-DAD6358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9DAB-C3CE-469D-BC94-A14FB66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0C10-D40A-4A75-894E-FE0CDCFF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C8CD-4EAF-41DF-9E37-F63DF29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37008-64FB-4B3E-B559-DDDE10B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9557E-A636-4908-A796-E2BC77F9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638E1-7889-4CF3-83AD-8F02B8E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8FAD3-FB2B-4BE9-B375-4FF3E36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4EF22-871D-4F6B-9378-A549C1C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E2A9F-5BCA-45C0-9C29-8C5CF38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7E6D2-276A-44A1-9018-6208989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E66-0E6F-478E-89F1-232A76FE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D8622-0C38-400A-9F94-BA0BF4F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6AFCB-F3DC-4FE4-8F0D-27E9E87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C98D4-FBFD-4ED0-8046-350A5D4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08CAD-C121-4D3E-9FBF-CB1E4B72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603F6-1EDD-4DF7-A954-7406AA30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72002-9188-4DF6-8D14-B6F90370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AD2C9-3C0E-4096-9B07-CA46A07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E5FB-C741-4B61-8144-EC2C3FB8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698B-3396-4FEA-A735-43ADA1DF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1F22-2295-4D94-8269-7EA07F2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580-B567-4BC6-9F3B-F2BA4DA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E1C7-7E70-4C59-94BC-3E6719C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E957-9657-43B2-849C-FAE15CF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FDFC6-BFFC-4D0B-B22F-B6C0E9D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6AC6-2CED-4660-ACD5-3747CCF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78E9F-E0EA-4555-A03A-75527E2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5271-FF3C-4AE2-95EC-8542FA4A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F1A0-E558-4BFA-910C-C924592D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14D-027C-4BE8-A6A4-A947BCAFD2F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1F5-2410-4D88-B421-086F15059736}" type="slidenum">
              <a:rPr b="1" lang="es-C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8CA-3CE0-4038-A302-8EE0FE5696A4}" type="slidenum"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C9B-ADB1-4E8E-A43B-332490DFEDE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D465-B50C-4AD7-8240-0E144A2E29D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A2B-45FE-4539-9749-2E9B9972EA76}" type="slidenum">
              <a:rPr b="1" lang="es-C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E86-9EBD-4413-A674-A15E3BBEFAB6}" type="slidenum"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212-B73A-421C-844F-B2F7B1DE55B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dc3"/>
                </a:solidFill>
                <a:latin typeface="Tw Cen MT"/>
              </a:rPr>
              <a:t>EVALUAR PARA QUE SE APREND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Afl 004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Afl 005"/>
          <p:cNvPicPr/>
          <p:nvPr/>
        </p:nvPicPr>
        <p:blipFill>
          <a:blip r:embed="rId1"/>
          <a:stretch/>
        </p:blipFill>
        <p:spPr>
          <a:xfrm>
            <a:off x="1476360" y="1197000"/>
            <a:ext cx="5832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Afl 006"/>
          <p:cNvPicPr/>
          <p:nvPr/>
        </p:nvPicPr>
        <p:blipFill>
          <a:blip r:embed="rId1"/>
          <a:stretch/>
        </p:blipFill>
        <p:spPr>
          <a:xfrm>
            <a:off x="1476360" y="1079640"/>
            <a:ext cx="6416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15c6f"/>
                </a:solidFill>
                <a:latin typeface="Tahoma"/>
              </a:rPr>
              <a:t>¿De qué aprendizaje se está hablan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Capacidad de movilizar conocimientos, habilidades y actitudes en contextos determinados, no como conocimientos puntuales, aislados unos de otros, sino que puestos en acción y, por ende, articulado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15c6f"/>
                </a:solidFill>
                <a:latin typeface="Tahoma"/>
                <a:ea typeface="Times New Roman"/>
              </a:rPr>
              <a:t>Son clave en la medida que están a la base de muchos desempeños, se trata de las competencias de fondo que trascienden los aprendizajes puntu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268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42920" y="500040"/>
          <a:ext cx="8677080" cy="5821560"/>
        </p:xfrm>
        <a:graphic>
          <a:graphicData uri="http://schemas.openxmlformats.org/drawingml/2006/table">
            <a:tbl>
              <a:tblPr/>
              <a:tblGrid>
                <a:gridCol w="4284720"/>
                <a:gridCol w="4392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profun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rendizaje superfi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desarrollar compresiones personales (de los temas estudiados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intento por ser capaz de reproducir contenidos, tanto como sea necesari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acción “activa” con los contenidos, particularmente los relacionados con conocimiento previo y experienci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eptación pasiva de ideas e inform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principios integradores para  aglutinar idea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ta de reconocimiento de principios articuladores y patrones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a evidencias con conclusion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alización de los esfuerzos de aprendizaje en los requerimientos de la evaluaci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De aprender, lo que es aprender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l ser humano no aprende cosas con las que no puede establecer relaciones, o de las que no tenga la más mínima no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05a76"/>
                </a:solidFill>
                <a:latin typeface="Tahoma"/>
              </a:rPr>
              <a:t>La evaluación de aula tradicionalmente</a:t>
            </a:r>
            <a:r>
              <a:rPr b="0" lang="es-ES" sz="4000" spc="-1" strike="noStrike">
                <a:solidFill>
                  <a:srgbClr val="205a7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Da cuenta de aprendizajes poco relevantes para el estudiante y para las expectativas curricular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hace bajo criterios que solo tiene el profesor en la me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205a76"/>
                </a:solidFill>
                <a:latin typeface="Tahoma"/>
              </a:rPr>
              <a:t>Se vincula a la calificación y toma importancia en momentos puntuales del proceso enseñanza y aprendizaj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05a76"/>
                </a:solidFill>
                <a:latin typeface="Tahoma"/>
              </a:rPr>
              <a:t>La evaluación contribuye a mejorar el aprendizaje de alumnos y alumnas cuando: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74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dd8047"/>
                </a:solidFill>
                <a:uFillTx/>
                <a:latin typeface="Tahoma"/>
              </a:rPr>
              <a:t>Se basa en criterios que son conocidos y comprendidos por todo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Si el parámetro es conocido y comprendido por los involucrados, permite orientar el aprendizaj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Los criterios de evaluación explicitan qué es lo que se evaluará y  ofrecen descripciones de distintos niveles de calidad en un continuo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Permiten definir niveles de desempeño para ver cuán bueno es el trabajo del estudiante y así responsabilizarse de su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1375"/>
              </a:spcBef>
              <a:buClr>
                <a:srgbClr val="dd804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205a76"/>
                </a:solidFill>
                <a:latin typeface="Tahoma"/>
              </a:rPr>
              <a:t>Criterios estables permiten monitorear la progresión del aprendizaj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3:05:36Z</dcterms:created>
  <dc:creator>Carlos Ossa Illanes</dc:creator>
  <dc:description/>
  <dc:language>en-US</dc:language>
  <cp:lastModifiedBy>..</cp:lastModifiedBy>
  <dcterms:modified xsi:type="dcterms:W3CDTF">2010-05-05T17:09:21Z</dcterms:modified>
  <cp:revision>4</cp:revision>
  <dc:subject/>
  <dc:title>Evaluar para que se aprenda</dc:title>
</cp:coreProperties>
</file>