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F53-BC81-49DA-A3DC-E92D0DA3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6E63-25B3-493E-81B9-7F5E5B09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1B70-9AD6-4A24-8BD1-E1CB7377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A14-15E0-404A-A7DF-A9C2391B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68DE-1E4C-4285-98E5-8444BDF6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BB73-159C-4C42-AE72-9AE2AA46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1ADB-A084-4649-B30D-F41A1271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0139-0639-46DF-9A0D-8C4193F7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7CA6-4517-4154-AFA5-DAC7761E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E65D-997D-4E4F-B860-C469C44B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29E0-37A7-47D7-9CE9-D7A12697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66B-2465-4364-98B5-F4DF9055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B63F-940F-4DB8-B44A-F4250C94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982-C524-482F-ADF9-CF9155AC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1847-8815-4B69-86D0-366B8740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2B74-2EE6-46FC-A61B-5EB78405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F9F5-32EC-44FC-8992-A47EFA98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6F8-75FB-4BAD-A831-41B81F32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6B7-9BDC-47F6-A25A-8711D4C0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1F9-D6E1-4BD8-A0E6-5D8114E8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B3BA-74B7-477A-803E-46A9CA41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09A-5949-4D8A-896C-FF6C4784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848-23A3-44BD-B56B-DA1358F7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680-EF82-44FA-B13B-2E52F34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EAF6-1E0D-40F1-ADD5-689F87FDCA80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1945-8B71-4AA5-902B-C67BC8CB4A5C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CONCEPTOS DE EDUCACIÓ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CONCEP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Whitehead, Alfred Nort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se no es recibir sino hacer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loom, Benjami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457360"/>
            <a:ext cx="76089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el desarrollo de aquellas características que permiten al hombre vivir eficazmente en una sociedad complej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Faure, Edgar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7605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“es un proceso cultural  que busca la eclosión y el desarrollo de todas las virtualidades del ser y su socie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Belth, Marc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16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ducar consiste en transmitir los modelos por los cuales el mundo es explicab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Kerschenstainer, Geor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5336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consiste en distribuir la cultura para que el hombre organice sus valores en su conciencia y a su manera, de acuerdo a su individualida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30508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 educación es una necesidad vital que permite, al satisfacerse, la supervivencia de la especi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221304"/>
                </a:solidFill>
                <a:latin typeface="Times New Roman"/>
              </a:rPr>
              <a:t>Nassif, Ricar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La educación es l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del hombre por medio de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influencia exterior consciente o inconsciente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heter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, o por un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estímul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que si bien proviene de algo que no es el individuo mismo, suscita en él una 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voluntad de desarrollo autónomo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 conforme a su propia ley (</a:t>
            </a:r>
            <a:r>
              <a:rPr b="0" i="1" lang="es-ES" sz="3000" spc="-1" strike="noStrike">
                <a:solidFill>
                  <a:srgbClr val="000000"/>
                </a:solidFill>
                <a:latin typeface="Times New Roman"/>
              </a:rPr>
              <a:t>autoeducación</a:t>
            </a: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)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5:45:39Z</dcterms:created>
  <dc:creator>Mlnh</dc:creator>
  <dc:description/>
  <dc:language>en-US</dc:language>
  <cp:lastModifiedBy>Escritorio</cp:lastModifiedBy>
  <dcterms:modified xsi:type="dcterms:W3CDTF">2010-03-31T19:03:22Z</dcterms:modified>
  <cp:revision>19</cp:revision>
  <dc:subject/>
  <dc:title>CONCEPTOS DE EDUCACIÓN</dc:title>
</cp:coreProperties>
</file>