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45A-9C3B-45EC-B050-4854F233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A1D-5341-47F4-AEDB-3A8A7F3A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451-8D4D-4AF1-97D1-295CCCF2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23B-2D6B-480D-BB7B-65CB6D03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64A7-2F9C-45DC-B441-7BDADBF6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3629-C2F6-4479-8685-E424C4B0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B3A8-4173-4E68-93AD-7A5289BD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004F-6E20-4FDD-98FE-EC44F816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EE64-E6E2-49B1-8001-8B293214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308C-3BB3-4C99-B5F0-72CBE022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73E2-55F7-40CD-9F7F-46D5E477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6A5-23AC-424D-A211-BF07D40A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0F28-9227-4395-9C5D-B52B4B46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C504-F418-415D-80AB-2183B296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B85F-9378-4FF1-A4CE-A6DE90B4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39F3-6A98-4528-BD67-D4F6D803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817B-69CB-4B20-90F5-6780151D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BF8-F852-4EE5-A6F2-7ABC4C9B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2AF-FBCA-4A30-89D8-EB5791BC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744-7886-43AA-86C1-E1CCEC05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380-3963-4A54-AEF0-35A1D001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26F-D612-4A70-8735-6A310714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2A1-D432-4A8E-9ECA-DECB3A44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4C5-811C-4CA6-9B56-7F2258B4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213A-AD81-4944-AEAB-D41D2F1AA09A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5E8B-4838-4A8D-81CE-C4C0610B6D98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CONCEPTOS DE EDUCACIÓ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CONCEP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Whitehead, Alfred Nort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se no es recibir sino hacer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loom, Benjami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457360"/>
            <a:ext cx="7608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el desarrollo de aquellas características que permiten al hombre vivir eficazmente en una sociedad complej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Faure, Edgar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6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“es un proceso cultural  que busca la eclosión y el desarrollo de todas las virtualidades del ser y su socie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elth, Marc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716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transmitir los modelos por los cuales el mundo es explicab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Kerschenstainer, Geor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5336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consiste en distribuir la cultura para que el hombre organice sus valores en su conciencia y a su manera, de acuerdo a su individuali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30508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es una necesidad vital que permite, al satisfacerse, la supervivencia de la especi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La educación es l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del hombre por medio de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influencia exterior consciente o inconsciente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heter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, o por un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estímul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que si bien proviene de algo que no es el individuo mismo, suscita en él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voluntad de desarrollo autónom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conforme a su propia ley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aut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5:45:39Z</dcterms:created>
  <dc:creator>Mlnh</dc:creator>
  <dc:description/>
  <dc:language>en-US</dc:language>
  <cp:lastModifiedBy>Escritorio</cp:lastModifiedBy>
  <dcterms:modified xsi:type="dcterms:W3CDTF">2010-03-31T19:03:22Z</dcterms:modified>
  <cp:revision>19</cp:revision>
  <dc:subject/>
  <dc:title>CONCEPTOS DE EDUCACIÓN</dc:title>
</cp:coreProperties>
</file>