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144-EF5A-4E41-8725-2BDA2F92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9DC-C9F4-458B-A00E-57071EDD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344-5CED-435C-86A6-770160A4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1B5-7D18-4D1D-BF9D-1C496230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CA79-8DBA-4CC1-A178-95286FA3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5E86-875E-4048-AEA7-880DF97D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14A5-BAF5-499C-B388-6AD225AF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12D7-5F55-4E6C-8049-83B5F5A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D8F1-3CBA-4DE7-83F3-C2587673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2159-E3B0-4154-9963-106BDDD0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32B3-DF3B-4327-A726-1E77D66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977-D203-4395-85A2-57056D95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5977-425E-4D3C-8DA4-18A53951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C142-C2C7-4504-8E1B-EE90025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4B1-4B80-402A-B70E-DE73B9BE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4E0B-0CBA-45B0-93EB-3B3A1CF8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A40D-19EC-4540-91C1-91ABAA6B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77B-74B3-417D-A053-6A68AB60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2B9-07A6-49E0-8D75-6E10DE89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D18-D374-46A1-B610-68B983D7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EB6-A8BB-4DD8-973D-DC673AB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A56-08AC-4E5C-A312-6DEF8EB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C3D-C52F-4858-A432-765B6FA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A18-7298-453D-83D3-607B616D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3D2B-874F-42DC-9618-EDA236ADA02A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7389-D99F-4E86-8CED-0A65F34F550E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CONCEPTOS DE EDUCA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CONCEP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Whitehead, Alfred Nort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se no es recibir sino hacer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loom, Benjami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457360"/>
            <a:ext cx="7608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el desarrollo de aquellas características que permiten al hombre vivir eficazmente en una sociedad complej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Faure, Edgar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6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“es un proceso cultural  que busca la eclosión y el desarrollo de todas las virtualidades del ser y su socie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elth, Mar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16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transmitir los modelos por los cuales el mundo es explicab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Kerschenstainer, Geor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5336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consiste en distribuir la cultura para que el hombre organice sus valores en su conciencia y a su manera, de acuerdo a su individu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30508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es una necesidad vital que permite, al satisfacerse, la supervivencia de la especi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La educación es l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del hombre por medio de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influencia exterior consciente o inconsciente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heter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, o por un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estímul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que si bien proviene de algo que no es el individuo mismo, suscita en él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voluntad de desarrollo autónom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conforme a su propia ley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aut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5:45:39Z</dcterms:created>
  <dc:creator>Mlnh</dc:creator>
  <dc:description/>
  <dc:language>en-US</dc:language>
  <cp:lastModifiedBy>Escritorio</cp:lastModifiedBy>
  <dcterms:modified xsi:type="dcterms:W3CDTF">2010-03-31T19:03:22Z</dcterms:modified>
  <cp:revision>19</cp:revision>
  <dc:subject/>
  <dc:title>CONCEPTOS DE EDUCACIÓN</dc:title>
</cp:coreProperties>
</file>