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E5CA86-59AD-492E-8668-27532EA00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6D54B-DFF6-47EA-B22E-25E3D54B9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4A837-1A76-44D8-B71F-F350D1DBF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4B658-EAEC-49D9-A686-00EAB62B8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E5A27C-6675-4A65-B8FF-2E8BDF812C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32F758-8C2D-4DA2-8861-B902304BC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E26DF-9265-4D25-9339-BD59AF437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15D07-AD19-4316-A7A9-5475346DB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96CFA-D911-4DCE-8B19-96D127220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E243A-3E46-4D45-8B39-54750FE2D1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31FDA-F56E-407B-80E8-3B82E561FC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BF054-BE90-4EAA-B36E-946AA0AC5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A432A-D20B-4A40-97D8-46ED7EE4F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722DB-DCD2-4729-B7E1-CC2AE76062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068B9-3B7C-4A1A-B001-89A3F7915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12E7C9-0783-4C0B-94F1-FF6D9B124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611F40-F48E-42CE-B5F1-87D1CC3C8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54F950-757E-4975-93D2-1BCE706A47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8C0E5E-DE11-48D6-91EC-5B4A3AD147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3B54C9-0A72-47B8-9A2B-0E76F376E7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6647DD-C226-4E51-908A-61F304B532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217D47-5FF2-4FDA-9EDB-8AC8996125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86C51-FBE2-48BF-8A4D-73F9E9F5E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0FECC4-4BEF-4863-8892-418C1244F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0E681-66DD-4EC6-B9C5-9079B30BE1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9A6709-2A0B-4018-937B-5BE33E8B89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139E9-46AB-4217-AA94-322844A4F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9D64E7-67AC-464E-82CF-F8D76FE3BD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F04F08-827B-4E79-BCEB-6F4137EEA5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95617E-116F-49FB-BCFF-9580D65B34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49F263-0718-4E98-B546-6B1C32196BE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D36374-4419-46A1-B952-D14896A653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A8F9B-2C86-4FB8-A6A1-DCB4493271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6D0AC-2089-4FFA-8806-6523B9F9B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2C45ED-29A6-440F-9DDA-DC32CD4E8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1CE83-5844-425F-9447-1DF18888F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3354FE-E98F-4708-9DD8-7B25DA27C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0AD3B6-C454-4268-AFA3-A3D66C24EC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EC6C3-88FC-4E89-8D74-5D960FA6F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7013C-B243-439D-BA94-1C5D460F4F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7BCA20-BAA9-46D9-B7F3-D58D6F2C71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48214C-C157-47E7-84D1-C66AC6EC51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081991-937C-4AFD-A0AA-A98E3157D9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BFCDAF-C48B-46E2-A2FF-51AB98154D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CBCB6-5C6F-43B7-B211-CEF3FDA5F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53BBCF-26A5-41A5-B576-E595DD14D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D15977-9831-4FCC-8E77-6C1717255D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4C0BB7-3203-431A-AC1D-142075005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382154-9115-47BC-B258-3F9F995B33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2539CF-A12F-487B-B831-A46E6B68B2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22D7F4-FE14-4A48-B84C-C5CB7F31B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2FC498-B596-4C3A-900F-6952E59EDF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568751-E5BC-465B-980C-EA58F483E1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28C004-C11C-46C6-A7FA-073C417BC9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D6ACC8-FDBF-498D-8432-52AFE03501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4998D-2C0B-4030-8857-3958E72F8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7C4320-8ED6-4481-8069-52929C4C810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5AEFE3C-8703-41E5-9FCC-D76E99B0DC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7A9CE6-708E-4990-BF3C-A83F9BCA33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E72B6E-BFD2-47F6-9008-549BDF96A0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E5E84E-BB4F-4677-9516-6190E380B7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91AC34-7B09-4EF4-85E4-8E919F5DD0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4E98A0-F361-485E-8F09-B259457489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B9DCB-5F03-49E0-B1C5-067BFC00B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573E04-F10A-4178-AE28-70695E17F3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E75D3-71A6-4E62-B1AC-5D962B911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096D6-DD6A-4425-AAA7-3CE6E60F3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DCA711-4558-425C-98A8-D1001424A3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82B7F56-E76B-42A6-88A0-7D057B9B22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E590F6-7958-4795-BF64-370C267C0D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5F8F7A-99C0-4A46-B41D-90F6492D40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ED5421-DE63-48F2-9811-34056C2C17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486080-E575-4195-9076-261D8A3E51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8AEC23-F946-4593-99C5-1CFA53AF18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2AFED5-2019-4B0D-BD04-983344786D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1BB64A-6E61-4833-BC12-96F1BF5684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2E1665-A2EF-48A1-8A17-E4C0BD680F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5B91-0C35-40C5-BFDE-B6AB03440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F53355-AEE2-47AF-BE39-FA884DAA70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78AE1-CC6E-4CC0-AE4A-D1D62AEDA1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870FAF-BEFC-443F-A33C-9689BBDBEA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E178B6-5DFD-40B5-9818-8973C831D9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4E7FD96-9876-4340-8EF3-C8D839FA3C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0E695E-9674-4D82-BA68-37D228B167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BB215D-4847-483F-91A4-B2B4FDB95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3F503A-E4AE-44F1-85CF-A80AD9EB1C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4FD584-D38E-4135-8B29-08EA299C1B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CA8BE0-C49A-4FE0-B7F0-0415D5E45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213F3-74C4-428C-92D6-F84F47AC9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6FDB03-95B8-4ECE-9B76-6350B7FD3D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480EE9-653F-4125-82D7-47B8506F2E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5E8E89-F240-4C55-BA15-F007D3501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1BA715-4348-48DB-A736-0D7DF906C3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9F0C94-D40F-4790-9AF2-BB954DE6A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CFB55D-4DC4-4B1B-9055-0CD36268F6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319A358-9606-43A9-8F6B-C2318018A97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CC50F-9661-4109-B0A7-39DF860D31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897527"/>
              </a:gs>
              <a:gs pos="100000">
                <a:srgbClr val="f9df8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78280-468E-45B3-8924-85479FEDA4F9}"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BC90-A285-4DC1-A83E-52F07CDD576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897527"/>
              </a:gs>
              <a:gs pos="100000">
                <a:srgbClr val="f9df8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4 Conector recto"/>
          <p:cNvSpPr/>
          <p:nvPr/>
        </p:nvSpPr>
        <p:spPr>
          <a:xfrm flipH="1" flipV="1">
            <a:off x="6469200" y="900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5 Conector recto"/>
          <p:cNvSpPr/>
          <p:nvPr/>
        </p:nvSpPr>
        <p:spPr>
          <a:xfrm flipV="1">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5936-6A0A-470A-A70A-C318C4C94A30}"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7 Conector recto"/>
          <p:cNvSpPr/>
          <p:nvPr/>
        </p:nvSpPr>
        <p:spPr>
          <a:xfrm>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8 Conector recto"/>
          <p:cNvSpPr/>
          <p:nvPr/>
        </p:nvSpPr>
        <p:spPr>
          <a:xfrm flipH="1">
            <a:off x="6469200" y="494748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BB9C-C740-4E7E-A8D1-E011E82D95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12B16-8A52-445B-91C8-4C42CC5FF1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085BA-F583-4421-A141-12F9ECDE313D}"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26FD0-B7AE-4FAB-A2DF-63AA7CF87764}"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Rectangle 2" descr=""/>
          <p:cNvPicPr/>
          <p:nvPr/>
        </p:nvPicPr>
        <p:blipFill>
          <a:blip r:embed="rId1"/>
          <a:stretch/>
        </p:blipFill>
        <p:spPr>
          <a:xfrm>
            <a:off x="682560" y="85680"/>
            <a:ext cx="8096400" cy="2346480"/>
          </a:xfrm>
          <a:prstGeom prst="rect">
            <a:avLst/>
          </a:prstGeom>
          <a:ln w="0">
            <a:noFill/>
          </a:ln>
        </p:spPr>
      </p:pic>
      <p:pic>
        <p:nvPicPr>
          <p:cNvPr id="346" name="Rectangle 3" descr=""/>
          <p:cNvPicPr/>
          <p:nvPr/>
        </p:nvPicPr>
        <p:blipFill>
          <a:blip r:embed="rId2"/>
          <a:stretch/>
        </p:blipFill>
        <p:spPr>
          <a:xfrm>
            <a:off x="1322280" y="4645080"/>
            <a:ext cx="6675480" cy="1000080"/>
          </a:xfrm>
          <a:prstGeom prst="rect">
            <a:avLst/>
          </a:prstGeom>
          <a:ln w="0">
            <a:noFill/>
          </a:ln>
        </p:spPr>
      </p:pic>
      <p:pic>
        <p:nvPicPr>
          <p:cNvPr id="347" name="Picture 4" descr=""/>
          <p:cNvPicPr/>
          <p:nvPr/>
        </p:nvPicPr>
        <p:blipFill>
          <a:blip r:embed="rId3"/>
          <a:stretch/>
        </p:blipFill>
        <p:spPr>
          <a:xfrm>
            <a:off x="3071880" y="3286080"/>
            <a:ext cx="1660320" cy="22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298440" y="36360"/>
            <a:ext cx="8564400" cy="1828800"/>
          </a:xfrm>
          <a:prstGeom prst="rect">
            <a:avLst/>
          </a:prstGeom>
          <a:ln w="0">
            <a:noFill/>
          </a:ln>
        </p:spPr>
      </p:pic>
      <p:sp>
        <p:nvSpPr>
          <p:cNvPr id="365" name=""/>
          <p:cNvSpPr txBox="1"/>
          <p:nvPr/>
        </p:nvSpPr>
        <p:spPr>
          <a:xfrm>
            <a:off x="539280" y="2060280"/>
            <a:ext cx="8147160" cy="4065480"/>
          </a:xfrm>
          <a:prstGeom prst="rect">
            <a:avLst/>
          </a:prstGeom>
          <a:noFill/>
          <a:ln w="0">
            <a:noFill/>
          </a:ln>
        </p:spPr>
        <p:txBody>
          <a:bodyPr lIns="90000" rIns="90000" tIns="46800" bIns="46800" anchor="t">
            <a:normAutofit/>
          </a:bodyPr>
          <a:p>
            <a:pPr marL="447840" indent="-382680" algn="just">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 </a:t>
            </a:r>
            <a:r>
              <a:rPr b="0" lang="es-CL" sz="3000" spc="-1" strike="noStrike">
                <a:solidFill>
                  <a:srgbClr val="ffffff"/>
                </a:solidFill>
                <a:latin typeface="Century Gothic"/>
              </a:rPr>
              <a:t>lo que se avista es la pérdida de la búsqueda del sentido y de la necesidad de comprender. Nosotros sabemos cuán cerca han estado los pueblos bajo dominación totalitaria de ser llevados, por medio del terror combinado con el adiestramiento en el pensar ideológico, a esta condición de ausencia de todo sentido…” (</a:t>
            </a:r>
            <a:r>
              <a:rPr b="0" i="1" lang="es-CL" sz="3000" spc="-1" strike="noStrike">
                <a:solidFill>
                  <a:srgbClr val="ffffff"/>
                </a:solidFill>
                <a:latin typeface="Century Gothic"/>
              </a:rPr>
              <a:t>Comprensión y política</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gn="just">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450720" y="165240"/>
            <a:ext cx="8242560" cy="1504800"/>
          </a:xfrm>
          <a:prstGeom prst="rect">
            <a:avLst/>
          </a:prstGeom>
          <a:ln w="0">
            <a:noFill/>
          </a:ln>
        </p:spPr>
      </p:pic>
      <p:sp>
        <p:nvSpPr>
          <p:cNvPr id="367" name=""/>
          <p:cNvSpPr txBox="1"/>
          <p:nvPr/>
        </p:nvSpPr>
        <p:spPr>
          <a:xfrm>
            <a:off x="539640" y="1916280"/>
            <a:ext cx="8229600" cy="4525920"/>
          </a:xfrm>
          <a:prstGeom prst="rect">
            <a:avLst/>
          </a:prstGeom>
          <a:noFill/>
          <a:ln w="0">
            <a:noFill/>
          </a:ln>
        </p:spPr>
        <p:txBody>
          <a:bodyPr lIns="90000" rIns="90000" tIns="46800" bIns="46800" anchor="t">
            <a:normAutofit/>
          </a:bodyPr>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La ruina de nuestras categorías de comprensión y juicio.</a:t>
            </a:r>
            <a:endParaRPr b="0" lang="en-US" sz="2800" spc="-1" strike="noStrike">
              <a:solidFill>
                <a:srgbClr val="ffffff"/>
              </a:solidFill>
              <a:latin typeface="Century Gothic"/>
            </a:endParaRPr>
          </a:p>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Modernidad ha generado una cultura capaz de sofisticiadas y tecnificados sistemas de aniquilamiento</a:t>
            </a:r>
            <a:endParaRPr b="0" lang="en-US" sz="2800" spc="-1" strike="noStrike">
              <a:solidFill>
                <a:srgbClr val="ffffff"/>
              </a:solidFill>
              <a:latin typeface="Century Gothic"/>
            </a:endParaRPr>
          </a:p>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Pero no tiene herramientas ni recursos morales para hacer frente a estos poderes.</a:t>
            </a:r>
            <a:endParaRPr b="0" lang="en-US" sz="2800" spc="-1" strike="noStrike">
              <a:solidFill>
                <a:srgbClr val="ffffff"/>
              </a:solidFill>
              <a:latin typeface="Century Gothic"/>
            </a:endParaRPr>
          </a:p>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La moral moderna ( sus normas, fundamentaciones, y la espe´cifica forma en que esta puede permear la cultura se ha mostrado obsoleta.</a:t>
            </a:r>
            <a:endParaRPr b="0" lang="en-US" sz="2800" spc="-1" strike="noStrike">
              <a:solidFill>
                <a:srgbClr val="ffffff"/>
              </a:solidFill>
              <a:latin typeface="Century Gothic"/>
            </a:endParaRPr>
          </a:p>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493560" y="96840"/>
            <a:ext cx="8479080" cy="1324080"/>
          </a:xfrm>
          <a:prstGeom prst="rect">
            <a:avLst/>
          </a:prstGeom>
          <a:ln w="0">
            <a:noFill/>
          </a:ln>
        </p:spPr>
      </p:pic>
      <p:sp>
        <p:nvSpPr>
          <p:cNvPr id="36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En 1961 Arendt asiste al juicio de Eichmann (criminal nazi capturado por la policía secreta israelita y llevado a Israel para ser juzgado) y luego escribe un largo reporte del juicio que publica en 1963 (</a:t>
            </a:r>
            <a:r>
              <a:rPr b="0" i="1" lang="es-CL" sz="3000" spc="-1" strike="noStrike">
                <a:solidFill>
                  <a:srgbClr val="ffffff"/>
                </a:solidFill>
                <a:latin typeface="Century Gothic"/>
              </a:rPr>
              <a:t>Eichmann on Jerusalem</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450720" y="-30240"/>
            <a:ext cx="8352000" cy="182880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Que no esta ante un ‘malvado’ cualquiera</a:t>
            </a:r>
            <a:endParaRPr b="0" lang="en-US" sz="3000" spc="-1" strike="noStrike">
              <a:solidFill>
                <a:srgbClr val="ffffff"/>
              </a:solidFill>
              <a:latin typeface="Century Gothic"/>
            </a:endParaRPr>
          </a:p>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Eichmann parecía un hombre normal, que no tiene verdaderos motivos, ni ideológicos y ni patológicos para hacer lo que hizo</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463680" y="-49320"/>
            <a:ext cx="8345520" cy="1828800"/>
          </a:xfrm>
          <a:prstGeom prst="rect">
            <a:avLst/>
          </a:prstGeom>
          <a:ln w="0">
            <a:noFill/>
          </a:ln>
        </p:spPr>
      </p:pic>
      <p:sp>
        <p:nvSpPr>
          <p:cNvPr id="373" name=""/>
          <p:cNvSpPr txBox="1"/>
          <p:nvPr/>
        </p:nvSpPr>
        <p:spPr>
          <a:xfrm>
            <a:off x="468360" y="2060640"/>
            <a:ext cx="8229600" cy="4525920"/>
          </a:xfrm>
          <a:prstGeom prst="rect">
            <a:avLst/>
          </a:prstGeom>
          <a:noFill/>
          <a:ln w="0">
            <a:noFill/>
          </a:ln>
        </p:spPr>
        <p:txBody>
          <a:bodyPr lIns="90000" rIns="90000" tIns="46800" bIns="46800" anchor="t">
            <a:normAutofit/>
          </a:bodyPr>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t>
            </a:r>
            <a:r>
              <a:rPr b="0" lang="es-CL" sz="3000" spc="-1" strike="noStrike">
                <a:solidFill>
                  <a:srgbClr val="ffffff"/>
                </a:solidFill>
                <a:latin typeface="Century Gothic"/>
              </a:rPr>
              <a:t>Cuánto más se le escuchaba, más evidente era su incapacidad para pensar desde el punto de vista de otra persona. No era posible establecer comunicación con él, no porque mintiera, sino porque estaba rodeado por la más segura de las protecciones contra las palabras y la presencia de otros, y por ende contra la realidad como tal” (</a:t>
            </a:r>
            <a:r>
              <a:rPr b="0" i="1" lang="es-CL" sz="3000" spc="-1" strike="noStrike">
                <a:solidFill>
                  <a:srgbClr val="ffffff"/>
                </a:solidFill>
                <a:latin typeface="Century Gothic"/>
              </a:rPr>
              <a:t>Eichmann en Jerusalen</a:t>
            </a:r>
            <a:r>
              <a:rPr b="0" lang="es-CL" sz="3000" spc="-1" strike="noStrike">
                <a:solidFill>
                  <a:srgbClr val="ffffff"/>
                </a:solidFill>
                <a:latin typeface="Century Gothic"/>
              </a:rPr>
              <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450720" y="-30240"/>
            <a:ext cx="8352000" cy="1828800"/>
          </a:xfrm>
          <a:prstGeom prst="rect">
            <a:avLst/>
          </a:prstGeom>
          <a:ln w="0">
            <a:noFill/>
          </a:ln>
        </p:spPr>
      </p:pic>
      <p:sp>
        <p:nvSpPr>
          <p:cNvPr id="37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t>
            </a:r>
            <a:r>
              <a:rPr b="0" lang="es-CL" sz="2800" spc="-1" strike="noStrike">
                <a:solidFill>
                  <a:srgbClr val="ffffff"/>
                </a:solidFill>
                <a:latin typeface="Century Gothic"/>
              </a:rPr>
              <a:t>el caso de Eichmann es diferente al del criminal común, que sólo puede aparase eficazmente contra la realidad de un mundo no criminal entre los estrechos límites de su banda. Eichmann solo necesitaba recordar el pasado para sentirse seguro de que no mentía y de que no se estaba engañando a sí mismo, ya que él y el mundo en que vivió habían estado, en otro tiempo, en perfecta armonía.” (</a:t>
            </a:r>
            <a:r>
              <a:rPr b="0" i="1" lang="es-CL" sz="2800" spc="-1" strike="noStrike">
                <a:solidFill>
                  <a:srgbClr val="ffffff"/>
                </a:solidFill>
                <a:latin typeface="Century Gothic"/>
              </a:rPr>
              <a:t>Eichmann en Jerusalen</a:t>
            </a:r>
            <a:r>
              <a:rPr b="0" lang="es-CL" sz="2800" spc="-1" strike="noStrike">
                <a:solidFill>
                  <a:srgbClr val="ffffff"/>
                </a:solidFill>
                <a:latin typeface="Century Gothic"/>
              </a:rPr>
              <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450720" y="165240"/>
            <a:ext cx="8570880" cy="150480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a:t>
            </a:r>
            <a:r>
              <a:rPr b="0" lang="es-CL" sz="2400" spc="-1" strike="noStrike">
                <a:solidFill>
                  <a:srgbClr val="ffffff"/>
                </a:solidFill>
                <a:latin typeface="Century Gothic"/>
              </a:rPr>
              <a:t>Y esa sociedad alemana de ochenta millones de personas había sido resguardada de la realidad y de las pruebas de los hechos exactamente por los mismo medios, el mismo autoengaño, mentiras y estupidéz que impregnaba ahora la mentalidad de Eichmann. Estas mentiras cambiaban de año en año, y con frecuencia eran contradictorias; por otra parte, no siempre fueron las mismas para las diversas ramas de la jerarquía del partido o del pueblo en general. Pero la práctica del autoengaño se extendió tanto, convirtiéndose casi en un requisito moral para sobrevivir (…) es difícil a veces dejar de creer que la mendacidad ha pasado a ser parte integral del carácter nacional alemán” (</a:t>
            </a:r>
            <a:r>
              <a:rPr b="0" i="1" lang="es-CL" sz="2400" spc="-1" strike="noStrike">
                <a:solidFill>
                  <a:srgbClr val="ffffff"/>
                </a:solidFill>
                <a:latin typeface="Century Gothic"/>
              </a:rPr>
              <a:t>Eichmann en Jerusalén</a:t>
            </a:r>
            <a:r>
              <a:rPr b="0" lang="es-CL"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450720" y="122400"/>
            <a:ext cx="8242560" cy="1547640"/>
          </a:xfrm>
          <a:prstGeom prst="rect">
            <a:avLst/>
          </a:prstGeom>
          <a:ln w="0">
            <a:noFill/>
          </a:ln>
        </p:spPr>
      </p:pic>
      <p:sp>
        <p:nvSpPr>
          <p:cNvPr id="37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a:t>
            </a:r>
            <a:r>
              <a:rPr b="0" lang="es-CL" sz="2400" spc="-1" strike="noStrike">
                <a:solidFill>
                  <a:srgbClr val="ffffff"/>
                </a:solidFill>
                <a:latin typeface="Century Gothic"/>
              </a:rPr>
              <a:t>cuando hablo de mal banal o banalidad del mallo hago solamente aun nivel estrictamente objetivo, y me limito a señalar un fenómeno que, en el curso del juicio, resultó evidente. Eichmann no era un Yago ni un Macbeth, y nada pudo estar más lejos de sus intenciones que “resultar un villano”, al decir de Ricardo III. Eichmann carecía de motivos, salvo aquellos demostrados por su extraordinaria diligencia en orden a su personal progreso. Y, en sí misma, tal diligencia no era criminal; Eichmann hubiera sido absolutamente incapaz de asesinar a su superior para heredar su cargo. Para expresarlo en palabras llanas, podemos decir que Eichmann, sencillamente, no supo jamás lo que hacía.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450720" y="122400"/>
            <a:ext cx="8242560" cy="1547640"/>
          </a:xfrm>
          <a:prstGeom prst="rect">
            <a:avLst/>
          </a:prstGeom>
          <a:ln w="0">
            <a:noFill/>
          </a:ln>
        </p:spPr>
      </p:pic>
      <p:sp>
        <p:nvSpPr>
          <p:cNvPr id="38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a:t>
            </a:r>
            <a:r>
              <a:rPr b="0" lang="es-CL" sz="2600" spc="-1" strike="noStrike">
                <a:solidFill>
                  <a:srgbClr val="ffffff"/>
                </a:solidFill>
                <a:latin typeface="Century Gothic"/>
              </a:rPr>
              <a:t>No , Eichmann no era estúpido. Únicamente la pura y simple irreflexión – que en modo alguno podemos equiparar a la estupidez – fue lo que le predispuso a convertirse en el mayor criminal de su tiempo. Y si bien esto merece ser clarificado como ‘banalidad’ e incluso puede parecer cómico, y ni siquiera con la mejor voluntad cabe atribuir a Eichmann diabólica profundidad, también es cierto que tampoco podemos decir que sea algo normal o común.”</a:t>
            </a:r>
            <a:r>
              <a:rPr b="0" lang="es-CL" sz="2200" spc="-1" strike="noStrike">
                <a:solidFill>
                  <a:srgbClr val="ffffff"/>
                </a:solidFill>
                <a:latin typeface="Century Gothic"/>
              </a:rPr>
              <a:t> </a:t>
            </a:r>
            <a:r>
              <a:rPr b="0" lang="es-CL" sz="2400" spc="-1" strike="noStrike">
                <a:solidFill>
                  <a:srgbClr val="ffffff"/>
                </a:solidFill>
                <a:latin typeface="Century Gothic"/>
              </a:rPr>
              <a:t>(</a:t>
            </a:r>
            <a:r>
              <a:rPr b="0" i="1" lang="es-CL" sz="2400" spc="-1" strike="noStrike">
                <a:solidFill>
                  <a:srgbClr val="ffffff"/>
                </a:solidFill>
                <a:latin typeface="Century Gothic"/>
              </a:rPr>
              <a:t>Eichmann en Jerusalen</a:t>
            </a:r>
            <a:r>
              <a:rPr b="0" lang="es-CL" sz="2400" spc="-1" strike="noStrike">
                <a:solidFill>
                  <a:srgbClr val="ffffff"/>
                </a:solidFill>
                <a:latin typeface="Century Gothic"/>
              </a:rPr>
              <a:t>)</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450720" y="262080"/>
            <a:ext cx="8242560" cy="1407960"/>
          </a:xfrm>
          <a:prstGeom prst="rect">
            <a:avLst/>
          </a:prstGeom>
          <a:ln w="0">
            <a:noFill/>
          </a:ln>
        </p:spPr>
      </p:pic>
      <p:sp>
        <p:nvSpPr>
          <p:cNvPr id="38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Un nuevo tipo de mal que aparece con las sociedades totalitarias</a:t>
            </a:r>
            <a:endParaRPr b="0" lang="en-US" sz="3000" spc="-1" strike="noStrike">
              <a:solidFill>
                <a:srgbClr val="ffffff"/>
              </a:solidFill>
              <a:latin typeface="Century Gothic"/>
            </a:endParaRPr>
          </a:p>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Individuos normales se hacen parte de sistemas criminales, no por motivos malignos, ni por influjos ideológicos</a:t>
            </a:r>
            <a:endParaRPr b="0" lang="en-US" sz="3000" spc="-1" strike="noStrike">
              <a:solidFill>
                <a:srgbClr val="ffffff"/>
              </a:solidFill>
              <a:latin typeface="Century Gothic"/>
            </a:endParaRPr>
          </a:p>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ino por pura superficialidad, pura incapacidad de pensa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Rectangle 2" descr=""/>
          <p:cNvPicPr/>
          <p:nvPr/>
        </p:nvPicPr>
        <p:blipFill>
          <a:blip r:embed="rId1"/>
          <a:stretch/>
        </p:blipFill>
        <p:spPr>
          <a:xfrm>
            <a:off x="450720" y="262080"/>
            <a:ext cx="8242560" cy="1407960"/>
          </a:xfrm>
          <a:prstGeom prst="rect">
            <a:avLst/>
          </a:prstGeom>
          <a:ln w="0">
            <a:noFill/>
          </a:ln>
        </p:spPr>
      </p:pic>
      <p:sp>
        <p:nvSpPr>
          <p:cNvPr id="34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Nace en Könisberg en 1906</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Pertenece a una familia judía acomodada</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Estudia filosofía en Heidelberg y Marburgo, estudia con Heidegger, Husserl y Jaspers </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Obtiene su doctorado en  1929 con una tesis sobre el concepto de amor en San Agustín</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Emigra a Paris en 1933 y luego a norteamérica en 1941</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Se convierte en profesora en las Universidades de Chicago, Columbia  y de la New School of Social Research (Nueva York)</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Escribe libros como: </a:t>
            </a:r>
            <a:r>
              <a:rPr b="0" i="1" lang="es-CL" sz="2400" spc="-1" strike="noStrike">
                <a:solidFill>
                  <a:srgbClr val="ffffff"/>
                </a:solidFill>
                <a:latin typeface="Century Gothic"/>
              </a:rPr>
              <a:t>Los Orígenes del Totalitarismo</a:t>
            </a:r>
            <a:r>
              <a:rPr b="0" lang="es-CL" sz="2400" spc="-1" strike="noStrike">
                <a:solidFill>
                  <a:srgbClr val="ffffff"/>
                </a:solidFill>
                <a:latin typeface="Century Gothic"/>
              </a:rPr>
              <a:t>, </a:t>
            </a:r>
            <a:r>
              <a:rPr b="0" i="1" lang="es-CL" sz="2400" spc="-1" strike="noStrike">
                <a:solidFill>
                  <a:srgbClr val="ffffff"/>
                </a:solidFill>
                <a:latin typeface="Century Gothic"/>
              </a:rPr>
              <a:t>La condición humana</a:t>
            </a:r>
            <a:r>
              <a:rPr b="0" lang="es-CL" sz="2400" spc="-1" strike="noStrike">
                <a:solidFill>
                  <a:srgbClr val="ffffff"/>
                </a:solidFill>
                <a:latin typeface="Century Gothic"/>
              </a:rPr>
              <a:t>, </a:t>
            </a:r>
            <a:r>
              <a:rPr b="0" i="1" lang="es-CL" sz="2400" spc="-1" strike="noStrike">
                <a:solidFill>
                  <a:srgbClr val="ffffff"/>
                </a:solidFill>
                <a:latin typeface="Century Gothic"/>
              </a:rPr>
              <a:t>Sobre la revolución</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450720" y="262080"/>
            <a:ext cx="8242560" cy="1407960"/>
          </a:xfrm>
          <a:prstGeom prst="rect">
            <a:avLst/>
          </a:prstGeom>
          <a:ln w="0">
            <a:noFill/>
          </a:ln>
        </p:spPr>
      </p:pic>
      <p:sp>
        <p:nvSpPr>
          <p:cNvPr id="38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rendt dedicará los últimos años de su vida a pensar en esto:</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No llegará a un resultado definitivo, de sus indagaciones se extrae que al menos se trata de:</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Reflexionar por sí mismo </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er capaz de criticar las normas y elementos totalitarios (por ejemplo cuestionar las órdenes)</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Ponerse en el lugar del Otro (</a:t>
            </a:r>
            <a:r>
              <a:rPr b="0" i="1" lang="es-CL" sz="3000" spc="-1" strike="noStrike">
                <a:solidFill>
                  <a:srgbClr val="ffffff"/>
                </a:solidFill>
                <a:latin typeface="Century Gothic"/>
              </a:rPr>
              <a:t>enlarged mind</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ectangle 2" descr=""/>
          <p:cNvPicPr/>
          <p:nvPr/>
        </p:nvPicPr>
        <p:blipFill>
          <a:blip r:embed="rId1"/>
          <a:stretch/>
        </p:blipFill>
        <p:spPr>
          <a:xfrm>
            <a:off x="450720" y="262080"/>
            <a:ext cx="8242560" cy="1407960"/>
          </a:xfrm>
          <a:prstGeom prst="rect">
            <a:avLst/>
          </a:prstGeom>
          <a:ln w="0">
            <a:noFill/>
          </a:ln>
        </p:spPr>
      </p:pic>
      <p:sp>
        <p:nvSpPr>
          <p:cNvPr id="35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Formada en la fenomenología alemana (Husserl y Heidegger)</a:t>
            </a:r>
            <a:endParaRPr b="0" lang="en-US" sz="3000" spc="-1" strike="noStrike">
              <a:solidFill>
                <a:srgbClr val="ffffff"/>
              </a:solidFill>
              <a:latin typeface="Century Gothic"/>
            </a:endParaRPr>
          </a:p>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Recibe la influencia de la filosofía de la existencia de Jaspers y del existencialismo francés </a:t>
            </a:r>
            <a:endParaRPr b="0" lang="en-US" sz="3000" spc="-1" strike="noStrike">
              <a:solidFill>
                <a:srgbClr val="ffffff"/>
              </a:solidFill>
              <a:latin typeface="Century Gothic"/>
            </a:endParaRPr>
          </a:p>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Cuando emigra a norteamérica y se dedica a la filosofía política , lee y estudia al republicanismo clásico y anglosajón</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298440" y="36360"/>
            <a:ext cx="8491680" cy="1279800"/>
          </a:xfrm>
          <a:prstGeom prst="rect">
            <a:avLst/>
          </a:prstGeom>
          <a:ln w="0">
            <a:noFill/>
          </a:ln>
        </p:spPr>
      </p:pic>
      <p:sp>
        <p:nvSpPr>
          <p:cNvPr id="353" name=""/>
          <p:cNvSpPr txBox="1"/>
          <p:nvPr/>
        </p:nvSpPr>
        <p:spPr>
          <a:xfrm>
            <a:off x="395280" y="1628640"/>
            <a:ext cx="8229600" cy="452592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rimera mitad del siglo XX: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	</a:t>
            </a:r>
            <a:r>
              <a:rPr b="0" lang="es-ES" sz="3000" spc="-1" strike="noStrike">
                <a:solidFill>
                  <a:srgbClr val="ffffff"/>
                </a:solidFill>
                <a:latin typeface="Century Gothic"/>
              </a:rPr>
              <a:t>La critica radical a la racionalidad moderna (Adorno, Horkheimer, Arendt, Heidegger)</a:t>
            </a:r>
            <a:endParaRPr b="0" lang="en-US" sz="3000" spc="-1" strike="noStrike">
              <a:solidFill>
                <a:srgbClr val="ffffff"/>
              </a:solidFill>
              <a:latin typeface="Century Gothic"/>
            </a:endParaRPr>
          </a:p>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egunda mitad de siglo XX: </a:t>
            </a:r>
            <a:endParaRPr b="0" lang="en-US" sz="3000" spc="-1" strike="noStrike">
              <a:solidFill>
                <a:srgbClr val="ffffff"/>
              </a:solidFill>
              <a:latin typeface="Century Gothic"/>
            </a:endParaRPr>
          </a:p>
          <a:p>
            <a:pPr marL="4478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   </a:t>
            </a:r>
            <a:r>
              <a:rPr b="0" lang="es-ES" sz="3000" spc="-1" strike="noStrike">
                <a:solidFill>
                  <a:srgbClr val="ffffff"/>
                </a:solidFill>
                <a:latin typeface="Century Gothic"/>
              </a:rPr>
              <a:t>La rehabilitación de alguna forma de racionalidad práctica (Apel Haberma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Rectangle 2" descr=""/>
          <p:cNvPicPr/>
          <p:nvPr/>
        </p:nvPicPr>
        <p:blipFill>
          <a:blip r:embed="rId1"/>
          <a:stretch/>
        </p:blipFill>
        <p:spPr>
          <a:xfrm>
            <a:off x="285840" y="-66600"/>
            <a:ext cx="8224920" cy="1931760"/>
          </a:xfrm>
          <a:prstGeom prst="rect">
            <a:avLst/>
          </a:prstGeom>
          <a:ln w="0">
            <a:noFill/>
          </a:ln>
        </p:spPr>
      </p:pic>
      <p:sp>
        <p:nvSpPr>
          <p:cNvPr id="355" name=""/>
          <p:cNvSpPr txBox="1"/>
          <p:nvPr/>
        </p:nvSpPr>
        <p:spPr>
          <a:xfrm>
            <a:off x="713880" y="1857240"/>
            <a:ext cx="8001000" cy="4786560"/>
          </a:xfrm>
          <a:prstGeom prst="rect">
            <a:avLst/>
          </a:prstGeom>
          <a:noFill/>
          <a:ln w="0">
            <a:noFill/>
          </a:ln>
        </p:spPr>
        <p:txBody>
          <a:bodyPr lIns="90000" rIns="90000" tIns="46800" bIns="46800" anchor="t">
            <a:normAutofit/>
          </a:bodyPr>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Century Gothic"/>
              </a:rPr>
              <a:t>Arendt se pregunta en sus primeros trabajos (40-55)¿Cómo fue posible el totalitarismo y en especial el holocausto en una de las sociedades más desarrolladas de Europa?</a:t>
            </a:r>
            <a:endParaRPr b="0" lang="en-US" sz="2800" spc="-1" strike="noStrike">
              <a:solidFill>
                <a:srgbClr val="ffffff"/>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rendt se propone comprende lo que pasó</a:t>
            </a:r>
            <a:endParaRPr b="0" lang="en-US" sz="2800" spc="-1" strike="noStrike">
              <a:solidFill>
                <a:srgbClr val="ffffff"/>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Pero ¿qué significa comprender en un mundo post-totalitario?</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Rectangle 2" descr=""/>
          <p:cNvPicPr/>
          <p:nvPr/>
        </p:nvPicPr>
        <p:blipFill>
          <a:blip r:embed="rId1"/>
          <a:stretch/>
        </p:blipFill>
        <p:spPr>
          <a:xfrm>
            <a:off x="450720" y="262080"/>
            <a:ext cx="8242560" cy="1407960"/>
          </a:xfrm>
          <a:prstGeom prst="rect">
            <a:avLst/>
          </a:prstGeom>
          <a:ln w="0">
            <a:noFill/>
          </a:ln>
        </p:spPr>
      </p:pic>
      <p:sp>
        <p:nvSpPr>
          <p:cNvPr id="35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Comprender: </a:t>
            </a:r>
            <a:endParaRPr b="0" lang="en-US" sz="3000" spc="-1" strike="noStrike">
              <a:solidFill>
                <a:srgbClr val="ffffff"/>
              </a:solidFill>
              <a:latin typeface="Century Gothic"/>
            </a:endParaRPr>
          </a:p>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t>
            </a:r>
            <a:r>
              <a:rPr b="0" lang="es-CL" sz="3000" spc="-1" strike="noStrike">
                <a:solidFill>
                  <a:srgbClr val="ffffff"/>
                </a:solidFill>
                <a:latin typeface="Century Gothic"/>
              </a:rPr>
              <a:t>es una actividad sin fin, a través de la cual aceptamos la realidad y nos reconciliamos con ella, es decir, tratamos de estar en casa en el mundo(…) Comprender es el modo específicamente humano de estar vivo;(…) que consiste en ser capaz de orientarnos en el mundo” (</a:t>
            </a:r>
            <a:r>
              <a:rPr b="0" i="1" lang="es-CL" sz="3000" spc="-1" strike="noStrike">
                <a:solidFill>
                  <a:srgbClr val="ffffff"/>
                </a:solidFill>
                <a:latin typeface="Century Gothic"/>
              </a:rPr>
              <a:t>Comprensión y política</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6480" y="-103320"/>
            <a:ext cx="8796600" cy="182880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hora bien, “… ¿ la tarea de comprender no se ha vuelto desesperada si es verdad que nos confrontamos con algo (el totalitarismo) que ha destruido nuestras categorías de pensamiento y patrones de juicio? ¿Cómo podemos medir longitudes si no tenemos unidad de medida?¿Cómo podríamos contar cosas sin la noción de los números”?(</a:t>
            </a:r>
            <a:r>
              <a:rPr b="0" i="1" lang="es-CL" sz="3000" spc="-1" strike="noStrike">
                <a:solidFill>
                  <a:srgbClr val="ffffff"/>
                </a:solidFill>
                <a:latin typeface="Century Gothic"/>
              </a:rPr>
              <a:t>Comprensión y política</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725400" y="-103320"/>
            <a:ext cx="8210520" cy="182880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t>
            </a:r>
            <a:r>
              <a:rPr b="0" lang="es-CL" sz="3000" spc="-1" strike="noStrike">
                <a:solidFill>
                  <a:srgbClr val="ffffff"/>
                </a:solidFill>
                <a:latin typeface="Century Gothic"/>
              </a:rPr>
              <a:t>¿Es que no está el comprender tan íntimamente relacionado e interrelacionado con el juzgar, que ambos deben describirse como subsunción (de algo particular bajo una norma universal), lo que, de acuerdo con Kant, es la definición misma del juzgar y aquello cuya ausencia definió él tan magníficamente como ‘necedad’ un defecto sin remedio? (</a:t>
            </a:r>
            <a:r>
              <a:rPr b="0" i="1" lang="es-CL" sz="3000" spc="-1" strike="noStrike">
                <a:solidFill>
                  <a:srgbClr val="ffffff"/>
                </a:solidFill>
                <a:latin typeface="Century Gothic"/>
              </a:rPr>
              <a:t>Comprensión y política</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298440" y="-66600"/>
            <a:ext cx="8352000" cy="1828800"/>
          </a:xfrm>
          <a:prstGeom prst="rect">
            <a:avLst/>
          </a:prstGeom>
          <a:ln w="0">
            <a:noFill/>
          </a:ln>
        </p:spPr>
      </p:pic>
      <p:sp>
        <p:nvSpPr>
          <p:cNvPr id="36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t>
            </a:r>
            <a:r>
              <a:rPr b="0" lang="es-CL" sz="2800" spc="-1" strike="noStrike">
                <a:solidFill>
                  <a:srgbClr val="ffffff"/>
                </a:solidFill>
                <a:latin typeface="Century Gothic"/>
              </a:rPr>
              <a:t>La paradoja de la situación contemporánea parece residir en que nuestra necesidad de trascender tanto la comprensión previa como el enfoque rigurosamente científico nace del hecho que hemos perdido nuestras herramientas de comprensión. Nuestra búsqueda de sentido está al mismo tiempo urgida y frustrada por nuestra incapacidad de engendrar sentido.” (</a:t>
            </a:r>
            <a:r>
              <a:rPr b="0" i="1" lang="es-CL" sz="2800" spc="-1" strike="noStrike">
                <a:solidFill>
                  <a:srgbClr val="ffffff"/>
                </a:solidFill>
                <a:latin typeface="Century Gothic"/>
              </a:rPr>
              <a:t>Comprensión y política</a:t>
            </a:r>
            <a:r>
              <a:rPr b="0" lang="es-CL" sz="2800" spc="-1" strike="noStrike">
                <a:solidFill>
                  <a:srgbClr val="ffffff"/>
                </a:solidFill>
                <a:latin typeface="Century Gothic"/>
              </a:rPr>
              <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42:45Z</dcterms:created>
  <dc:creator>mjlopez</dc:creator>
  <dc:description/>
  <dc:language>en-US</dc:language>
  <cp:lastModifiedBy>equipo</cp:lastModifiedBy>
  <dcterms:modified xsi:type="dcterms:W3CDTF">2009-12-14T15:00:01Z</dcterms:modified>
  <cp:revision>14</cp:revision>
  <dc:subject/>
  <dc:title>CRISIS CONTEMPORÁNEA DE LA RAZÓN PRÁCTICA</dc:title>
</cp:coreProperties>
</file>