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DD1CF-3959-46F4-A928-16303DF25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CC291-42D0-464C-8E99-7AA6139A4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2FD20-61E6-4244-8819-69271C934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DA2F0-0751-4C8B-BC5C-723F16A0E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D411FC-C620-4EBE-AF16-290351B614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1749C-697E-41AC-8C6E-67B549B5B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05EA4-DB2C-40E9-BE87-1161EBFB6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1720A-165F-429F-83AC-7C33D61D11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04CD0-B1D5-4056-84BE-A25B83E90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77AE6-D68C-4352-AC50-A9A1FB247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A5730-321F-4CC4-8379-7207669DF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6C9F5-CD7B-4BFC-B10B-35E269A94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7034D-0866-43B5-840D-500FF6E9A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0EC87-1973-40AF-89E3-951F70288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AFEE0-F3BE-4B94-98CD-20404B529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07DC8B-8AC5-49F8-868C-E3F8ADE9A4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254A17-43CA-42B3-82D8-CD34818050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60C9F4-ACA9-4596-9D55-A16A2FA749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C80019-3077-4E0B-BF0B-8EE84323C2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126DF3-7518-46CB-981F-D4031C0326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F8090C-447D-4D7C-B356-0C26A82684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69A2D4-82B9-4F03-AC79-F69167D707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514CA-7F9A-4539-BEAB-4E6AB2966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2B4EE4-F8AF-4DCF-85EA-F8939F068D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2C3688-3877-44D5-B723-E20C698AD1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30E369-C2DC-4497-8431-DC0E9CE3B4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EC50BC-A148-4AC9-945E-A1B12F801C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BB5B21-6920-4E12-BB4F-9D6F431B1F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267148-AEDB-4386-9EC3-1C2964F6CC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48B7BC-6911-4FFD-913C-046D424E23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61B89A-167C-43DA-8B63-2020A500A8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4846CD-6EB8-4FF7-90FD-70D01DF008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71D8B9-7442-4513-9D69-BED5DB4255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F7FB0-6171-417D-8C0B-057BA82C7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F3A27E-ED3B-4EF9-9B16-E2638F702F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537EF9-8A44-4C6D-950F-C8A82089BC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14218E-AC79-48BF-ACD4-D4081CC609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D8F145-8D63-4050-8439-2DF0427BFD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C9A4B6-01D7-4756-B8FD-D397CDC8C7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AA42D5-5DF0-4761-867F-5500F87479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99CFCA-1BC9-49A9-8869-909786DC15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D03528-8A98-436F-9F64-EFF7470770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788779-0E74-4F38-AC9A-0C253A16C1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3CE38B-3D26-4170-A6AF-93666B9439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7767A-DEB6-4A75-BC93-751F9D474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95D1BD-A3C7-4218-8B26-060EA43F23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975F0E-395A-4AD4-93EA-B3699B4D86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0A6C73-5A41-4D97-B448-27E7CE4886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8A03E1-E732-496C-B3AD-DFB65B00C6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AD093E-A1E8-4A45-9D30-557AA93BB3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C7C786-0D85-42F3-ADD4-CF02018CF3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2543B0-0ED8-4115-85BE-82F49BE0F2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B5E284-7AD9-46A8-BE08-47F38ED8A0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DE6DDD-3BCF-46A2-8E69-54A3D9D058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69E6E7-BCBD-4AAE-99F0-64B82D61E7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68FB9-6A54-4DF2-9E14-59CF2A2C1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6BF45B-A1A2-4E53-8B2D-5863857CAC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C122EA-D2E4-4BC0-A4BD-5218525077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52A8E9-46C8-4670-B7F9-89A3D11E91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F799CB-4415-44C0-9645-63CF7289EB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D4BE1B-5519-40AE-ACA6-D0F712A743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9BA49A-50E6-4A66-9A61-8223B111AA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CDA577-994C-4F10-8D9D-5CDBA6CAC8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C4B783-44E1-4F04-89EB-9F032731E6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72887A-7DD2-48C8-A86F-9167388096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4CC337-FAA4-4C1D-8866-3982D3C8BB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7CEAD-14DE-420B-A819-FF3440EAF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38A57F-27CC-434D-B00E-7D1E27975A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FCDF79-FED3-4D31-A39E-544B233F4C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9AC4AF-1AA3-4661-9111-16A6DE381F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E1A3BB-B0BD-40F2-8238-0F1AA92812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622732-AB6C-4E14-911D-E03B908431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A4D63F-192E-476E-A142-82817C7541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7E74C3-ECF6-436A-B663-79C19525E3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BF28A8-21FB-43C0-AA4B-0D737D1641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CF1F0C-3C64-42D2-9EA3-4F3B284B3A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472007-8DC5-41B8-8242-CBDE9A3D72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55013-CFA7-4EBE-801C-FC6827247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7AC88B-E5BE-4C85-98E7-8190DB22C1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6820E3-7C5E-4B54-9231-E3450A5E04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9C2AF9-E580-4CC4-9188-B2663A0CE8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384764-57DF-41A7-9310-FF8CE9E644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FBCF72-F534-4445-A1EA-7CAFF39CC6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ED6AD-E690-4AB8-8FDB-2F8975810E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85266-AB1B-4B4B-AB38-F6BCE4E70FC7}"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E38EA-458F-4776-84A6-649546089087}"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15 Elipse"/>
          <p:cNvGrpSpPr/>
          <p:nvPr/>
        </p:nvGrpSpPr>
        <p:grpSpPr>
          <a:xfrm>
            <a:off x="2163600" y="2809800"/>
            <a:ext cx="231840" cy="225360"/>
            <a:chOff x="2163600" y="2809800"/>
            <a:chExt cx="231840" cy="225360"/>
          </a:xfrm>
        </p:grpSpPr>
        <p:pic>
          <p:nvPicPr>
            <p:cNvPr id="103" name="15 Elipse"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602BD-C71A-441F-9C82-E1BA0A6B108E}"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7A472-0682-4379-B043-55894EF6DA05}"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A1A92-80E8-4F23-94BD-1DAD1A326CBC}"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A85DB-1469-4F43-9773-4E4FA0CF5BBF}"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46200" y="969840"/>
            <a:ext cx="4803840" cy="4802400"/>
            <a:chOff x="646200" y="969840"/>
            <a:chExt cx="4803840" cy="4802400"/>
          </a:xfrm>
        </p:grpSpPr>
        <p:pic>
          <p:nvPicPr>
            <p:cNvPr id="273" name="12 Rectángulo"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C3E51-FD84-4D98-97AF-0E1D21597EA8}"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886360" y="1066680"/>
            <a:ext cx="2743200" cy="198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72314"/>
                </a:solidFill>
                <a:latin typeface="Gill Sans MT"/>
              </a:rPr>
              <a:t>The Religious Belief in </a:t>
            </a:r>
            <a:r>
              <a:rPr b="1" lang="en-US" sz="2100" spc="-1" strike="noStrike" u="sng">
                <a:solidFill>
                  <a:srgbClr val="572314"/>
                </a:solidFill>
                <a:uFillTx/>
                <a:latin typeface="Gill Sans MT"/>
              </a:rPr>
              <a:t>Robinson Crusoe</a:t>
            </a:r>
            <a:endParaRPr b="0" lang="en-US" sz="2100" spc="-1" strike="noStrike">
              <a:solidFill>
                <a:srgbClr val="572314"/>
              </a:solidFill>
              <a:latin typeface="Gill Sans MT"/>
            </a:endParaRPr>
          </a:p>
        </p:txBody>
      </p:sp>
      <p:pic>
        <p:nvPicPr>
          <p:cNvPr id="319" name="4 Marcador de posición de imagen" descr="defoe 4.jpg"/>
          <p:cNvPicPr/>
          <p:nvPr/>
        </p:nvPicPr>
        <p:blipFill>
          <a:blip r:embed="rId2"/>
          <a:stretch/>
        </p:blipFill>
        <p:spPr>
          <a:xfrm>
            <a:off x="835200" y="1139760"/>
            <a:ext cx="4431960" cy="3524400"/>
          </a:xfrm>
          <a:prstGeom prst="rect">
            <a:avLst/>
          </a:prstGeom>
          <a:ln w="0">
            <a:noFill/>
          </a:ln>
        </p:spPr>
      </p:pic>
      <p:sp>
        <p:nvSpPr>
          <p:cNvPr id="320" name="PlaceHolder 2"/>
          <p:cNvSpPr>
            <a:spLocks noGrp="1"/>
          </p:cNvSpPr>
          <p:nvPr>
            <p:ph/>
          </p:nvPr>
        </p:nvSpPr>
        <p:spPr>
          <a:xfrm>
            <a:off x="837720" y="4800240"/>
            <a:ext cx="4419720" cy="762120"/>
          </a:xfrm>
          <a:prstGeom prst="rect">
            <a:avLst/>
          </a:prstGeom>
          <a:noFill/>
          <a:ln w="0">
            <a:noFill/>
          </a:ln>
        </p:spPr>
        <p:txBody>
          <a:bodyPr lIns="90000" rIns="90000" tIns="46800" bIns="46800" anchor="ctr">
            <a:normAutofit/>
          </a:bodyPr>
          <a:p>
            <a:pPr indent="0">
              <a:lnSpc>
                <a:spcPts val="1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7777"/>
                </a:solidFill>
                <a:latin typeface="Gill Sans MT"/>
              </a:rPr>
              <a:t>Chapters five to ten</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lIns="90000" rIns="90000" tIns="46800" bIns="46800" anchor="t">
            <a:normAutofit fontScale="95000"/>
          </a:bodyPr>
          <a:p>
            <a:pPr marL="346680" indent="-2682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obinson starts imagining that his life may have a reflection on the Bible:</a:t>
            </a:r>
            <a:endParaRPr b="0" lang="en-US" sz="3200" spc="-1" strike="noStrike">
              <a:solidFill>
                <a:srgbClr val="000000"/>
              </a:solidFill>
              <a:latin typeface="Gill Sans MT"/>
            </a:endParaRPr>
          </a:p>
          <a:p>
            <a:pPr marL="346680" indent="-268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t>
            </a:r>
            <a:r>
              <a:rPr b="0" lang="en-US" sz="3200" spc="-1" strike="noStrike">
                <a:solidFill>
                  <a:srgbClr val="000000"/>
                </a:solidFill>
                <a:latin typeface="Gill Sans MT"/>
              </a:rPr>
              <a:t>These words were very apt to my case, and made some impressions upon my thoughts at the time of reading them (…) as the children of Israel did when they were promised flesh to eat (…) ‘can God deliver me from this place’? (p. 120)</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39"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obinson begins to experience a conversion to God.</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 realizes that God’s table is set in the wilderness –he learns to grow corn, makes bread, raises goats, etc. </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change that Robinson is suffering helps him also reinterpret his pas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41" name=""/>
          <p:cNvSpPr txBox="1"/>
          <p:nvPr/>
        </p:nvSpPr>
        <p:spPr>
          <a:xfrm>
            <a:off x="1434960" y="1447560"/>
            <a:ext cx="7499520" cy="4800600"/>
          </a:xfrm>
          <a:prstGeom prst="rect">
            <a:avLst/>
          </a:prstGeom>
          <a:noFill/>
          <a:ln w="0">
            <a:noFill/>
          </a:ln>
        </p:spPr>
        <p:txBody>
          <a:bodyPr lIns="90000" rIns="90000" tIns="46800" bIns="46800" anchor="t">
            <a:normAutofit fontScale="90000"/>
          </a:bodyPr>
          <a:p>
            <a:pPr marL="328320" indent="-25416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ill Sans MT"/>
              </a:rPr>
              <a:t>“</a:t>
            </a:r>
            <a:r>
              <a:rPr b="0" lang="en-US" sz="3200" spc="-1" strike="noStrike">
                <a:solidFill>
                  <a:srgbClr val="000000"/>
                </a:solidFill>
                <a:latin typeface="Gill Sans MT"/>
              </a:rPr>
              <a:t>It was now that I began sensibly to feel how much more happy this life I now led was, with all its miserable circumstances, than the wicked, cursed, abominable life I led all the past part of my days.” (p. 144)</a:t>
            </a:r>
            <a:endParaRPr b="0" lang="en-US" sz="3200" spc="-1" strike="noStrike">
              <a:solidFill>
                <a:srgbClr val="000000"/>
              </a:solidFill>
              <a:latin typeface="Gill Sans MT"/>
            </a:endParaRPr>
          </a:p>
          <a:p>
            <a:pPr marL="328320" indent="-25416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en-US" sz="3200" spc="-1" strike="noStrike">
                <a:solidFill>
                  <a:srgbClr val="000000"/>
                </a:solidFill>
                <a:latin typeface="Gill Sans MT"/>
              </a:rPr>
              <a:t>With these reflections I worked my mind not only to a resignation to the will of God in the present disposition of my circumstances, but even to a sincere thankfulness for my condition.”(168)</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43"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 tries to understand his life as a carried or directed by Providence.</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 learns prudence, temperance and other qualities that he needs to have a good life.</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y fifteen years on the island, Robinson reaches a balanced Christia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4" name="3 Imagen" descr="Defoe6.jpg"/>
          <p:cNvPicPr/>
          <p:nvPr/>
        </p:nvPicPr>
        <p:blipFill>
          <a:blip r:embed="rId2"/>
          <a:stretch/>
        </p:blipFill>
        <p:spPr>
          <a:xfrm>
            <a:off x="1946160" y="714240"/>
            <a:ext cx="5626080" cy="5816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5" name="1 Imagen" descr="Defoe2.jpg"/>
          <p:cNvPicPr/>
          <p:nvPr/>
        </p:nvPicPr>
        <p:blipFill>
          <a:blip r:embed="rId2"/>
          <a:stretch/>
        </p:blipFill>
        <p:spPr>
          <a:xfrm>
            <a:off x="2781360" y="515880"/>
            <a:ext cx="4290840" cy="581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22" name=""/>
          <p:cNvSpPr txBox="1"/>
          <p:nvPr/>
        </p:nvSpPr>
        <p:spPr>
          <a:xfrm>
            <a:off x="1434960" y="1447560"/>
            <a:ext cx="7499520" cy="4800600"/>
          </a:xfrm>
          <a:prstGeom prst="rect">
            <a:avLst/>
          </a:prstGeom>
          <a:noFill/>
          <a:ln w="0">
            <a:noFill/>
          </a:ln>
        </p:spPr>
        <p:txBody>
          <a:bodyPr lIns="90000" rIns="90000" tIns="46800" bIns="46800" anchor="t">
            <a:normAutofit fontScale="93000"/>
          </a:bodyPr>
          <a:p>
            <a:pPr marL="339480" indent="-2628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nce his arrival on the Island, Robinson has not prayed. His connection to God is quiet diffuse.</a:t>
            </a:r>
            <a:endParaRPr b="0" lang="en-US" sz="3200" spc="-1" strike="noStrike">
              <a:solidFill>
                <a:srgbClr val="000000"/>
              </a:solidFill>
              <a:latin typeface="Gill Sans MT"/>
            </a:endParaRPr>
          </a:p>
          <a:p>
            <a:pPr marL="339480" indent="-2628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first time he acknowledges praying is on June 21:</a:t>
            </a:r>
            <a:endParaRPr b="0" lang="en-US" sz="3200" spc="-1" strike="noStrike">
              <a:solidFill>
                <a:srgbClr val="000000"/>
              </a:solidFill>
              <a:latin typeface="Gill Sans MT"/>
            </a:endParaRPr>
          </a:p>
          <a:p>
            <a:pPr marL="339480" indent="-262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t>
            </a:r>
            <a:r>
              <a:rPr b="0" lang="en-US" sz="3200" spc="-1" strike="noStrike">
                <a:solidFill>
                  <a:srgbClr val="000000"/>
                </a:solidFill>
                <a:latin typeface="Gill Sans MT"/>
              </a:rPr>
              <a:t>Very ill; freighted almost to death with the apprehension of my sad condition –to be sick (…) prayed to God, for the first time since the storm of Hull.” (p. 111)</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24" name=""/>
          <p:cNvSpPr txBox="1"/>
          <p:nvPr/>
        </p:nvSpPr>
        <p:spPr>
          <a:xfrm>
            <a:off x="1434960" y="1447560"/>
            <a:ext cx="7499520" cy="4800600"/>
          </a:xfrm>
          <a:prstGeom prst="rect">
            <a:avLst/>
          </a:prstGeom>
          <a:noFill/>
          <a:ln w="0">
            <a:noFill/>
          </a:ln>
        </p:spPr>
        <p:txBody>
          <a:bodyPr lIns="90000" rIns="90000" tIns="46800" bIns="46800" anchor="t">
            <a:normAutofit fontScale="93000"/>
          </a:bodyPr>
          <a:p>
            <a:pPr marL="339480" indent="-2628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n June 27 he says: “Prayed to God again, but was light-headed; and when I was not, I was so ignorant that I knew not what to say; only I lay and cried, ‘Lord, look upon me! Lord, pity me! (p. 111)</a:t>
            </a:r>
            <a:endParaRPr b="0" lang="en-US" sz="3200" spc="-1" strike="noStrike">
              <a:solidFill>
                <a:srgbClr val="000000"/>
              </a:solidFill>
              <a:latin typeface="Gill Sans MT"/>
            </a:endParaRPr>
          </a:p>
          <a:p>
            <a:pPr marL="339480" indent="-2628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n both quotations Robinson doesn't really show a religious feeling of acceptance of God’s Providence. He is rebellious and frightened, he considers the experience a punishmen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26" name=""/>
          <p:cNvSpPr txBox="1"/>
          <p:nvPr/>
        </p:nvSpPr>
        <p:spPr>
          <a:xfrm>
            <a:off x="1434960" y="1447560"/>
            <a:ext cx="7499520" cy="4800600"/>
          </a:xfrm>
          <a:prstGeom prst="rect">
            <a:avLst/>
          </a:prstGeom>
          <a:noFill/>
          <a:ln w="0">
            <a:noFill/>
          </a:ln>
        </p:spPr>
        <p:txBody>
          <a:bodyPr lIns="90000" rIns="90000" tIns="46800" bIns="46800" anchor="t">
            <a:normAutofit fontScale="94000"/>
          </a:bodyPr>
          <a:p>
            <a:pPr marL="343080" indent="-26532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 continues to have the same idea of God: “Lord, be my help, for I am in great distress.” (p.116)</a:t>
            </a:r>
            <a:endParaRPr b="0" lang="en-US" sz="3200" spc="-1" strike="noStrike">
              <a:solidFill>
                <a:srgbClr val="000000"/>
              </a:solidFill>
              <a:latin typeface="Gill Sans MT"/>
            </a:endParaRPr>
          </a:p>
          <a:p>
            <a:pPr marL="343080" indent="-26532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 imagines that God has guided him toward that place but still is unable to accept it:</a:t>
            </a:r>
            <a:endParaRPr b="0" lang="en-US" sz="3200" spc="-1" strike="noStrike">
              <a:solidFill>
                <a:srgbClr val="000000"/>
              </a:solidFill>
              <a:latin typeface="Gill Sans MT"/>
            </a:endParaRPr>
          </a:p>
          <a:p>
            <a:pPr marL="343080" indent="-2653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t>
            </a:r>
            <a:r>
              <a:rPr b="0" lang="en-US" sz="3200" spc="-1" strike="noStrike">
                <a:solidFill>
                  <a:srgbClr val="000000"/>
                </a:solidFill>
                <a:latin typeface="Gill Sans MT"/>
              </a:rPr>
              <a:t>His knowledge, he knows that I am here, and am in this dreadful condition (…) he has appointed all this to befall me (…) Why has done this to me? (p. 118)</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28"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deepest challenge for Robinson is to acknowledge God and have mature faith in providence.</a:t>
            </a:r>
            <a:endParaRPr b="0" lang="en-US" sz="3200" spc="-1" strike="noStrike">
              <a:solidFill>
                <a:srgbClr val="000000"/>
              </a:solidFill>
              <a:latin typeface="Gill Sans MT"/>
            </a:endParaRPr>
          </a:p>
          <a:p>
            <a:pPr marL="365040" indent="-2826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ventually, he’ develop a growing trust in God.</a:t>
            </a:r>
            <a:endParaRPr b="0" lang="en-US" sz="3200" spc="-1" strike="noStrike">
              <a:solidFill>
                <a:srgbClr val="000000"/>
              </a:solidFill>
              <a:latin typeface="Gill Sans MT"/>
            </a:endParaRPr>
          </a:p>
          <a:p>
            <a:pPr marL="365040" indent="-2826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ittle by little his trust in God begins to grow and the narration is constructed in such a way that new incidents are invented in order to justify growing faith in God.</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9" name="3 Imagen" descr="Defoe 5.jpg"/>
          <p:cNvPicPr/>
          <p:nvPr/>
        </p:nvPicPr>
        <p:blipFill>
          <a:blip r:embed="rId2"/>
          <a:stretch/>
        </p:blipFill>
        <p:spPr>
          <a:xfrm>
            <a:off x="1020600" y="357120"/>
            <a:ext cx="7337520" cy="6346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dream</a:t>
            </a:r>
            <a:endParaRPr b="0" lang="en-US" sz="4300" spc="-1" strike="noStrike">
              <a:solidFill>
                <a:srgbClr val="572314"/>
              </a:solidFill>
              <a:latin typeface="Gill Sans MT"/>
            </a:endParaRPr>
          </a:p>
        </p:txBody>
      </p:sp>
      <p:sp>
        <p:nvSpPr>
          <p:cNvPr id="331" name=""/>
          <p:cNvSpPr txBox="1"/>
          <p:nvPr/>
        </p:nvSpPr>
        <p:spPr>
          <a:xfrm>
            <a:off x="1434960" y="1447560"/>
            <a:ext cx="7499520" cy="4800600"/>
          </a:xfrm>
          <a:prstGeom prst="rect">
            <a:avLst/>
          </a:prstGeom>
          <a:noFill/>
          <a:ln w="0">
            <a:noFill/>
          </a:ln>
        </p:spPr>
        <p:txBody>
          <a:bodyPr lIns="90000" rIns="90000" tIns="46800" bIns="46800" anchor="t">
            <a:normAutofit fontScale="95000"/>
          </a:bodyPr>
          <a:p>
            <a:pPr marL="346680" indent="-2682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rusoe’s dream of an angel is an important event in the narration:</a:t>
            </a:r>
            <a:endParaRPr b="0" lang="en-US" sz="3200" spc="-1" strike="noStrike">
              <a:solidFill>
                <a:srgbClr val="000000"/>
              </a:solidFill>
              <a:latin typeface="Gill Sans MT"/>
            </a:endParaRPr>
          </a:p>
          <a:p>
            <a:pPr lvl="1" marL="607680" indent="-2246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r>
              <a:rPr b="0" lang="en-US" sz="2800" spc="-1" strike="noStrike">
                <a:solidFill>
                  <a:srgbClr val="000000"/>
                </a:solidFill>
                <a:latin typeface="Gill Sans MT"/>
              </a:rPr>
              <a:t>And I saw a man descend from a great black cloud. In a bright flame of fire, and light upon the ground. He was all over bright as a flame (…) he moved toward me  with a long spear or weapon to kill me. I heard a voice so terrible that it is impossible to express the terror of it. ‘seeing all these things have not brought thee to repentance.” (p. 112)</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33"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this point Robinson’s mind begins to awaken.</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 is led to accept and acknowledge God’s existence and providential control over nature.</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 acknowledges his misspent life.</a:t>
            </a:r>
            <a:endParaRPr b="0" lang="en-US" sz="3200" spc="-1" strike="noStrike">
              <a:solidFill>
                <a:srgbClr val="000000"/>
              </a:solidFill>
              <a:latin typeface="Gill Sans MT"/>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35"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obinson finds the Bible:</a:t>
            </a:r>
            <a:endParaRPr b="0" lang="en-US" sz="3200" spc="-1" strike="noStrike">
              <a:solidFill>
                <a:srgbClr val="000000"/>
              </a:solidFill>
              <a:latin typeface="Gill Sans MT"/>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t>
            </a:r>
            <a:r>
              <a:rPr b="0" lang="en-US" sz="3200" spc="-1" strike="noStrike">
                <a:solidFill>
                  <a:srgbClr val="000000"/>
                </a:solidFill>
                <a:latin typeface="Gill Sans MT"/>
              </a:rPr>
              <a:t>I look up the Bible and began to read, having opened the book casually , the first words that occurred to me were these, ‘Call on me the day of trouble and I will deliver thee, and thou shalt glorify me.” (120)</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31T19:52:34Z</dcterms:created>
  <dc:creator>Erika</dc:creator>
  <dc:description/>
  <dc:language>en-US</dc:language>
  <cp:lastModifiedBy>.</cp:lastModifiedBy>
  <dcterms:modified xsi:type="dcterms:W3CDTF">2008-09-01T15:49:22Z</dcterms:modified>
  <cp:revision>16</cp:revision>
  <dc:subject/>
  <dc:title>The Religious Belief in Robinson Crusoe</dc:title>
</cp:coreProperties>
</file>