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7FF0-29A0-43AB-B0E6-57C09754403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102E-4086-4AC2-B146-A9D1785FF24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54BC-510B-4041-AA12-28C9060425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4C04-1823-415C-98C9-C184DEDEDA6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D126-42C8-4A8D-B55B-118BE99F0C0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7314-6315-4E67-BD3B-5C9428A74D2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9CB4-BAE6-4830-BFB6-763C4D5CD13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9510-C54F-474E-86C7-64F2C26A73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F9AAA-C331-4845-A11F-1B96F6EEE7C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03A6-CB2A-4734-8AB5-119502B822E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F932-7AE8-43A7-A2C8-713C3AD491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4E54-3AA8-45A1-88DE-9509C51E80A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ADF0-50B4-427C-9965-268E165E993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A9DA-1382-4452-9817-A5E87EE02BF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51C6-06C0-4D37-8A99-E1B32A727E0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4946-7D12-4F24-B73F-92238D64BE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A464-D2F3-4C43-8063-FC3480FCF11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DE7D-1811-43F7-AB8D-423B8461B90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ED99-1958-41F7-83D3-59D709B5B98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17B1-E715-47B6-BC71-3112699718E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FF40-B02E-43ED-AF41-A6831800C96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8857-73DE-49B5-B197-818051C4D95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E105-93B2-4515-810C-EB343C5F5BC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30AB-7708-419B-9265-7E4C9642047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2D3E-1EAE-4CBA-9AAA-F2CDA68883C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1C09-E770-4131-BF04-833E85EC764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0995-B893-4876-909C-10957E2CACC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DF8A-C7CD-41C7-8118-B2713BEE19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079B-E63F-4836-A63E-FC9C11FE02B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3944-D059-4C02-99E1-3BF09D237D2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49E5-C264-4F43-93DF-CDB9C1DD4EC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260B8-10F2-4055-ABB5-72EEBCB9466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22E8-9E1D-4182-8A23-7595BDC5373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4BED-645A-4D99-83AC-C82A02C690B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88C2-40A1-45CC-B981-91E775A224C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A312-9703-451A-86FF-681EB58CC9C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65EB-A104-4A1C-82BB-200607E03DA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1F3D-CD81-4C4D-93D2-C13E4EB563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649C-EA54-4E28-81AF-6D702572FD3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A3FE5-9886-4743-86B1-8F433C6C0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8AC92-CBAF-41ED-BBC0-6D2D8F468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14259-0A28-4A6A-B02C-2A1C42AFE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7CD9F-BB67-4D30-B073-B59C878E6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345CBF-E63C-4B0F-BCD1-9672EFBDA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32167-7A44-4350-887B-15DB272DD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05E76-2B80-4797-9343-35921D429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D1A12-02E0-46F9-BFF2-12CF2BBED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B6FF6-F3DB-4F91-88B1-EBD4C555A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29617-BB6A-4D5E-BB13-CD137D0C7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B6035-ABEA-47D2-B2FE-72CD21FE1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CBC78-237F-40F8-9B64-B6C85CDE6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E0F7C-8615-4CDD-8ABA-0A99B6E92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B9A38-5ABB-4BA8-86ED-176382CBC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2842F-2FBF-4D2E-8249-6F94D7645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0FCBC-D73F-4F52-8447-30E877EE8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C3133-F1CC-4D32-8C1E-4E3F1466F5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12084-6D4C-4B25-B590-824AC287C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484A7-39A6-44B5-B61E-101841D19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BC4FA-3BB0-401C-951E-DB38DAFF6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7EC5C-EF4E-409F-906D-671A41A4D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0672C-E6A9-4CAE-9117-C445C1FBC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23735-F4AB-4B5E-8DB6-3561D17F9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63563-2A3C-423C-AE4C-2CB7BB7E9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8C01-28CB-4DF4-931C-05A828097C69}"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CDC9-C270-4BCE-BA8D-EB0C75B8D87B}"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333000"/>
            <a:ext cx="5025960" cy="106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330033"/>
                </a:solidFill>
                <a:latin typeface="Times New Roman"/>
              </a:rPr>
              <a:t>The Seventeenth Century</a:t>
            </a:r>
            <a:endParaRPr b="0" lang="en-US" sz="4000" spc="-1" strike="noStrike">
              <a:solidFill>
                <a:srgbClr val="330033"/>
              </a:solidFill>
              <a:latin typeface="Times New Roman"/>
            </a:endParaRPr>
          </a:p>
        </p:txBody>
      </p:sp>
      <p:sp>
        <p:nvSpPr>
          <p:cNvPr id="105" name="PlaceHolder 2"/>
          <p:cNvSpPr>
            <a:spLocks noGrp="1"/>
          </p:cNvSpPr>
          <p:nvPr>
            <p:ph type="subTitle"/>
          </p:nvPr>
        </p:nvSpPr>
        <p:spPr>
          <a:xfrm>
            <a:off x="684000" y="1773000"/>
            <a:ext cx="6048360" cy="911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Arial"/>
              </a:rPr>
              <a:t>The Puritan Revolu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4"/>
                                        </p:tgtEl>
                                        <p:attrNameLst>
                                          <p:attrName>style.visibility</p:attrName>
                                        </p:attrNameLst>
                                      </p:cBhvr>
                                      <p:to>
                                        <p:strVal val="visible"/>
                                      </p:to>
                                    </p:set>
                                    <p:animEffect filter="fade" transition="in">
                                      <p:cBhvr additive="repl">
                                        <p:cTn id="7" dur="20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2" dur="2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les I</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new parliament met in 1640, the so called Long Parliament, and decided to espouse the Scotch cause. The break came in 1641, and Civil War ensued. In 1649, a Parliament entirely Puritan beheaded Charle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the next few years Puritan extremists tried valiantly to establish a government something like a democracy. </a:t>
            </a:r>
            <a:endParaRPr b="0" lang="en-US" sz="2800" spc="-1" strike="noStrike">
              <a:solidFill>
                <a:srgbClr val="000000"/>
              </a:solidFill>
              <a:latin typeface="Arial"/>
            </a:endParaRPr>
          </a:p>
        </p:txBody>
      </p:sp>
      <p:pic>
        <p:nvPicPr>
          <p:cNvPr id="129" name="Picture 4" descr="Charles I"/>
          <p:cNvPicPr/>
          <p:nvPr/>
        </p:nvPicPr>
        <p:blipFill>
          <a:blip r:embed="rId1"/>
          <a:stretch/>
        </p:blipFill>
        <p:spPr>
          <a:xfrm>
            <a:off x="6300720" y="404640"/>
            <a:ext cx="1285920" cy="105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Oliver Cromwell</a:t>
            </a:r>
            <a:endParaRPr b="0" lang="en-US" sz="4200" spc="-1" strike="noStrike">
              <a:solidFill>
                <a:srgbClr val="33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liver Cromwell, was a strict Puritan with a Cambridge education. Clothed conservatively , he possessed a Puritan fervour and a commanding voice.</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vil war broke out between King Charles I and parliament in 1642. Although Cromwell lacked military experience, he led a superb force of cavalry, and rose from the rank of captain to that of lieutenant-general in three years.</a:t>
            </a:r>
            <a:r>
              <a:rPr b="0" lang="es-ES"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32" name="Picture 4" descr="cromwell"/>
          <p:cNvPicPr/>
          <p:nvPr/>
        </p:nvPicPr>
        <p:blipFill>
          <a:blip r:embed="rId1"/>
          <a:stretch/>
        </p:blipFill>
        <p:spPr>
          <a:xfrm>
            <a:off x="6804000" y="333360"/>
            <a:ext cx="93348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Oliver Cromwell</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omwell believed that the king must be brought to justice. </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was a prime mover in the trial and execution of Charles I in 1649</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1653, Cromwell established a rigid protectorate in the hope that a firm hand might succeed in forming a free state. </a:t>
            </a:r>
            <a:endParaRPr b="0" lang="en-US" sz="2800" spc="-1" strike="noStrike">
              <a:solidFill>
                <a:srgbClr val="000000"/>
              </a:solidFill>
              <a:latin typeface="Arial"/>
            </a:endParaRPr>
          </a:p>
        </p:txBody>
      </p:sp>
      <p:pic>
        <p:nvPicPr>
          <p:cNvPr id="135" name="Picture 4" descr="cromwell"/>
          <p:cNvPicPr/>
          <p:nvPr/>
        </p:nvPicPr>
        <p:blipFill>
          <a:blip r:embed="rId1"/>
          <a:stretch/>
        </p:blipFill>
        <p:spPr>
          <a:xfrm>
            <a:off x="6659640" y="189000"/>
            <a:ext cx="93348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Oliver Cromwell</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romwell's career is full of contradiction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 his rule, the Protectorate advocated religious liberty of conscience but allowed blasphemers to be tortured. </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mirers hail him as a strong, stabilising and stately leader who brought international respect, overthrew tyranny and promoted republicanism and liberty, whilst critics ridicule him as an overly ambitious hypocrite who betrayed the cause of liberty.</a:t>
            </a:r>
            <a:endParaRPr b="0" lang="en-US" sz="2400" spc="-1" strike="noStrike">
              <a:solidFill>
                <a:srgbClr val="000000"/>
              </a:solidFill>
              <a:latin typeface="Arial"/>
            </a:endParaRPr>
          </a:p>
        </p:txBody>
      </p:sp>
      <p:pic>
        <p:nvPicPr>
          <p:cNvPr id="138" name="Picture 4" descr="cromwell"/>
          <p:cNvPicPr/>
          <p:nvPr/>
        </p:nvPicPr>
        <p:blipFill>
          <a:blip r:embed="rId1"/>
          <a:stretch/>
        </p:blipFill>
        <p:spPr>
          <a:xfrm>
            <a:off x="6732720" y="333360"/>
            <a:ext cx="933480" cy="114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romwell</a:t>
            </a:r>
            <a:endParaRPr b="0" lang="en-US" sz="42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Cromwell died in 1658, his weak son proved unequal to the task of guiding the government and anarchy ensued.</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ck of dissension English tried to call Charles I’s son to the throne as Charles II. For 28 years English tried to live happily under Stuart regime, but in 1688 Charles II’s son, James II had to flee the country, and England was done with the Stuarts forever. </a:t>
            </a:r>
            <a:endParaRPr b="0" lang="en-US" sz="2400" spc="-1" strike="noStrike">
              <a:solidFill>
                <a:srgbClr val="000000"/>
              </a:solidFill>
              <a:latin typeface="Arial"/>
            </a:endParaRPr>
          </a:p>
        </p:txBody>
      </p:sp>
      <p:pic>
        <p:nvPicPr>
          <p:cNvPr id="141" name="Picture 4" descr="cromwell"/>
          <p:cNvPicPr/>
          <p:nvPr/>
        </p:nvPicPr>
        <p:blipFill>
          <a:blip r:embed="rId1"/>
          <a:stretch/>
        </p:blipFill>
        <p:spPr>
          <a:xfrm>
            <a:off x="6084720" y="333360"/>
            <a:ext cx="93348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0640" y="2133720"/>
            <a:ext cx="7623000" cy="1752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700" spc="-1" strike="noStrike">
                <a:solidFill>
                  <a:srgbClr val="000000"/>
                </a:solidFill>
                <a:latin typeface="Times New Roman"/>
              </a:rPr>
              <a:t>John Milton</a:t>
            </a:r>
            <a:endParaRPr b="0" lang="en-US" sz="7700" spc="-1" strike="noStrike">
              <a:solidFill>
                <a:srgbClr val="330033"/>
              </a:solidFill>
              <a:latin typeface="Times New Roman"/>
            </a:endParaRPr>
          </a:p>
        </p:txBody>
      </p:sp>
      <p:sp>
        <p:nvSpPr>
          <p:cNvPr id="143"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000000"/>
                </a:solidFill>
                <a:latin typeface="Garamond"/>
              </a:rPr>
              <a:t>Greatest Poet next to Shakespeare</a:t>
            </a:r>
            <a:endParaRPr b="0" lang="en-US" sz="5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285264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600" spc="-1" strike="noStrike">
                <a:solidFill>
                  <a:srgbClr val="330033"/>
                </a:solidFill>
                <a:latin typeface="Garamond"/>
              </a:rPr>
              <a:t>Paradise Lost</a:t>
            </a:r>
            <a:r>
              <a:rPr b="0" lang="es-CL" sz="3800" spc="-1" strike="noStrike">
                <a:solidFill>
                  <a:srgbClr val="330033"/>
                </a:solidFill>
                <a:latin typeface="Times New Roman"/>
              </a:rPr>
              <a:t> </a:t>
            </a:r>
            <a:endParaRPr b="0" lang="en-US" sz="3800" spc="-1" strike="noStrike">
              <a:solidFill>
                <a:srgbClr val="3300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 in the Poem</a:t>
            </a: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tan</a:t>
            </a:r>
            <a:r>
              <a:rPr b="0" lang="en-GB" sz="2800" spc="-1" strike="noStrike">
                <a:solidFill>
                  <a:srgbClr val="000000"/>
                </a:solidFill>
                <a:latin typeface="Arial"/>
              </a:rPr>
              <a:t> -  Head of the rebellious angels who have just fallen from Heaven. As the poem’s antagonist, Satan is the originator of sin—the first to be ungrateful for God the Father’s blessings.</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dam</a:t>
            </a:r>
            <a:r>
              <a:rPr b="0" lang="en-GB" sz="2800" spc="-1" strike="noStrike">
                <a:solidFill>
                  <a:srgbClr val="000000"/>
                </a:solidFill>
                <a:latin typeface="Arial"/>
              </a:rPr>
              <a:t> -  The first human, the father of our race, and, along with his wife Eve, the caretaker of the Garden of Eden. Adam is grateful and obedient to God, but falls from grace when Eve convinces him to join her in the sin of eating from the Tree of Knowledge</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ve</a:t>
            </a:r>
            <a:r>
              <a:rPr b="0" lang="en-GB" sz="2800" spc="-1" strike="noStrike">
                <a:solidFill>
                  <a:srgbClr val="000000"/>
                </a:solidFill>
                <a:latin typeface="Arial"/>
              </a:rPr>
              <a:t> -  The first woman and the mother of mankind She is weaker than Adam, so Satan focuses his powers of temptation on her.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od the Father</a:t>
            </a:r>
            <a:r>
              <a:rPr b="0" lang="en-GB" sz="2800" spc="-1" strike="noStrike">
                <a:solidFill>
                  <a:srgbClr val="000000"/>
                </a:solidFill>
                <a:latin typeface="Arial"/>
              </a:rPr>
              <a:t> -  One part of the Christian Trinity. God the Father creates the world by means of God the Son, creating Adam and Eve last. He foresees the fall of mankind through th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od the Son</a:t>
            </a:r>
            <a:r>
              <a:rPr b="0" lang="en-GB" sz="2800" spc="-1" strike="noStrike">
                <a:solidFill>
                  <a:srgbClr val="000000"/>
                </a:solidFill>
                <a:latin typeface="Arial"/>
              </a:rPr>
              <a:t> -  Jesus Christ, the second part of the Trinity. When the fall of man is predicted, He offers himself as a sacrifice to pay for the sins of mankin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eelzebub</a:t>
            </a:r>
            <a:r>
              <a:rPr b="0" lang="en-GB" sz="2800" spc="-1" strike="noStrike">
                <a:solidFill>
                  <a:srgbClr val="000000"/>
                </a:solidFill>
                <a:latin typeface="Arial"/>
              </a:rPr>
              <a:t> -  Satan’s second-in-command. Beelzebub discusses with Satan their options after being cast into Hell.</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Belial</a:t>
            </a:r>
            <a:r>
              <a:rPr b="0" lang="en-GB" sz="2800" spc="-1" strike="noStrike">
                <a:solidFill>
                  <a:srgbClr val="000000"/>
                </a:solidFill>
                <a:latin typeface="Arial"/>
              </a:rPr>
              <a:t> -  One of the principal devils in Hell. Belial argues against further war with Heaven, but he does so because he is lazy  not for any good reas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The Stuarts</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The XVII century was one of the most crucial of centuries in Europe.</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It saw the deveplopment of three of the most important factors which have made the modern spirit: Puritanism, racionalism, Scientific spirit.</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uritanism had far-reaching consequences in political theory. Its off-spring in the XVII century was the democratic ideal</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106"/>
                                        </p:tgtEl>
                                        <p:attrNameLst>
                                          <p:attrName>style.visibility</p:attrName>
                                        </p:attrNameLst>
                                      </p:cBhvr>
                                      <p:to>
                                        <p:strVal val="visible"/>
                                      </p:to>
                                    </p:set>
                                    <p:animEffect filter="fade" transition="in">
                                      <p:cBhvr additive="repl">
                                        <p:cTn id="19" dur="2000"/>
                                        <p:tgtEl>
                                          <p:spTgt spid="10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4" dur="2000"/>
                                        <p:tgtEl>
                                          <p:spTgt spid="10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9" dur="2000"/>
                                        <p:tgtEl>
                                          <p:spTgt spid="107">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07">
                                            <p:txEl>
                                              <p:pRg st="4" end="4"/>
                                            </p:txEl>
                                          </p:spTgt>
                                        </p:tgtEl>
                                        <p:attrNameLst>
                                          <p:attrName>style.visibility</p:attrName>
                                        </p:attrNameLst>
                                      </p:cBhvr>
                                      <p:to>
                                        <p:strVal val="visible"/>
                                      </p:to>
                                    </p:set>
                                    <p:animEffect filter="fade" transition="in">
                                      <p:cBhvr additive="repl">
                                        <p:cTn id="34" dur="20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mmon</a:t>
            </a:r>
            <a:r>
              <a:rPr b="0" lang="en-GB" sz="2800" spc="-1" strike="noStrike">
                <a:solidFill>
                  <a:srgbClr val="000000"/>
                </a:solidFill>
                <a:latin typeface="Arial"/>
              </a:rPr>
              <a:t> -  A devil known in the Bible as the epitome of wealth. He won’t support another war with Heaven if there’s no profi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Mulciber</a:t>
            </a:r>
            <a:r>
              <a:rPr b="0" lang="en-GB" sz="2800" spc="-1" strike="noStrike">
                <a:solidFill>
                  <a:srgbClr val="000000"/>
                </a:solidFill>
                <a:latin typeface="Arial"/>
              </a:rPr>
              <a:t> -  The devil who builds Pandemonium, Satan’s palace in Hel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Moloch</a:t>
            </a:r>
            <a:r>
              <a:rPr b="0" lang="en-GB" sz="2800" spc="-1" strike="noStrike">
                <a:solidFill>
                  <a:srgbClr val="000000"/>
                </a:solidFill>
                <a:latin typeface="Arial"/>
              </a:rPr>
              <a:t> -  A rash, irrational, and murderous devil. Moloch argues in Pandemonium that the devils should engage in another full war against God and his servant ange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n</a:t>
            </a:r>
            <a:r>
              <a:rPr b="0" lang="en-GB" sz="2800" spc="-1" strike="noStrike">
                <a:solidFill>
                  <a:srgbClr val="000000"/>
                </a:solidFill>
                <a:latin typeface="Arial"/>
              </a:rPr>
              <a:t> -  Satan’s daught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Death</a:t>
            </a:r>
            <a:r>
              <a:rPr b="0" lang="en-GB" sz="2800" spc="-1" strike="noStrike">
                <a:solidFill>
                  <a:srgbClr val="000000"/>
                </a:solidFill>
                <a:latin typeface="Arial"/>
              </a:rPr>
              <a:t> -  Satan’s son by his daughter, Si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abriel</a:t>
            </a:r>
            <a:r>
              <a:rPr b="0" lang="en-GB" sz="2800" spc="-1" strike="noStrike">
                <a:solidFill>
                  <a:srgbClr val="000000"/>
                </a:solidFill>
                <a:latin typeface="Arial"/>
              </a:rPr>
              <a:t> -  One of the archangels of Heaven, who acts as a guard at the Garden of Ede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phael</a:t>
            </a:r>
            <a:r>
              <a:rPr b="0" lang="en-GB" sz="2800" spc="-1" strike="noStrike">
                <a:solidFill>
                  <a:srgbClr val="000000"/>
                </a:solidFill>
                <a:latin typeface="Arial"/>
              </a:rPr>
              <a:t> -  One of the archangels in Heaven, who acts as one of God’s messenger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Uriel</a:t>
            </a:r>
            <a:r>
              <a:rPr b="0" lang="en-GB" sz="2800" spc="-1" strike="noStrike">
                <a:solidFill>
                  <a:srgbClr val="000000"/>
                </a:solidFill>
                <a:latin typeface="Arial"/>
              </a:rPr>
              <a:t> -  An angel who guards the planet eart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Abdiel</a:t>
            </a:r>
            <a:r>
              <a:rPr b="0" lang="en-GB" sz="2800" spc="-1" strike="noStrike">
                <a:solidFill>
                  <a:srgbClr val="000000"/>
                </a:solidFill>
                <a:latin typeface="Arial"/>
              </a:rPr>
              <a:t> -  An angel who at first considers joining Satan and then repented</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acters</a:t>
            </a:r>
            <a:endParaRPr b="0" lang="en-US" sz="4200" spc="-1" strike="noStrike">
              <a:solidFill>
                <a:srgbClr val="330033"/>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ichael</a:t>
            </a:r>
            <a:r>
              <a:rPr b="0" lang="en-GB" sz="2800" spc="-1" strike="noStrike">
                <a:solidFill>
                  <a:srgbClr val="000000"/>
                </a:solidFill>
                <a:latin typeface="Arial"/>
              </a:rPr>
              <a:t> -  The chief of the archangels, Michael leads the angelic forces against Satan and his followers in the battle in Heaven, before the Son provides the decisive advantage. Michael also stands guard at the Gate of Heaven, and narrates the future of the world to Adam in Books XI and X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Gustave Dore’s Paradise Lost</a:t>
            </a:r>
            <a:endParaRPr b="0" lang="en-US" sz="4200" spc="-1" strike="noStrike">
              <a:solidFill>
                <a:srgbClr val="330033"/>
              </a:solidFill>
              <a:latin typeface="Times New Roman"/>
            </a:endParaRPr>
          </a:p>
        </p:txBody>
      </p:sp>
      <p:pic>
        <p:nvPicPr>
          <p:cNvPr id="158" name="Picture 3" descr="angelhorde"/>
          <p:cNvPicPr/>
          <p:nvPr/>
        </p:nvPicPr>
        <p:blipFill>
          <a:blip r:embed="rId1"/>
          <a:stretch/>
        </p:blipFill>
        <p:spPr>
          <a:xfrm>
            <a:off x="468360" y="1844640"/>
            <a:ext cx="3841560" cy="4753080"/>
          </a:xfrm>
          <a:prstGeom prst="rect">
            <a:avLst/>
          </a:prstGeom>
          <a:ln w="0">
            <a:noFill/>
          </a:ln>
        </p:spPr>
      </p:pic>
      <p:pic>
        <p:nvPicPr>
          <p:cNvPr id="159" name="Picture 4" descr="angelsword"/>
          <p:cNvPicPr/>
          <p:nvPr/>
        </p:nvPicPr>
        <p:blipFill>
          <a:blip r:embed="rId2"/>
          <a:stretch/>
        </p:blipFill>
        <p:spPr>
          <a:xfrm>
            <a:off x="4859280" y="1916280"/>
            <a:ext cx="3765600" cy="46814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Gustave Dore’s Paradise Lost</a:t>
            </a:r>
            <a:endParaRPr b="0" lang="en-US" sz="4200" spc="-1" strike="noStrike">
              <a:solidFill>
                <a:srgbClr val="330033"/>
              </a:solidFill>
              <a:latin typeface="Times New Roman"/>
            </a:endParaRPr>
          </a:p>
        </p:txBody>
      </p:sp>
      <p:pic>
        <p:nvPicPr>
          <p:cNvPr id="161" name="Picture 3" descr="strickenangel"/>
          <p:cNvPicPr/>
          <p:nvPr/>
        </p:nvPicPr>
        <p:blipFill>
          <a:blip r:embed="rId1"/>
          <a:stretch/>
        </p:blipFill>
        <p:spPr>
          <a:xfrm>
            <a:off x="900000" y="2205000"/>
            <a:ext cx="3541680" cy="4392720"/>
          </a:xfrm>
          <a:prstGeom prst="rect">
            <a:avLst/>
          </a:prstGeom>
          <a:ln w="0">
            <a:noFill/>
          </a:ln>
        </p:spPr>
      </p:pic>
      <p:pic>
        <p:nvPicPr>
          <p:cNvPr id="162" name="Picture 4" descr="adameve"/>
          <p:cNvPicPr/>
          <p:nvPr/>
        </p:nvPicPr>
        <p:blipFill>
          <a:blip r:embed="rId2"/>
          <a:stretch/>
        </p:blipFill>
        <p:spPr>
          <a:xfrm>
            <a:off x="5049720" y="2133720"/>
            <a:ext cx="3549600" cy="4392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William Blake’s Paradise Lost</a:t>
            </a:r>
            <a:endParaRPr b="0" lang="en-US" sz="4200" spc="-1" strike="noStrike">
              <a:solidFill>
                <a:srgbClr val="330033"/>
              </a:solidFill>
              <a:latin typeface="Times New Roman"/>
            </a:endParaRPr>
          </a:p>
        </p:txBody>
      </p:sp>
      <p:pic>
        <p:nvPicPr>
          <p:cNvPr id="164" name="Picture 3" descr="PL09small"/>
          <p:cNvPicPr/>
          <p:nvPr/>
        </p:nvPicPr>
        <p:blipFill>
          <a:blip r:embed="rId1"/>
          <a:stretch/>
        </p:blipFill>
        <p:spPr>
          <a:xfrm>
            <a:off x="1476360" y="1773360"/>
            <a:ext cx="2968560" cy="4392360"/>
          </a:xfrm>
          <a:prstGeom prst="rect">
            <a:avLst/>
          </a:prstGeom>
          <a:ln w="0">
            <a:noFill/>
          </a:ln>
        </p:spPr>
      </p:pic>
      <p:pic>
        <p:nvPicPr>
          <p:cNvPr id="165" name="Picture 4" descr="PL08small"/>
          <p:cNvPicPr/>
          <p:nvPr/>
        </p:nvPicPr>
        <p:blipFill>
          <a:blip r:embed="rId2"/>
          <a:stretch/>
        </p:blipFill>
        <p:spPr>
          <a:xfrm>
            <a:off x="5292720" y="1773360"/>
            <a:ext cx="2936880" cy="424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William Blake’s Paradise Lost</a:t>
            </a:r>
            <a:endParaRPr b="0" lang="en-US" sz="4200" spc="-1" strike="noStrike">
              <a:solidFill>
                <a:srgbClr val="330033"/>
              </a:solidFill>
              <a:latin typeface="Times New Roman"/>
            </a:endParaRPr>
          </a:p>
        </p:txBody>
      </p:sp>
      <p:pic>
        <p:nvPicPr>
          <p:cNvPr id="167" name="Picture 3" descr="PL06small"/>
          <p:cNvPicPr/>
          <p:nvPr/>
        </p:nvPicPr>
        <p:blipFill>
          <a:blip r:embed="rId1"/>
          <a:stretch/>
        </p:blipFill>
        <p:spPr>
          <a:xfrm>
            <a:off x="1403280" y="1844640"/>
            <a:ext cx="2859120" cy="4248360"/>
          </a:xfrm>
          <a:prstGeom prst="rect">
            <a:avLst/>
          </a:prstGeom>
          <a:ln w="0">
            <a:noFill/>
          </a:ln>
        </p:spPr>
      </p:pic>
      <p:pic>
        <p:nvPicPr>
          <p:cNvPr id="168" name="Picture 4" descr="PL04asmall"/>
          <p:cNvPicPr/>
          <p:nvPr/>
        </p:nvPicPr>
        <p:blipFill>
          <a:blip r:embed="rId2"/>
          <a:stretch/>
        </p:blipFill>
        <p:spPr>
          <a:xfrm>
            <a:off x="5219640" y="1844640"/>
            <a:ext cx="3017880" cy="4464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Famous Quotes</a:t>
            </a:r>
            <a:endParaRPr b="0" lang="en-US" sz="4200" spc="-1" strike="noStrike">
              <a:solidFill>
                <a:srgbClr val="330033"/>
              </a:solidFill>
              <a:latin typeface="Times New Roman"/>
            </a:endParaRPr>
          </a:p>
        </p:txBody>
      </p:sp>
      <p:sp>
        <p:nvSpPr>
          <p:cNvPr id="17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rewell happy fields,</a:t>
            </a:r>
            <a:br>
              <a:rPr sz="2800"/>
            </a:br>
            <a:r>
              <a:rPr b="0" lang="en-GB" sz="2800" spc="-1" strike="noStrike">
                <a:solidFill>
                  <a:srgbClr val="000000"/>
                </a:solidFill>
                <a:latin typeface="Arial"/>
              </a:rPr>
              <a:t>Where joy forever dwells: hail, horrors!          </a:t>
            </a:r>
            <a:r>
              <a:rPr b="0" i="1" lang="en-GB" sz="2800" spc="-1" strike="noStrike">
                <a:solidFill>
                  <a:srgbClr val="000000"/>
                </a:solidFill>
                <a:latin typeface="Arial"/>
              </a:rPr>
              <a:t>Paradise Lost. Book i. Line 249.</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 mind not to be chang’d by place or time.</a:t>
            </a:r>
            <a:br>
              <a:rPr sz="2800"/>
            </a:br>
            <a:r>
              <a:rPr b="0" i="1" lang="en-GB" sz="2800" spc="-1" strike="noStrike">
                <a:solidFill>
                  <a:srgbClr val="000000"/>
                </a:solidFill>
                <a:latin typeface="Arial"/>
              </a:rPr>
              <a:t>The mind is its own place, and in itself</a:t>
            </a:r>
            <a:br>
              <a:rPr sz="2800"/>
            </a:br>
            <a:r>
              <a:rPr b="0" i="1" lang="en-GB" sz="2800" spc="-1" strike="noStrike">
                <a:solidFill>
                  <a:srgbClr val="000000"/>
                </a:solidFill>
                <a:latin typeface="Arial"/>
              </a:rPr>
              <a:t>Can make a heaven of hell, a hell of heaven.           Paradise Lost. Book i. Line 253</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5240" y="306360"/>
            <a:ext cx="7515360" cy="98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Famous Quotes</a:t>
            </a:r>
            <a:endParaRPr b="0" lang="en-US" sz="4200" spc="-1" strike="noStrike">
              <a:solidFill>
                <a:srgbClr val="330033"/>
              </a:solidFill>
              <a:latin typeface="Times New Roman"/>
            </a:endParaRPr>
          </a:p>
        </p:txBody>
      </p:sp>
      <p:sp>
        <p:nvSpPr>
          <p:cNvPr id="17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re we may reign secure; and in my choice</a:t>
            </a:r>
            <a:br>
              <a:rPr sz="2800"/>
            </a:br>
            <a:r>
              <a:rPr b="0" lang="en-GB" sz="2800" spc="-1" strike="noStrike">
                <a:solidFill>
                  <a:srgbClr val="000000"/>
                </a:solidFill>
                <a:latin typeface="Arial"/>
              </a:rPr>
              <a:t>To reign is worth ambition, though in hell:</a:t>
            </a:r>
            <a:br>
              <a:rPr sz="2800"/>
            </a:br>
            <a:r>
              <a:rPr b="0" lang="en-GB" sz="2800" spc="-1" strike="noStrike">
                <a:solidFill>
                  <a:srgbClr val="000000"/>
                </a:solidFill>
                <a:latin typeface="Arial"/>
              </a:rPr>
              <a:t>Better to reign in hell than serve in heaven.          </a:t>
            </a:r>
            <a:r>
              <a:rPr b="0" i="1" lang="en-GB" sz="2800" spc="-1" strike="noStrike">
                <a:solidFill>
                  <a:srgbClr val="000000"/>
                </a:solidFill>
                <a:latin typeface="Arial"/>
              </a:rPr>
              <a:t>Paradise Lost. Book i. Line 261</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aradise Lost in Context</a:t>
            </a:r>
            <a:endParaRPr b="0" lang="en-US" sz="4200" spc="-1" strike="noStrike">
              <a:solidFill>
                <a:srgbClr val="330033"/>
              </a:solidFill>
              <a:latin typeface="Times New Roman"/>
            </a:endParaRPr>
          </a:p>
        </p:txBody>
      </p:sp>
      <p:sp>
        <p:nvSpPr>
          <p:cNvPr id="17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lton's great epic (1667) has three main sourc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 Genesis and the Jewish and Christian commentary, Saint Augustine and John Calvi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 Greek and Latin Myths: Ovid's </a:t>
            </a:r>
            <a:r>
              <a:rPr b="0" i="1" lang="en-GB" sz="2800" spc="-1" strike="noStrike">
                <a:solidFill>
                  <a:srgbClr val="000000"/>
                </a:solidFill>
                <a:latin typeface="Arial"/>
              </a:rPr>
              <a:t>Metamorpho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 The Epic tradition itself: Homer's </a:t>
            </a:r>
            <a:r>
              <a:rPr b="0" i="1" lang="en-GB" sz="2800" spc="-1" strike="noStrike">
                <a:solidFill>
                  <a:srgbClr val="000000"/>
                </a:solidFill>
                <a:latin typeface="Arial"/>
              </a:rPr>
              <a:t>Iliad</a:t>
            </a:r>
            <a:r>
              <a:rPr b="0" lang="en-GB" sz="2800" spc="-1" strike="noStrike">
                <a:solidFill>
                  <a:srgbClr val="000000"/>
                </a:solidFill>
                <a:latin typeface="Arial"/>
              </a:rPr>
              <a:t> and </a:t>
            </a:r>
            <a:r>
              <a:rPr b="0" i="1" lang="en-GB" sz="2800" spc="-1" strike="noStrike">
                <a:solidFill>
                  <a:srgbClr val="000000"/>
                </a:solidFill>
                <a:latin typeface="Arial"/>
              </a:rPr>
              <a:t>Odyssey</a:t>
            </a:r>
            <a:r>
              <a:rPr b="0" lang="en-GB" sz="2800" spc="-1" strike="noStrike">
                <a:solidFill>
                  <a:srgbClr val="000000"/>
                </a:solidFill>
                <a:latin typeface="Arial"/>
              </a:rPr>
              <a:t>, Virgil's </a:t>
            </a:r>
            <a:r>
              <a:rPr b="0" i="1" lang="en-GB" sz="2800" spc="-1" strike="noStrike">
                <a:solidFill>
                  <a:srgbClr val="000000"/>
                </a:solidFill>
                <a:latin typeface="Arial"/>
              </a:rPr>
              <a:t>Aeneid</a:t>
            </a:r>
            <a:r>
              <a:rPr b="0" lang="en-GB" sz="2800" spc="-1" strike="noStrike">
                <a:solidFill>
                  <a:srgbClr val="000000"/>
                </a:solidFill>
                <a:latin typeface="Arial"/>
              </a:rPr>
              <a:t>, and Torquato Tasso's </a:t>
            </a:r>
            <a:r>
              <a:rPr b="0" i="1" lang="en-GB" sz="2800" spc="-1" strike="noStrike">
                <a:solidFill>
                  <a:srgbClr val="000000"/>
                </a:solidFill>
                <a:latin typeface="Arial"/>
              </a:rPr>
              <a:t>Jerusalem Delive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The Stuarts</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tionalism completed the break with the Middle Ages and broke the yoke of authority; among its many results was the turning of thought towards new fields of psychological investigation.</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cientific Spirit, to a large degree a by-product of rationalism, evoked a new interest in the study of human experience and the gathering of experimental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aradise Lost: Plot Overview</a:t>
            </a:r>
            <a:endParaRPr b="0" lang="en-US" sz="4200" spc="-1" strike="noStrike">
              <a:solidFill>
                <a:srgbClr val="330033"/>
              </a:solidFill>
              <a:latin typeface="Times New Roman"/>
            </a:endParaRPr>
          </a:p>
        </p:txBody>
      </p:sp>
      <p:sp>
        <p:nvSpPr>
          <p:cNvPr id="17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peaker in Paradise Lost starts by invoking his muse. The muse will inspire him to sing about Adam and Eve Disobedience and fall from heavenly gra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ction begins with Satan and his fellow rebel angels who are found chained to a lake of fire in Hell.</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free themselves and fly to land, where they discover minerals and construct Pandemonium, their meeting plac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ide Pandemonium, the rebel angels, who are now devils, debate whether they should begin another war with Go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eelzebub suggests that they attempt to corrupt God’s beloved new creation, humankind. Satan agrees, and volunteers to go himself </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Satan prepares to leave Hell, he meets his children: Sin and Death and build a bridge between hell and Ear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Heaven, God meets his angels in council and explains what Satan is trying to do. Jesus Volunteers to sacrifice for humankind. Meanwhile, Satan travels through night and chaos and finds Earth</a:t>
            </a:r>
            <a:r>
              <a:rPr b="0" lang="es-CL"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8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tan disguises himself as a cherub to get past the Archangel Uriel. He deceives Uriel by telling him that he wants to praise God’s glorious cre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tan then lands on Earth and takes a moment to reflect. Seeing the splendour of happiness brings him pain rather than pleasure and reaffirms his decision to destroy mankin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8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tan leaps over Paradise’s wall, takes the form of a cormorant (a large bird), and perches himself atop the Tree of Lif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Meanwhile, Adam and Eve tend the Garden, carefully obeying God’s supreme order not to eat from the Tree of Knowledge. After a long day of work, they return to their bower and rest.</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8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Satan takes the form of a toad and whispers into Eve’s ear. Gabriel, prepares himself for war against Satan but God makes Satan leave.</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e awakes and tells Adam about a dream she had, in which an angel tempted her to eat from the forbidden tree. Worried about his creation, God sends Raphael down to Earth to teach Adam and Eve of the dangers they face with Satan.</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phael arrives on Earth and eats a meal with Adam and Eve. Raphael relates Adam the story of Satan’s envy over the Son’s appointment as God’s second-in-command.</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atan gathered other angels together who were also angry to hear this news, and together they plotted a war against God. The angels then begin to fight, with Michael and Gabriel serving as co-leaders for Heaven’s army.</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9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phael tells Adam about Satan’s evil motives to corrupt them, and warns Adam to watch out for Satan.</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ight days after his banishment, Satan returns to Paradise. He chooses to take the form of the serpent</a:t>
            </a:r>
            <a:r>
              <a:rPr b="0" lang="es-ES" sz="2800" spc="-1" strike="noStrike">
                <a:solidFill>
                  <a:srgbClr val="000000"/>
                </a:solidFill>
                <a:latin typeface="Arial"/>
              </a:rPr>
              <a:t>. </a:t>
            </a:r>
            <a:r>
              <a:rPr b="0" lang="en-GB" sz="2800" spc="-1" strike="noStrike">
                <a:solidFill>
                  <a:srgbClr val="000000"/>
                </a:solidFill>
                <a:latin typeface="Arial"/>
              </a:rPr>
              <a:t>He searches for Eve and is delighted to find her alone. He speaks to Eve and she is amazed to find an animal that can speak. Satan tells her he learnt to speak after eating from the tree of Knowledge and Eve decides to try</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Plot Overview</a:t>
            </a:r>
            <a:endParaRPr b="0" lang="en-US" sz="4200" spc="-1" strike="noStrike">
              <a:solidFill>
                <a:srgbClr val="330033"/>
              </a:solidFill>
              <a:latin typeface="Times New Roman"/>
            </a:endParaRPr>
          </a:p>
        </p:txBody>
      </p:sp>
      <p:sp>
        <p:nvSpPr>
          <p:cNvPr id="19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Eve finds Adam, he is horrified to find that Eve has eaten from the forbidden tree. Knowing that she has fallen, he decides that he would rather be fallen with her than remain pure and lose her. So he eats from the fruit as well. Adam looks at Eve in a new way, and together they turn to lu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d realises that Adam and Eve have fallen and sends Michael to tell Adam and Eve they must leave Paradi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The Stuarts</a:t>
            </a: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literature the century began with the plays of Shakespeare and his great contemporaries and successors, the philosophic ventures of Francis Bacon, and the great Bible of 161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llowing these come the incomparable poetry of John Milton and the prose of Burton, Browne, Walton and Taylor.</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James I</a:t>
            </a: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mes I was born in 1566 to Mary Queen of Scot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mes I had little of his predecessor's talent for holding the kingdom together. He was a bigot, and ill fitted to exemplify “the divine right of kings” which he revived from the Middle Ages.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 was determined to make the Church of England subservient to his will.</a:t>
            </a:r>
            <a:r>
              <a:rPr b="0" lang="es-CL" sz="2400" spc="-1" strike="noStrike">
                <a:solidFill>
                  <a:srgbClr val="000000"/>
                </a:solidFill>
                <a:latin typeface="Arial"/>
              </a:rPr>
              <a:t> </a:t>
            </a:r>
            <a:endParaRPr b="0" lang="en-US" sz="2400" spc="-1" strike="noStrike">
              <a:solidFill>
                <a:srgbClr val="000000"/>
              </a:solidFill>
              <a:latin typeface="Arial"/>
            </a:endParaRPr>
          </a:p>
        </p:txBody>
      </p:sp>
      <p:pic>
        <p:nvPicPr>
          <p:cNvPr id="114" name="Picture 4" descr="James I"/>
          <p:cNvPicPr/>
          <p:nvPr/>
        </p:nvPicPr>
        <p:blipFill>
          <a:blip r:embed="rId1"/>
          <a:stretch/>
        </p:blipFill>
        <p:spPr>
          <a:xfrm>
            <a:off x="6012000" y="260280"/>
            <a:ext cx="1081080" cy="120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James I</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persecuted Puritans and Catholics with ferocity. It was because of his policies that the first American colonists preferred the unknown terrors of the New World to their familiar homes of England.</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was extravagant and wasteful and to raise money sold peerages and monopolies in trade to the highest bid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4" descr="James I"/>
          <p:cNvPicPr/>
          <p:nvPr/>
        </p:nvPicPr>
        <p:blipFill>
          <a:blip r:embed="rId1"/>
          <a:stretch/>
        </p:blipFill>
        <p:spPr>
          <a:xfrm>
            <a:off x="6300720" y="260280"/>
            <a:ext cx="1079640" cy="120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James I</a:t>
            </a: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nglish Public soon grew to resent his despotism and the Puritan philosophy gained its hold on Englishmen.</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uritans believed their destiny to be exclusively in the hands of God; as Stuart unreasonableness increased, the average Englishman began to make up his mind that even a King, if he stands between a man and God, must be removed. This is how the concept of a democracy first became effective in Western Europe. </a:t>
            </a:r>
            <a:endParaRPr b="0" lang="en-US" sz="2400" spc="-1" strike="noStrike">
              <a:solidFill>
                <a:srgbClr val="000000"/>
              </a:solidFill>
              <a:latin typeface="Arial"/>
            </a:endParaRPr>
          </a:p>
        </p:txBody>
      </p:sp>
      <p:pic>
        <p:nvPicPr>
          <p:cNvPr id="120" name="Picture 4" descr="James I"/>
          <p:cNvPicPr/>
          <p:nvPr/>
        </p:nvPicPr>
        <p:blipFill>
          <a:blip r:embed="rId1"/>
          <a:stretch/>
        </p:blipFill>
        <p:spPr>
          <a:xfrm>
            <a:off x="6012000" y="260280"/>
            <a:ext cx="1008000" cy="120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les I</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rles I, James's son, succeeded to the throne in 1625. He proved a thoroughly unreliable and treacherous monarch. He suddenly found himself faced with the opposition of a large section of the people.</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1629 Charles, in anger, dissolved the Parliament  and ruled without it for 11 years. He tried to establish the absolute system of control.</a:t>
            </a:r>
            <a:endParaRPr b="0" lang="en-US" sz="2800" spc="-1" strike="noStrike">
              <a:solidFill>
                <a:srgbClr val="000000"/>
              </a:solidFill>
              <a:latin typeface="Arial"/>
            </a:endParaRPr>
          </a:p>
        </p:txBody>
      </p:sp>
      <p:pic>
        <p:nvPicPr>
          <p:cNvPr id="123" name="Picture 4" descr="Charles I"/>
          <p:cNvPicPr/>
          <p:nvPr/>
        </p:nvPicPr>
        <p:blipFill>
          <a:blip r:embed="rId1"/>
          <a:stretch/>
        </p:blipFill>
        <p:spPr>
          <a:xfrm>
            <a:off x="6156360" y="404640"/>
            <a:ext cx="1285920" cy="105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330033"/>
                </a:solidFill>
                <a:latin typeface="Times New Roman"/>
              </a:rPr>
              <a:t>Charles I</a:t>
            </a:r>
            <a:endParaRPr b="0" lang="en-US" sz="42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lines were already drawn between the Cavaliers (his adherents) and the Roundheads (the Puritans).</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1639 Charles found himself involved in a war with the Scotch Presbyterians and was forced to reconvene the Parliament, and when it refused to grant his demands for money, dismissed it again. </a:t>
            </a:r>
            <a:endParaRPr b="0" lang="en-US" sz="2800" spc="-1" strike="noStrike">
              <a:solidFill>
                <a:srgbClr val="000000"/>
              </a:solidFill>
              <a:latin typeface="Arial"/>
            </a:endParaRPr>
          </a:p>
        </p:txBody>
      </p:sp>
      <p:pic>
        <p:nvPicPr>
          <p:cNvPr id="126" name="Picture 4" descr="Charles I"/>
          <p:cNvPicPr/>
          <p:nvPr/>
        </p:nvPicPr>
        <p:blipFill>
          <a:blip r:embed="rId1"/>
          <a:stretch/>
        </p:blipFill>
        <p:spPr>
          <a:xfrm>
            <a:off x="6012000" y="333360"/>
            <a:ext cx="1285560" cy="10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3T20:48:38Z</dcterms:created>
  <dc:creator>Erika</dc:creator>
  <dc:description/>
  <dc:language>en-US</dc:language>
  <cp:lastModifiedBy>edlbarra</cp:lastModifiedBy>
  <dcterms:modified xsi:type="dcterms:W3CDTF">2009-07-29T13:05:54Z</dcterms:modified>
  <cp:revision>34</cp:revision>
  <dc:subject/>
  <dc:title>The Seventeenth Century</dc:title>
</cp:coreProperties>
</file>