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DCFA-B30D-4235-9A18-51833E93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70D1-BDFC-438C-A9AE-E4AEED5A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132D-3B42-4052-8C2E-2227B8A6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A6D4-7F54-4746-9A54-787FEB255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1431-78CA-4A59-9AED-FFCB1D5C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1781-8148-4B4C-BF33-1315C7CF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A39E-FBF6-4B3C-9993-F79E47B2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190E-ECA1-448A-9061-01E6CDE8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CCF1-24FE-4F84-9AE2-114DE64B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7871-A674-4068-9675-C769D822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24CA-C01D-4633-8690-D0F5F24B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D6AB-0BA5-4D1A-8366-3AAF369C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4666-8301-441E-9F19-A8BD67CE3A8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osadas renunció y el cargo fue asumido por Alvear (9 de enero de 1815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- Amistad con J. M. Carrer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- Ordena destitución de S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Martín (Gob. de Mendoza)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Resistencia popula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ublevación de Ignaci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Álvarez Thomas (vínculos d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éste con Encalada –suegro 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an Martín- y grupos 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omerciantes y hacendados q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no estaban conformes con Alvear 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u forma de gobernar, especialmen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conducción de campaña contra Artig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3 Imagen" descr="alvear.jpg"/>
          <p:cNvPicPr/>
          <p:nvPr/>
        </p:nvPicPr>
        <p:blipFill>
          <a:blip r:embed="rId1"/>
          <a:stretch/>
        </p:blipFill>
        <p:spPr>
          <a:xfrm>
            <a:off x="5643720" y="1428840"/>
            <a:ext cx="3357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Álvarez Thomas se levanta 10 abril 1815. Alvear parte al exilio en Río de Janeiro. La Asamblea se disuelv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José Rondeau asume como Director y Álvarez Thomas queda como suplente (electos por cabildo de Buenos Aires, a través de representantes elegidos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Cabildo crea Junta de Observación que ejerce poder legislativo, la que dicta (mayo 1815) un Estatuto Provisional, el que ordenó que se reuniese congreso constituyente en Tucumá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Rondeau prefirió quedar como jefe del ejército del nort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Derrota de Viluma (noviembre 1815), complica panorama pues ella se suma a sublevaciones originadas por levantamiento de Rondeau y Alvear a principios de año, especialmente en Santa Fe (influencia de Artiga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cc"/>
                </a:solidFill>
                <a:latin typeface="Calibri"/>
              </a:rPr>
              <a:t>24 de marzo 1816 se instala Congreso de Tucumá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Tribunales y corporaciones deciden que Álvarez Thomas debe renunciar. 15 de abril de 1816 se nombra como Director Provisorio a Antonio González Balcar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ongreso de Tucumá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abrir sesiones establecen su condición de “agentes”, pues estipularon ser diputados de los pueblos,  por lo que dependían de las ciudades que los habían elegido, y que éstas podían relevarl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 mayo hacen designación de Supremo Director titular: Juan Martín de Pueyrred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6 de julio. Se discute propuesta de Manuel Belgrano, que venía llegando desde Europa, quien proponía establecer monarquía constitucion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9 de julio. Declaración de independenc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lega a Buenos Aires noticia de disolución de Junta Centr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inicia discusión respecto de la autoridad del virrey Hidalgo de Cisneros; Cabildo abierto del 22 de mayo se establece que virrey ha cesado en su cargo; se decide formación de Junta de Gobierno presidida por Hidalgo (Junta del 24); se genera agitación popular y se genera situación que lleva a disolución de junta del 24 de may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bildo abierto de 25 de mayo. Designación de nueva Junta, presidida por Cornelio Saavedr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sistencia a la autoridad de la Junta en Córdoba, Alto Perú, Paraguay y Montevide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nfrentamiento entre “saavedristas” y “morenistas”; Decreto de supresión de honores. Incorporación de los diputados del Interior a la Junta (Junta Grande) lo que posterga indefinidamente el “Congreso de los Pueblos” anunciado en acta del 25 de mayo. Renuncia de Mariano Moreno, Secretario de Gobierno y Guerra de la Junt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18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ovimiento popular repone plenitud de poderes en Saavedra. Se excluye a los morenistas que quedaban en la Junta Grand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rito de Asencio en la Banda Oriental. Aparición José Gervasio de Artig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rrota militar de Huaqu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rancisco Javier de Elío decreta bloqueo de Buenos Air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risis de la Junta Grande que se ve obligada a ceder parte del poder creando el Triunvirato Ejecutiv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ictación del Reglamento Orgánic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cretos de Seguridad Individual y de Libertad de Imprent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isolución de la Junta por el Triunvira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otín de las trenzas”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riunvirato dicta Estatuto Provisional de Gobiern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e suprime la Real Audiencia y en su lugar se crea una Cámara de Apelacio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18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Victoria de Belgrano en Tucumá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ovimiento cívico-militar del 8 de octubre: caída del Primer Triunvira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sume el Segundo Triunvira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creto de Convocatoria a la Asamblea General Constituyen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18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stalación de la Asamblea General Constituyente, la que se declara depositaria del ejercicio de la soberanía de las Provincias Unid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uptura con Artig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statuto del Poder Ejecutiv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rrotas de Vilcapugio y Ayohuma en el Alto Per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18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reación del Poder Ejecutivo Unipersonal (Directorio): Gervasio Antonio de Posad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inician gestiones diplomáticas en Europa: Sarratea, Belgrano y Rivadavia planean la coronación del príncipe Francisco de Paula en el Río de la Plata (conversaciones con Carlos IV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uerra civil en el litoral (directoriales contra artiguista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nuncia de Posadas. Se profundiza la crisis política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18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 electo Carlos María de Alvear (Director Supremo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rece opción artiguista: Santa Fe se autonomiz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ída de Alvear y fin de la Asamble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bildo de Bs. As. asume el gobierno provisoriamente; sanciona reglamento electoral: se elige a José Rondeau como Director provisorio y ante su ausencia de Buenos Aires es designado Ignacio Álvarez Thom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ormación de la Junta de Observación, que elabora un nuevo Estatuto Provisional de Gobiern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nvocatoria a nuevo Congreso en la ciudad de Tucumá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rrota de Sipe Sipe: pérdida definitiva del Alto Perú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instala el Congreso en Tucumá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Nombramiento de Juan Martín de Pueyrredón como Supremo Dir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Belgrano propone, en Congreso, restauración de la Casa del Inc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claración de Independencia (9 de julio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ortugueses invaden la Banda Oriental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an Martín cruza los An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greso se traslada a Buenos Ai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dicta Reglamento Provisional de 1817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 expande la guerra civil en el Litor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mienza a debatirse el texto de la Constitución definitiva. 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18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stitución 181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samblea General Constituye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glamento electoral, fijado por el gobierno por no existir constitución: Elección indirecta de diputados; prohibición de que diputados reciban o invoquen prescripciones que limiten su mandato. Lo mismo respecto de instrucci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instala 31 de diciembre de 181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3 Marcador de contenido" descr="asamblea del año xiii 1.jpg"/>
          <p:cNvPicPr/>
          <p:nvPr/>
        </p:nvPicPr>
        <p:blipFill>
          <a:blip r:embed="rId1"/>
          <a:stretch/>
        </p:blipFill>
        <p:spPr>
          <a:xfrm>
            <a:off x="1143000" y="357120"/>
            <a:ext cx="682308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Banda Oriental. El propio Artigas reúne a 10 personas y las nombra electores, a los que hizo elegir cinco diputados y les da instruccione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Pedir declaración de independencia absolut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No admitir otro sistema que el de confederació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Promover libertad civil y religiosa “en toda su extensión imaginable”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Cada provincia con su gobiern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División ejercicio del pode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Gobierno central: solo atenderá negocios general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Provincia (banda oriental) retiene soberanía, libertad e independenci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Gobierno central debe residir fuera de Buenos Air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Asamblea, al momento de calificar los poderes, rechazó los de los diputados de la Banda Oriental y el gobierno ordenó al Gral. Rondeau que organizase nueva elecció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Artigas, en respuesta, convocó a los electores para que ante su persona inaugurasen una asamblea provincial, con la que entró en conflicto. Entonces, la jun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Se tituló a sí misma como Gobernador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Eligió tres diputados para que se incorporasen a la Asamblea Constituye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rtigas, en respuesta, se sublevó militarmen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samble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clara que en ella residía toda la soberanía nacion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n consecuencia, no puede usarse más el nombre de Fernando VI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lega poder ejecutivo en Rodríguez Peña, José Pérez y Álvarez Jon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creta la libertad de vientr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Ordena levantar un cens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tablece escuela de medicin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roga la mi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roga existencia de encomiend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ibre exportación de granos y cerea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ibertad de extranjeros para residir, tener propiedades y ejercer el comerci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reación de escuela milit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dependencia del Estado respecto de autoridad eclesiástica residente en el extranjer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raspaso al Estado de todas las rentas eclesiástic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uprime Semina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rea escudo nac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3 Marcador de contenido" descr="escudo-nacional.jpg"/>
          <p:cNvPicPr/>
          <p:nvPr/>
        </p:nvPicPr>
        <p:blipFill>
          <a:blip r:embed="rId1"/>
          <a:stretch/>
        </p:blipFill>
        <p:spPr>
          <a:xfrm>
            <a:off x="2214720" y="297000"/>
            <a:ext cx="4143240" cy="62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3 Marcador de contenido" descr="1.jpg"/>
          <p:cNvPicPr/>
          <p:nvPr/>
        </p:nvPicPr>
        <p:blipFill>
          <a:blip r:embed="rId1"/>
          <a:stretch/>
        </p:blipFill>
        <p:spPr>
          <a:xfrm>
            <a:off x="415800" y="214200"/>
            <a:ext cx="8460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Como consecuencia de la derrota en Ayouma (14 noviembre 1813), Asamblea, presidida por Carlos María de Alvear, decide concentrar el ejercicio del poder ejecutivo. Surge figura del Supremo Director, designándose a Gervasio Antonio de Posada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Artigas, mientras tanto, seguía en su lucha contra Buenos Aires, lo que complicaba más el panorama, especialmente en 1814 después del triunfo realista en Chile y los anuncios de la preparación de la expedición española al mando de Pablo Morill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3:29:08Z</dcterms:created>
  <dc:creator>C. Guerrero</dc:creator>
  <dc:description/>
  <dc:language>en-US</dc:language>
  <cp:lastModifiedBy>C. Guerrero</cp:lastModifiedBy>
  <dcterms:modified xsi:type="dcterms:W3CDTF">2009-10-22T19:52:32Z</dcterms:modified>
  <cp:revision>20</cp:revision>
  <dc:subject/>
  <dc:title>Diapositiva 1</dc:title>
</cp:coreProperties>
</file>