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444EC-B6C3-4D6A-9858-E1FC5337A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2EFB4-ED40-4C92-9E50-C1ADCE13C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FBA0A-19FD-4A15-AE72-271599914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1BCE2-45D9-4681-BAE8-876BE1B0B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7810-815D-4B5F-955D-FEA4354C0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0CEF4-04C7-4480-A00D-8251F0506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2DCB0-33F3-4B8C-B19B-9713976E2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8E3BA-4700-4463-A24F-02F200B1A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37AB4-22F7-4F88-B2F2-AD0EC0712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10B68-B657-4E87-A221-69470969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90A71-EFA4-4B1E-8129-433D6DB30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ECDB5-CD74-4BFC-86AE-64BD9A93A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B258-BDC8-4EC4-9A55-B3B2F4BDB16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ulo III</a:t>
            </a:r>
            <a:endParaRPr b="0" lang="en-US" sz="4400" spc="-1" strike="noStrike">
              <a:solidFill>
                <a:srgbClr val="000000"/>
              </a:solidFill>
              <a:latin typeface="Arial"/>
            </a:endParaRPr>
          </a:p>
        </p:txBody>
      </p:sp>
      <p:sp>
        <p:nvSpPr>
          <p:cNvPr id="42" name="PlaceHolder 2"/>
          <p:cNvSpPr>
            <a:spLocks noGrp="1"/>
          </p:cNvSpPr>
          <p:nvPr>
            <p:ph/>
          </p:nvPr>
        </p:nvSpPr>
        <p:spPr>
          <a:xfrm>
            <a:off x="179280" y="1484280"/>
            <a:ext cx="8686800" cy="5616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Etapas y actores de la conquista </a:t>
            </a:r>
            <a:br>
              <a:rPr sz="2400"/>
            </a:br>
            <a:r>
              <a:rPr b="1" lang="es-ES" sz="2400" spc="-1" strike="noStrike">
                <a:solidFill>
                  <a:srgbClr val="000000"/>
                </a:solidFill>
                <a:latin typeface="Arial"/>
              </a:rPr>
              <a:t>de Améric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periodificación para la conquis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uzinski y Bernand, </a:t>
            </a:r>
            <a:r>
              <a:rPr b="0" i="1" lang="es-CL" sz="2400" spc="-1" strike="noStrike">
                <a:solidFill>
                  <a:srgbClr val="000000"/>
                </a:solidFill>
                <a:latin typeface="Arial"/>
              </a:rPr>
              <a:t>Historia </a:t>
            </a:r>
            <a:r>
              <a:rPr b="0" i="1" lang="es-ES" sz="2400" spc="-1" strike="noStrike">
                <a:solidFill>
                  <a:srgbClr val="000000"/>
                </a:solidFill>
                <a:latin typeface="Arial"/>
              </a:rPr>
              <a:t>del Nuevo Mundo</a:t>
            </a:r>
            <a:r>
              <a:rPr b="0" lang="es-ES" sz="2400" spc="-1" strike="noStrike">
                <a:solidFill>
                  <a:srgbClr val="000000"/>
                </a:solidFill>
                <a:latin typeface="Arial"/>
              </a:rPr>
              <a:t>:</a:t>
            </a:r>
            <a:r>
              <a:rPr b="0" i="1" lang="es-ES" sz="2400" spc="-1" strike="noStrike">
                <a:solidFill>
                  <a:srgbClr val="000000"/>
                </a:solidFill>
                <a:latin typeface="Arial"/>
              </a:rPr>
              <a:t> del descubrimiento a la conquista</a:t>
            </a:r>
            <a:r>
              <a:rPr b="0" lang="es-ES" sz="2400" spc="-1" strike="noStrike">
                <a:solidFill>
                  <a:srgbClr val="000000"/>
                </a:solidFill>
                <a:latin typeface="Arial"/>
              </a:rPr>
              <a:t>, </a:t>
            </a:r>
            <a:r>
              <a:rPr b="0" i="1" lang="es-ES" sz="2400" spc="-1" strike="noStrike">
                <a:solidFill>
                  <a:srgbClr val="000000"/>
                </a:solidFill>
                <a:latin typeface="Arial"/>
              </a:rPr>
              <a:t>1492-15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ranklin Pease </a:t>
            </a:r>
            <a:r>
              <a:rPr b="0" lang="es-ES" sz="2400" spc="-1" strike="noStrike">
                <a:solidFill>
                  <a:srgbClr val="000000"/>
                </a:solidFill>
                <a:latin typeface="Arial"/>
              </a:rPr>
              <a:t>(dir.) </a:t>
            </a:r>
            <a:r>
              <a:rPr b="0" i="1" lang="es-ES" sz="2400" spc="-1" strike="noStrike">
                <a:solidFill>
                  <a:srgbClr val="000000"/>
                </a:solidFill>
                <a:latin typeface="Arial"/>
              </a:rPr>
              <a:t>Historia General de América Latina</a:t>
            </a:r>
            <a:r>
              <a:rPr b="0" lang="es-ES" sz="2400" spc="-1" strike="noStrike">
                <a:solidFill>
                  <a:srgbClr val="000000"/>
                </a:solidFill>
                <a:latin typeface="Arial"/>
              </a:rPr>
              <a:t>, Volumen II, “El primer contacto y la formación de nuevas sociedades”,</a:t>
            </a:r>
            <a:r>
              <a:rPr b="0" lang="es-CL" sz="2400" spc="-1" strike="noStrike">
                <a:solidFill>
                  <a:srgbClr val="000000"/>
                </a:solidFill>
                <a:latin typeface="Arial"/>
              </a:rPr>
              <a:t> 1492-157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mes Lockhart: </a:t>
            </a:r>
            <a:r>
              <a:rPr b="0" lang="es-ES" sz="2400" spc="-1" strike="noStrike">
                <a:solidFill>
                  <a:srgbClr val="000000"/>
                </a:solidFill>
                <a:latin typeface="Arial"/>
              </a:rPr>
              <a:t>“La formación de la sociedad hispanoamericana”: no poner fech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oría postcolonial: heterogeneidad de los procesos de dominio, que se inician o se extienden, según los casos, incluso en el siglo XX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rdenes mendicantes en Nueva España</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anciscanos: 1523- 152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minicos: 15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gustinos: 153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249840"/>
            <a:ext cx="87850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Ansi mismo, porque el fruto más çierto y durable se esperava, como se vee, en los niños, y por quitar de rayz tan mala memoria, les tomamos todos los niños, hijos de caçiques y prinçipales por la mayor parte, quantos pudimos, para los criar é yndustriar en nuestros monasterios y con ellos no poco trabajamos, enseñandoles á leer y escrivir y cantar canto llano y de organo, y deçir las oras cantadas y ofiçiar las misas é ynponerlos en todas buenas costunbres christianas y religiosas; por manera, que no solamente estos an sido traydos al camino de nuestra verdad y christiandad, mas ya ellos mismos, fechos maestros é predicadores de sus padres y mayores, discurren por la tierra descubriendo y distruyendoles sus ydolos y apartando los de sus </a:t>
            </a:r>
            <a:r>
              <a:rPr b="1" lang="es-ES" sz="2400" spc="-1" strike="noStrike">
                <a:solidFill>
                  <a:srgbClr val="000000"/>
                </a:solidFill>
                <a:latin typeface="Book Antiqua"/>
              </a:rPr>
              <a:t>viçios</a:t>
            </a:r>
            <a:r>
              <a:rPr b="0" lang="es-ES" sz="2400" spc="-1" strike="noStrike">
                <a:solidFill>
                  <a:srgbClr val="000000"/>
                </a:solidFill>
                <a:latin typeface="Book Antiqua"/>
              </a:rPr>
              <a:t>, y á vezes su vida corre pelig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conquista del Perú (1524-1548)</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quista (1524-153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olidación del dominio (1535-154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6362" b="0"/>
          <a:stretch/>
        </p:blipFill>
        <p:spPr>
          <a:xfrm>
            <a:off x="250920" y="189000"/>
            <a:ext cx="3871800" cy="6480000"/>
          </a:xfrm>
          <a:prstGeom prst="rect">
            <a:avLst/>
          </a:prstGeom>
          <a:ln w="0">
            <a:noFill/>
          </a:ln>
        </p:spPr>
      </p:pic>
      <p:sp>
        <p:nvSpPr>
          <p:cNvPr id="66" name=""/>
          <p:cNvSpPr/>
          <p:nvPr/>
        </p:nvSpPr>
        <p:spPr>
          <a:xfrm>
            <a:off x="5219640" y="5013360"/>
            <a:ext cx="36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uente: James Lockhart y Stuart Schwartz, </a:t>
            </a:r>
            <a:r>
              <a:rPr b="0" i="1" lang="es-CL" sz="1800" spc="-1" strike="noStrike">
                <a:solidFill>
                  <a:srgbClr val="000000"/>
                </a:solidFill>
                <a:latin typeface="Book Antiqua"/>
              </a:rPr>
              <a:t>Early Latin America</a:t>
            </a:r>
            <a:r>
              <a:rPr b="0" lang="es-CL" sz="1800" spc="-1" strike="noStrike">
                <a:solidFill>
                  <a:srgbClr val="000000"/>
                </a:solidFill>
                <a:latin typeface="Book Antiqua"/>
              </a:rPr>
              <a:t>, Cambridge, Cambridge University Press,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92360" y="1197000"/>
            <a:ext cx="669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a:t>
            </a:r>
            <a:r>
              <a:rPr b="0" lang="es-MX" sz="2400" spc="-1" strike="noStrike">
                <a:solidFill>
                  <a:srgbClr val="000000"/>
                </a:solidFill>
                <a:latin typeface="Book Antiqua"/>
              </a:rPr>
              <a:t>Para continuar el descubrimiento y población del Perú, también llamada la Nueva Castilla por sus ciudades y castillos de piedra, con la promesa del cargo de Gobernador y capitán general”.</a:t>
            </a:r>
            <a:endParaRPr b="0" lang="en-US" sz="2400" spc="-1" strike="noStrike">
              <a:solidFill>
                <a:srgbClr val="000000"/>
              </a:solidFill>
              <a:latin typeface="Arial"/>
            </a:endParaRPr>
          </a:p>
        </p:txBody>
      </p:sp>
      <p:sp>
        <p:nvSpPr>
          <p:cNvPr id="68" name=""/>
          <p:cNvSpPr/>
          <p:nvPr/>
        </p:nvSpPr>
        <p:spPr>
          <a:xfrm>
            <a:off x="3348000" y="6308640"/>
            <a:ext cx="619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Book Antiqua"/>
              </a:rPr>
              <a:t>Fuente: Porras Barrenechea, </a:t>
            </a:r>
            <a:r>
              <a:rPr b="0" i="1" lang="es-MX" sz="1600" spc="-1" strike="noStrike">
                <a:solidFill>
                  <a:srgbClr val="000000"/>
                </a:solidFill>
                <a:latin typeface="Book Antiqua"/>
              </a:rPr>
              <a:t>Cedulario del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08000" y="115920"/>
            <a:ext cx="885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En llegando Atabalipa en medio de la plaza, hizo que todos estuvieran quedos, y la litera en que él venía y las otras en alto [...]. El gobernador [Pizarro] que esto vió, dijo a Fray Vicente que si quería ir á hablar á Atabalipa [Atahualpa] con un faraute [traductor]; él dijo que sí, y fue con una cruz en la mano y con su Biblia en la otra, y entró por entre la gente hasta donde Atabalipa estaba, y le dijo por el faraute: ‘Yo soy sacerdote de Dios, y enseño á los cristianos las cosas de Dios, y asimesmo vengo á enseñar á vosotros. Lo que yo enseño es lo que Dios nos habló, que está en este libro; y por tanto, de parte de Dios y de los cristianos te ruego que seas su amigo, porque así lo quiere Dios [...] y vé a hablar al Gobernador, que te está esperando’. Atabalipa dijo que le diese el libro para verle, y él se lo dio cerrado; y no acertando Atabalipa á abrirle, el religioso extendió el brazo para lo abrir, y Atabalipa con gran desdén le dio un golpe en el brazo, no queriendo que lo abriese; estaba, y sin temor le echó mano del brazo izquierdo, diciendo: ‘Santi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0"/>
            <a:ext cx="8136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Y porfiando él mesmo por abrirlo, lo abrió; y no maravillándose de las letras ni del papel, como otros indios, lo arrojó cinco ó seis pasos de sí. E á las palabras que el religioso había dicho por el faraute respondió con mucha soberbia, diciendo: ‘Bien sé lo que habéis hecho por ese camino, cómo habéis tratado a mis caciques y tomado la ropa de los bohíos’. El religioso respondió: ‘los cristianos no han hecho esto; que unos indios trajeron la ropa no lo sabiendo el Gobernador, y él la mandó volver’. Atabalipa dijo: ‘No partiré de aquí hasta que toda me la traigan’. El religioso volvió con la respuesta al Gobernador [...] [y le] dijo lo que había pasado con Atabalipa, y que había echado en tierra la Sagrada Escriptura. Luego el Gobernador [...] tomó la espada, y con los españoles que con él estaban entró por medio de los indios; y con mucho ánimo, con solos cuatro hombres que le pudieron seguir, llegó hasta la litera donde Atabalipa”</a:t>
            </a:r>
            <a:endParaRPr b="0" lang="en-US" sz="2400" spc="-1" strike="noStrike">
              <a:solidFill>
                <a:srgbClr val="000000"/>
              </a:solidFill>
              <a:latin typeface="Arial"/>
            </a:endParaRPr>
          </a:p>
        </p:txBody>
      </p:sp>
      <p:sp>
        <p:nvSpPr>
          <p:cNvPr id="71" name=""/>
          <p:cNvSpPr/>
          <p:nvPr/>
        </p:nvSpPr>
        <p:spPr>
          <a:xfrm>
            <a:off x="2050920" y="5805360"/>
            <a:ext cx="7667640" cy="147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Fuente: Francisco Xeres, </a:t>
            </a:r>
            <a:r>
              <a:rPr b="0" i="1" lang="es-ES" sz="1600" spc="-1" strike="noStrike">
                <a:solidFill>
                  <a:srgbClr val="000000"/>
                </a:solidFill>
                <a:latin typeface="Book Antiqua"/>
              </a:rPr>
              <a:t>Verdadera relación de la conquista del Perú y provincia del Cuzco, llamada la Nueva Castilla, conquistada por Francisco Pizarro, </a:t>
            </a:r>
            <a:r>
              <a:rPr b="0" lang="es-ES" sz="1600" spc="-1" strike="noStrike">
                <a:solidFill>
                  <a:srgbClr val="000000"/>
                </a:solidFill>
                <a:latin typeface="Book Antiqua"/>
              </a:rPr>
              <a:t>Sevilla, 153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4762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Comenzaron a entrar por la plaza hasta trescientos hombres como mozos de espuela, con sus arcos y flechas en las manos, cantando un cantar no nada gracioso para los que lo oíamos; antes espantoso, porque parecía cosa infernal; y dieron una vuelta a aquella mezquita […]y entró otro escuadrón de hasta mil hombres, con picas sin hierros, […] y así de esta manera, entraron en la dicha plaza muchos señores principales, que venían en medio de los delanteros y de la persona de Atabalica; detrás de éstos, en una litera muy rica, los cabos de los maderos cubiertos de plata, venía la persona de Atabalica; la cual traían ochenta señores en hombros […] En llegando al medio de la plaza paró, llevando descubierto el medio cuerpo de fuera, y toda la gente de guerra que entraba en la plaza le ceñían en medio, estando dentro hasta seis o VII mil homb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11592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Como él vio que ninguna persona salía a él ni parecía, tuvo creído, y así lo confesó él después de preso, que nos habíamos escondido, de miedo de ver su poder, y dio una voz y dijo: “¿Dónde están éstos?”, a la cual salió del aposento del dicho gobernador Pizarro, el padre fray Vicente de Valverde, de la Orden de los Predicadores […] con la Biblia en la mano y con él, Martín, lengua; y así juntos, llegaron por entre la gente a poder hablar con Atabalica; al cual le comenzó a decir cosas de la Sagrada Escritura y que Nuestro Señor Jesucristo mandaba que entre los suyos no hubiese guerra ni discordia, sino toda paz; y que él en su nombre así se lo pedía y requería; pues había quedado de tratar de ella el día antes, y de venir solo, sin gente de guerra […] y tornándole a decir que mirase lo que Dios mandaba, lo cual estaba en aquel libro que llevaba en la mano, escrito, admirándose, a mi parecer más de la escritura que de lo escrito en ella, le pidió el libro y le abrió y hojeó, mirando el molde y la orden de él, y después de visto, le arrojó por entre la gente, con mucha ira y el rostro muy encarnizado, dici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95280" y="404640"/>
            <a:ext cx="85694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decidle a esos, que vengan acá, que no pasaré de aquí hasta que me den cuenta y satisfagan y paguen lo que han hecho en la tierra’. Visto esto por el fraile y lo poco que aprovechaban sus palabras, tomó su libro y abajó su cabeza, y fuese para donde estaba el dicho Pizarro, casi corriendo y díjole: ‘¿No veis lo que pasa? ¿Para qué estáis en comedimientos y requerimientos con este perro lleno de soberbia, que vienen los campos llenos de indios? ¡Salid a él, que yo os absuelvo!’; y así, acabadas de decir estas palabras, que fue todo en un instante, tocan las trompetas, y parte de su posada con toda la gente de pie que con él estaba, diciendo: ‘¡Santiago, a ell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4032360" y="5589720"/>
            <a:ext cx="511164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Fuente: Pedro Pizarro </a:t>
            </a:r>
            <a:r>
              <a:rPr b="0" i="1" lang="es-ES" sz="1600" spc="-1" strike="noStrike">
                <a:solidFill>
                  <a:srgbClr val="000000"/>
                </a:solidFill>
                <a:latin typeface="Book Antiqua"/>
              </a:rPr>
              <a:t>Noticias del Perú</a:t>
            </a:r>
            <a:r>
              <a:rPr b="0" lang="es-ES" sz="1600" spc="-1" strike="noStrike">
                <a:solidFill>
                  <a:srgbClr val="000000"/>
                </a:solidFill>
                <a:latin typeface="Book Antiqua"/>
              </a:rPr>
              <a:t>, De los papeles del Arca de Santa Cruz de Miguel de Este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404640"/>
            <a:ext cx="8353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rlos I de España (1518-15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liegue de la conquista militar y las explor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Nueva España (1519-15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Circunnavegación del globo terrestre (1519-15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Perú (1524-1528; 1532-153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olidación instituc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creación del consejo de Indias (1523-2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reación de las estructuras virrei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Nueva España (153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Perú (1542)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reación de la estructura territorial de las Audi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ijación del sistema colonial como conjunto de prácticas sociales, políticas, económ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Fundación de ciudades hispa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organización de la mano de obra indígena por medio de la encom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consolidación de la gran minería colonial</a:t>
            </a: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Potosí, Alto Perú  (154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Zacateca, Nueva España (15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24000" y="40464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Destos viracochas [españoles] trajeron dos dellos unos yungas a mi tío Ataguallpa, que la sazón estaba en Caxamarca, el cual los recibió muy bien y dando de beber al uno dellos con un vaso de oro de la bebida que nosotros usamos, el español en recibiéndolo de su mano, lo derramó, de lo cual se enojó mucho mi tío, y después desto aquellos dos españoles le mostraron al dicho mi tío una carta o libro o no sé qué, diciendo que aquella era la quillca de Dios y del rey, e mi tío como se sintió afrentado del derramar la chicha, que ansí se llama nuestra bebida, tomó la carta o lo que era y arrojólo por ahí, diciendo: ‘¿Qué se yo que me dais ahí? ¡ Anda, ve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24000" y="189000"/>
            <a:ext cx="8569080" cy="65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Como mi tío llegase al pueblo de Caxamarca con toda su gente, los españoles (...) ansí se fueron con él hasta Caxamarca, y llegados que fueron, les preguntó a qué venían. Los cuales le dijeron, que venían por mandato de Viracocha a decirle como le han de conocer, y mi tío (...) dio de beber a uno dellos de la manera que arriba dije, para ver si se lo derramaban como los otros dos. Fue de la misma manera, que ni lo bebieron ni hicieron caso; e visto por mi tío que tan poco hacían caso de sus cosas: ‘Pues vosotros no hacéis caso de mi, ni yo lo quiero hacer de vosotros’. Y ansí se levantó enojado, y alzó grita a guisa de querer matar a los españoles, y los españoles que estaban sobre aviso, tomaron cuatro puertas que había en la plaza donde estaban (...) y no dejaron subir allá a mi tío; más que antes al pie dél, le derrocaron de sus andas por fuerza (...) e le prendiero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1763640" y="5661000"/>
            <a:ext cx="766764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Fuente: Titu Cusi Yupanqui, </a:t>
            </a:r>
            <a:r>
              <a:rPr b="0" i="1" lang="es-ES" sz="1600" spc="-1" strike="noStrike">
                <a:solidFill>
                  <a:srgbClr val="000000"/>
                </a:solidFill>
                <a:latin typeface="Book Antiqua"/>
              </a:rPr>
              <a:t>Instrucción al Licenciado Lope García de Castro</a:t>
            </a:r>
            <a:r>
              <a:rPr b="0" lang="es-ES" sz="1600" spc="-1" strike="noStrike">
                <a:solidFill>
                  <a:srgbClr val="000000"/>
                </a:solidFill>
                <a:latin typeface="Book Antiqua"/>
              </a:rPr>
              <a:t>, 15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yes Nuevas, Barcelona 1542</a:t>
            </a:r>
            <a:endParaRPr b="0" lang="en-US" sz="3600" spc="-1" strike="noStrike">
              <a:solidFill>
                <a:srgbClr val="000000"/>
              </a:solidFill>
              <a:latin typeface="Arial"/>
            </a:endParaRPr>
          </a:p>
        </p:txBody>
      </p:sp>
      <p:sp>
        <p:nvSpPr>
          <p:cNvPr id="80" name="PlaceHolder 2"/>
          <p:cNvSpPr>
            <a:spLocks noGrp="1"/>
          </p:cNvSpPr>
          <p:nvPr>
            <p:ph/>
          </p:nvPr>
        </p:nvSpPr>
        <p:spPr>
          <a:xfrm>
            <a:off x="0" y="1052640"/>
            <a:ext cx="8964720" cy="54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ija competencia jurisdiccional entre el Consejo y las Audienci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mita los juicios de residencia que llegan al Consejo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mita apelaciones al Consejo “</a:t>
            </a:r>
            <a:r>
              <a:rPr b="0" lang="es-MX" sz="2400" spc="-1" strike="noStrike">
                <a:solidFill>
                  <a:srgbClr val="000000"/>
                </a:solidFill>
                <a:latin typeface="Arial"/>
              </a:rPr>
              <a:t>ecepto quando la causa fuere de tanta calidad e ymportancia que el valor de la propiedad della sea de diez mil pesos de o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mpide la apelación al Consejo de “los pleitos de entre yndios o con ello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ea la Audiencia de Lima y el Virreinato del Per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gisla sobre la distribución de la mano de obra por medio de la encomienda y las características de esta institu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60" y="0"/>
            <a:ext cx="9396360" cy="65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MX" sz="3200" spc="-1" strike="noStrike">
                <a:solidFill>
                  <a:srgbClr val="000000"/>
                </a:solidFill>
                <a:latin typeface="Arial"/>
              </a:rPr>
              <a:t>“</a:t>
            </a:r>
            <a:r>
              <a:rPr b="0" lang="es-MX" sz="3200" spc="-1" strike="noStrike">
                <a:solidFill>
                  <a:srgbClr val="000000"/>
                </a:solidFill>
                <a:latin typeface="Arial"/>
              </a:rPr>
              <a:t>mandamos que […] por ninguna causa de guerra ni otra alguna avnque sea so titulo de rrevelion ni por rrescate ni de otra manera no se pueda hazer esclauo yndio alguno y queremos sean tratados como vasallos nuestros de la corona de castilla pues lo 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t>
            </a:r>
            <a:r>
              <a:rPr b="0" lang="es-MX" sz="3200" spc="-1" strike="noStrike">
                <a:solidFill>
                  <a:srgbClr val="000000"/>
                </a:solidFill>
                <a:latin typeface="Arial"/>
              </a:rPr>
              <a:t>ninguna persona se pueda seruir de los yndios por via de naburia ni tapia ni otro modo alguno contra su volunt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MX" sz="3200" spc="-1" strike="noStrike">
                <a:solidFill>
                  <a:srgbClr val="000000"/>
                </a:solidFill>
                <a:latin typeface="Arial"/>
              </a:rPr>
              <a:t>yten mandamos que sobre el cargar de los dichos yndios las audiencias tengan especial cuydado que no se cargu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60" y="0"/>
            <a:ext cx="9396360" cy="731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MX" sz="2800" spc="-1" strike="noStrike">
                <a:solidFill>
                  <a:srgbClr val="000000"/>
                </a:solidFill>
                <a:latin typeface="Arial"/>
              </a:rPr>
              <a:t>sean puestos en nuestra rreal corona todos los yndios que tienen y poseen por qualquier titulo y cabsa que sea los que fueron o son visorreys gouernadores o sus lugares thenientes o qualesquier oficiales nuestros ansi de justicia como de nuestra hazienda prelados casas de rreligion o de nuestra hazienda ospitales cofadrias o otras semejantes […] avnque // los tales oficiales o gouernadores digan que quieren dexar los oficios o gouernaciones y quedarse con los yndi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Porque somos ynformados que otras personas avnque tengan titulo los rrepartimientos que se les han dado son en excessiba cantidad mandamos que las abdiencias cada qual en su jurisdicion se ynformen muy bien desto y con toda breuedad y les rreduzgan los tales rrepartimientos a las personas dichas a vna onesta y moderada cantidad y los de mas pongan luego en nuestra corona rreal</a:t>
            </a:r>
            <a:r>
              <a:rPr b="0" lang="es-ES" sz="2800" spc="-1" strike="noStrike">
                <a:solidFill>
                  <a:srgbClr val="000000"/>
                </a:solidFill>
                <a:latin typeface="Arial"/>
              </a:rPr>
              <a:t> </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0"/>
            <a:ext cx="9396360" cy="652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MX" sz="2000" spc="-1" strike="noStrike">
                <a:solidFill>
                  <a:srgbClr val="000000"/>
                </a:solidFill>
                <a:latin typeface="Arial"/>
              </a:rPr>
              <a:t>Ansimismo las dichas abdiencias se ynformen de como han sido tratados los yndios por las personas que los han tenido en encomienda y si les constare que de justicia deuen ser priuados dellos por sus excessos y ma­los tratamientos que les han hecho mandamos que luego los priven y pongan los tales yndios en nuestra corona rreal y en lo del peru allende de lo suso dicho el visorrey y abdiencia se ynformen de los excesos hechos en las cosas subcedidas entre los gouernadores picarro y almagro para nos embiar rrelacion dello y a las personas principales que notablemente halla­ren culpadas en aquellas rreboluciones les quiten luego los yndios que tuvieren y los pongan en nuestra rreal corona</a:t>
            </a:r>
            <a:r>
              <a:rPr b="0" lang="es-ES" sz="2000" spc="-1" strike="noStrike">
                <a:solidFill>
                  <a:srgbClr val="000000"/>
                </a:solidFill>
                <a:latin typeface="Arial"/>
              </a:rPr>
              <a:t> </a:t>
            </a:r>
            <a:r>
              <a:rPr b="0" lang="es-MX"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Otrossi hordenamos y mandamos que de aqui adelante ningund visorrey gouernador abdiencia descubridor ni otra persona alguna no pueda encomen­dar yndios por nueva prouission ni por rrenunciacion ni donacion venta ni otra qualquiera forma modo ni por vacacion ni herencia sino que muriendo la persona que touiere los dichos yndios sean puestos en nuestra rreal coro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ndamos […] hagan luego la tasacion de los tributos […]que los yndios deven dar corno vassallos nuestros y el tal tributo sea moderado de manera que lo puedan cufrir teniendo atencion a la conseruacion de los dichos yndios y con el tal tributo se acuda al comendero donde lo oviere por manera que los españoles no tengan mano ni entrada con los yndios ni poder ni mando alguno ni se sir­van dellos por via de naburia ni en otra manera alguna en poca ni en mucha cantidad ni ayan mas de gozar de su tributo</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édula de 1545</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0" i="1" lang="en-US" sz="3200" spc="-1" strike="noStrike">
                <a:solidFill>
                  <a:srgbClr val="000000"/>
                </a:solidFill>
                <a:latin typeface="Arial"/>
              </a:rPr>
              <a:t>habemos acordado de revocar la dicha ley y dar sobre ello esta mi Provisión en la dicha razón, por la cual revocamos y damos por ninguna y de ningún valor y efecto el dicho capítulo y ley suso incorporada, y reducímoslo todo en el punto y estado que estaba antes y al tiempo que la dicha ley se hicies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cificador La Gasca</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resión de la esclavit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ocimiento de la libertad del indio y el pago de un salario por las labores realiza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ción de utilizar a los indios encomendados como mano de o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zación de la primera visita y tasa general de las encomien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sejo de Indias (1523/24)</a:t>
            </a:r>
            <a:endParaRPr b="0" lang="en-US" sz="4400" spc="-1" strike="noStrike">
              <a:solidFill>
                <a:srgbClr val="000000"/>
              </a:solidFill>
              <a:latin typeface="Arial"/>
            </a:endParaRPr>
          </a:p>
        </p:txBody>
      </p:sp>
      <p:sp>
        <p:nvSpPr>
          <p:cNvPr id="4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sejo tiene la jurisdicción suprema sobre todos los asuntos de las Indi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úa en nombre y representación del Rey</a:t>
            </a:r>
            <a:endParaRPr b="0" lang="en-US" sz="3200" spc="-1" strike="noStrike">
              <a:solidFill>
                <a:srgbClr val="000000"/>
              </a:solidFill>
              <a:latin typeface="Arial"/>
            </a:endParaRPr>
          </a:p>
        </p:txBody>
      </p:sp>
      <p:sp>
        <p:nvSpPr>
          <p:cNvPr id="46" name=""/>
          <p:cNvSpPr/>
          <p:nvPr/>
        </p:nvSpPr>
        <p:spPr>
          <a:xfrm>
            <a:off x="0" y="43657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Audiencia de Nueva España (1527-1530)</a:t>
            </a:r>
            <a:br>
              <a:rPr sz="3600"/>
            </a:br>
            <a:br>
              <a:rPr sz="3600"/>
            </a:br>
            <a:r>
              <a:rPr b="0" lang="es-CL" sz="3600" spc="-1" strike="noStrike">
                <a:solidFill>
                  <a:srgbClr val="000000"/>
                </a:solidFill>
                <a:latin typeface="Arial"/>
              </a:rPr>
              <a:t>Creación del Virreinato de Nueva España (153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0" t="11271" r="0" b="0"/>
          <a:stretch/>
        </p:blipFill>
        <p:spPr>
          <a:xfrm>
            <a:off x="0" y="260280"/>
            <a:ext cx="7013520" cy="3962520"/>
          </a:xfrm>
          <a:prstGeom prst="rect">
            <a:avLst/>
          </a:prstGeom>
          <a:ln w="0">
            <a:noFill/>
          </a:ln>
        </p:spPr>
      </p:pic>
      <p:sp>
        <p:nvSpPr>
          <p:cNvPr id="48" name=""/>
          <p:cNvSpPr/>
          <p:nvPr/>
        </p:nvSpPr>
        <p:spPr>
          <a:xfrm>
            <a:off x="395280" y="6021360"/>
            <a:ext cx="820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95280" y="616572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uente: James Lockhart y Stuart Schwartz, </a:t>
            </a:r>
            <a:r>
              <a:rPr b="0" i="1" lang="es-CL" sz="1800" spc="-1" strike="noStrike">
                <a:solidFill>
                  <a:srgbClr val="000000"/>
                </a:solidFill>
                <a:latin typeface="Book Antiqua"/>
              </a:rPr>
              <a:t>Early Latin America</a:t>
            </a:r>
            <a:r>
              <a:rPr b="0" lang="es-CL" sz="1800" spc="-1" strike="noStrike">
                <a:solidFill>
                  <a:srgbClr val="000000"/>
                </a:solidFill>
                <a:latin typeface="Book Antiqua"/>
              </a:rPr>
              <a:t>, Cambridge, Cambridge University Press,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0" t="0" r="6362" b="0"/>
          <a:stretch/>
        </p:blipFill>
        <p:spPr>
          <a:xfrm>
            <a:off x="250920" y="189000"/>
            <a:ext cx="3871800" cy="6480000"/>
          </a:xfrm>
          <a:prstGeom prst="rect">
            <a:avLst/>
          </a:prstGeom>
          <a:ln w="0">
            <a:noFill/>
          </a:ln>
        </p:spPr>
      </p:pic>
      <p:sp>
        <p:nvSpPr>
          <p:cNvPr id="51" name=""/>
          <p:cNvSpPr/>
          <p:nvPr/>
        </p:nvSpPr>
        <p:spPr>
          <a:xfrm>
            <a:off x="5219640" y="5013360"/>
            <a:ext cx="36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uente: James Lockhart y Stuart Schwartz, </a:t>
            </a:r>
            <a:r>
              <a:rPr b="0" i="1" lang="es-CL" sz="1800" spc="-1" strike="noStrike">
                <a:solidFill>
                  <a:srgbClr val="000000"/>
                </a:solidFill>
                <a:latin typeface="Book Antiqua"/>
              </a:rPr>
              <a:t>Early Latin America</a:t>
            </a:r>
            <a:r>
              <a:rPr b="0" lang="es-CL" sz="1800" spc="-1" strike="noStrike">
                <a:solidFill>
                  <a:srgbClr val="000000"/>
                </a:solidFill>
                <a:latin typeface="Book Antiqua"/>
              </a:rPr>
              <a:t>, Cambridge, Cambridge University Press,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228600"/>
            <a:ext cx="8839080" cy="86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Garamond"/>
                <a:ea typeface="Times New Roman"/>
              </a:rPr>
              <a:t>“</a:t>
            </a:r>
            <a:r>
              <a:rPr b="0" i="1" lang="es-ES" sz="2400" spc="-1" strike="noStrike">
                <a:solidFill>
                  <a:srgbClr val="000000"/>
                </a:solidFill>
                <a:latin typeface="Garamond"/>
                <a:ea typeface="Times New Roman"/>
              </a:rPr>
              <a:t>Tenga vuestra Magestad por cierto sea ésta la mejor tierra del mundo, donde nunca hay frío ni calor demasiado ni que dé pena; siempre verde, e donde los árboles nunca pierden la hoja; llena de fuentes e ríos e otras aguas suavísimas, donde las arenas dellas son puro oro. Tierra en que abundan los ganados en multiplicación maravillosa. La becerra, estando mamando, se empreña, paren las vacas a dos comunmente e a tres muchas veces, e todo se cría, ninguna se muere. Hállanse atajos [hatos] de vacas que se perdieron en número de treinta o cuarenta, señaladas con su hierro, e a cabo de tres o cuatro años parecen en los montes, en número de trescientas o cuatrocientas. Otro tanto es de los puercos e ovejas e yeguas e de los otros ganados. Háse probado a sembrar trigo, e dase muy bien, e darse ha dos o tres veces en el año, cogiéndose, como en Francia o en nuestra provincia de Guipúzcoa, con su paja e espiga, para se limpiar dentro de casa, porque son muchas las aguas. Hay maderas maravillosas de brasil, guayacan, ques un palo con que todas las enfermedades de la lepra se curan. Hay arboles que llevan resina muy olorosa, como anime o incienso. Hay arboles que llevan frutas de grandes medecina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Times New Roman"/>
              </a:rPr>
              <a:t>Carta a su Magestad del </a:t>
            </a:r>
            <a:r>
              <a:rPr b="0" lang="es-ES" sz="2400" spc="-1" strike="noStrike">
                <a:solidFill>
                  <a:srgbClr val="000000"/>
                </a:solidFill>
                <a:latin typeface="Garamond"/>
                <a:ea typeface="Times New Roman"/>
              </a:rPr>
              <a:t>licenciado Alonso de Zuazo, juez de residencia </a:t>
            </a:r>
            <a:r>
              <a:rPr b="0" lang="es-CL" sz="2400" spc="-1" strike="noStrike">
                <a:solidFill>
                  <a:srgbClr val="000000"/>
                </a:solidFill>
                <a:latin typeface="Garamond"/>
                <a:ea typeface="Times New Roman"/>
              </a:rPr>
              <a:t>en </a:t>
            </a:r>
            <a:r>
              <a:rPr b="0" lang="es-ES" sz="2400" spc="-1" strike="noStrike">
                <a:solidFill>
                  <a:srgbClr val="000000"/>
                </a:solidFill>
                <a:latin typeface="Garamond"/>
                <a:ea typeface="Times New Roman"/>
              </a:rPr>
              <a:t>Santo Domingo, 22 de enero de 15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Book Antiqua"/>
              </a:rPr>
              <a:t>Etapas de la conquista de México</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La conquista militar (1519-1522)</a:t>
            </a:r>
            <a:endParaRPr b="0" lang="en-US" sz="2800" spc="-1" strike="noStrike">
              <a:solidFill>
                <a:srgbClr val="000000"/>
              </a:solidFill>
              <a:latin typeface="Arial"/>
            </a:endParaRPr>
          </a:p>
          <a:p>
            <a:pPr marL="329040" indent="-32904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La segunda conquista o “pacificación”: el afianzamiento del poder colonial (1521-1535)</a:t>
            </a:r>
            <a:endParaRPr b="0" lang="en-US" sz="2800" spc="-1" strike="noStrike">
              <a:solidFill>
                <a:srgbClr val="000000"/>
              </a:solidFill>
              <a:latin typeface="Arial"/>
            </a:endParaRPr>
          </a:p>
          <a:p>
            <a:pPr lvl="1" marL="713160" indent="-27432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Fundación de ciudades</a:t>
            </a:r>
            <a:endParaRPr b="0" lang="en-US" sz="2400" spc="-1" strike="noStrike">
              <a:solidFill>
                <a:srgbClr val="000000"/>
              </a:solidFill>
              <a:latin typeface="Arial"/>
            </a:endParaRPr>
          </a:p>
          <a:p>
            <a:pPr lvl="1" marL="713160" indent="-27432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Creación de trama urbana e integración a red de circulación</a:t>
            </a:r>
            <a:endParaRPr b="0" lang="en-US" sz="2400" spc="-1" strike="noStrike">
              <a:solidFill>
                <a:srgbClr val="000000"/>
              </a:solidFill>
              <a:latin typeface="Arial"/>
            </a:endParaRPr>
          </a:p>
          <a:p>
            <a:pPr lvl="1" marL="713160" indent="-27432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Institucionalización y consolidación de relaciones de poder</a:t>
            </a:r>
            <a:endParaRPr b="0" lang="en-US" sz="2400" spc="-1" strike="noStrike">
              <a:solidFill>
                <a:srgbClr val="000000"/>
              </a:solidFill>
              <a:latin typeface="Arial"/>
            </a:endParaRPr>
          </a:p>
          <a:p>
            <a:pPr lvl="1" marL="713160" indent="-27432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La puesta en valor del territorio colonial</a:t>
            </a:r>
            <a:endParaRPr b="0" lang="en-US" sz="2400" spc="-1" strike="noStrike">
              <a:solidFill>
                <a:srgbClr val="000000"/>
              </a:solidFill>
              <a:latin typeface="Arial"/>
            </a:endParaRPr>
          </a:p>
          <a:p>
            <a:pPr lvl="2" marL="1097280" indent="-219240">
              <a:lnSpc>
                <a:spcPct val="100000"/>
              </a:lnSpc>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l reparto y la mano de obra</a:t>
            </a:r>
            <a:endParaRPr b="0" lang="en-US" sz="2000" spc="-1" strike="noStrike">
              <a:solidFill>
                <a:srgbClr val="000000"/>
              </a:solidFill>
              <a:latin typeface="Arial"/>
            </a:endParaRPr>
          </a:p>
          <a:p>
            <a:pPr lvl="2" marL="1097280" indent="-219240">
              <a:lnSpc>
                <a:spcPct val="100000"/>
              </a:lnSpc>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Rescate y min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sejo de Indias (1523/24)</a:t>
            </a:r>
            <a:endParaRPr b="0" lang="en-US" sz="4400" spc="-1" strike="noStrike">
              <a:solidFill>
                <a:srgbClr val="000000"/>
              </a:solidFill>
              <a:latin typeface="Arial"/>
            </a:endParaRPr>
          </a:p>
        </p:txBody>
      </p:sp>
      <p:sp>
        <p:nvSpPr>
          <p:cNvPr id="56"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sejo tiene la jurisdicción suprema sobre todos los asuntos de las Indi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úa en nombre y representación del Rey</a:t>
            </a:r>
            <a:endParaRPr b="0" lang="en-US" sz="3200" spc="-1" strike="noStrike">
              <a:solidFill>
                <a:srgbClr val="000000"/>
              </a:solidFill>
              <a:latin typeface="Arial"/>
            </a:endParaRPr>
          </a:p>
        </p:txBody>
      </p:sp>
      <p:sp>
        <p:nvSpPr>
          <p:cNvPr id="57" name=""/>
          <p:cNvSpPr/>
          <p:nvPr/>
        </p:nvSpPr>
        <p:spPr>
          <a:xfrm>
            <a:off x="0" y="43657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Audiencia de Nueva España (1527-1530)</a:t>
            </a:r>
            <a:br>
              <a:rPr sz="3600"/>
            </a:br>
            <a:br>
              <a:rPr sz="3600"/>
            </a:br>
            <a:r>
              <a:rPr b="0" lang="es-CL" sz="3600" spc="-1" strike="noStrike">
                <a:solidFill>
                  <a:srgbClr val="000000"/>
                </a:solidFill>
                <a:latin typeface="Arial"/>
              </a:rPr>
              <a:t>Creación del Virreinato de Nueva España (153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11280" y="620640"/>
            <a:ext cx="792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Debido a la mucha importunación de los oficiales de V.M. y de todos los españoles y que (de) ninguna manera me podía excusar, fuéme forzado depositar los señores y naturales destas partes a los españoles, considerando en ella las personas y los servicios que en estas partes a V.M. han hecho”.</a:t>
            </a:r>
            <a:endParaRPr b="0" lang="en-US" sz="2400" spc="-1" strike="noStrike">
              <a:solidFill>
                <a:srgbClr val="000000"/>
              </a:solidFill>
              <a:latin typeface="Arial"/>
            </a:endParaRPr>
          </a:p>
        </p:txBody>
      </p:sp>
      <p:sp>
        <p:nvSpPr>
          <p:cNvPr id="59" name=""/>
          <p:cNvSpPr/>
          <p:nvPr/>
        </p:nvSpPr>
        <p:spPr>
          <a:xfrm>
            <a:off x="539640" y="5300640"/>
            <a:ext cx="835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Hernán Cortés, Tercera carta de relación, Coyoacán, 15 de mayo de 15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3:22:08Z</dcterms:created>
  <dc:creator>Alejandra</dc:creator>
  <dc:description/>
  <dc:language>en-US</dc:language>
  <cp:lastModifiedBy>Pedro</cp:lastModifiedBy>
  <dcterms:modified xsi:type="dcterms:W3CDTF">2009-11-13T21:10:29Z</dcterms:modified>
  <cp:revision>107</cp:revision>
  <dc:subject/>
  <dc:title>Fuente: William R. Shepherd, Historical Atlas, New York, Henry Holt and Company, 1923</dc:title>
</cp:coreProperties>
</file>