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6870D-3B55-4289-895B-0345F3D84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9D58-DE5D-4ABE-8EE0-C7BBAC23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E718C-7170-47F6-8404-E8C08FF14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58264-6CF3-4733-A95B-53573F4E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291B-91FF-4D45-AAB3-8AE8DAF2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77EE-05E7-45C7-BDE7-BDAC47A8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5946-D72C-45DF-9B89-CB8C6743C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CDBB-00F6-4E92-AD86-F72BC72A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47EA-0F19-409A-ADFC-EB9D87B3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A414-4070-4781-BA78-1092C88E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7CFF-2BD9-4618-A290-32EDB782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55B3-8A20-4104-97AB-EA87B694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E0F7-F49D-4737-AAFD-11E9D7C34B4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ebs.advance.com.ar/pfernando/DocsIglLA/Requerimiento.htm#N_10_#N_10_"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ulo II</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ón, el reparto europeo y la ocupación colonial de las Antillas (1492-151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ajes, exploración y frontera: 1492-1504; 1510-15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ización de un modelo de expansión y colonización: (1494-1498) 1500 en adela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2720" y="115920"/>
            <a:ext cx="9396360" cy="452592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Otrosí, quisieron mas los dichos señores </a:t>
            </a:r>
            <a:r>
              <a:rPr b="1" lang="en-US" sz="2400" spc="-1" strike="noStrike">
                <a:solidFill>
                  <a:srgbClr val="000000"/>
                </a:solidFill>
                <a:latin typeface="Book Antiqua"/>
              </a:rPr>
              <a:t>Rey e Reyna de Castilla e de Aragón</a:t>
            </a:r>
            <a:r>
              <a:rPr b="0" lang="en-US" sz="2400" spc="-1" strike="noStrike">
                <a:solidFill>
                  <a:srgbClr val="000000"/>
                </a:solidFill>
                <a:latin typeface="Book Antiqua"/>
              </a:rPr>
              <a:t> e de Sicilia, etc., e les plugo para que esta paz sea firme, estable e para siempre duradera, e prometieron de agora para en todo tiempo, que por sy nin por otro público fin secreto, nin sus herederos e subcesores, </a:t>
            </a:r>
            <a:r>
              <a:rPr b="1" lang="en-US" sz="2400" spc="-1" strike="noStrike">
                <a:solidFill>
                  <a:srgbClr val="000000"/>
                </a:solidFill>
                <a:latin typeface="Book Antiqua"/>
              </a:rPr>
              <a:t>non turbarán</a:t>
            </a:r>
            <a:r>
              <a:rPr b="0" lang="en-US" sz="2400" spc="-1" strike="noStrike">
                <a:solidFill>
                  <a:srgbClr val="000000"/>
                </a:solidFill>
                <a:latin typeface="Book Antiqua"/>
              </a:rPr>
              <a:t>, molestarán, nin inquietarán de fecho nin de derecho, en juizio nin fuera de juizio, los dichos señores </a:t>
            </a:r>
            <a:r>
              <a:rPr b="1" lang="en-US" sz="2400" spc="-1" strike="noStrike">
                <a:solidFill>
                  <a:srgbClr val="000000"/>
                </a:solidFill>
                <a:latin typeface="Book Antiqua"/>
              </a:rPr>
              <a:t>Rey e Prínçipe de Portogal</a:t>
            </a:r>
            <a:r>
              <a:rPr b="0" lang="en-US" sz="2400" spc="-1" strike="noStrike">
                <a:solidFill>
                  <a:srgbClr val="000000"/>
                </a:solidFill>
                <a:latin typeface="Book Antiqua"/>
              </a:rPr>
              <a:t>, nin los reyes que por tiempo fueren de Portogal, nin sus reynos, </a:t>
            </a:r>
            <a:r>
              <a:rPr b="1" lang="en-US" sz="2400" spc="-1" strike="noStrike">
                <a:solidFill>
                  <a:srgbClr val="000000"/>
                </a:solidFill>
                <a:latin typeface="Book Antiqua"/>
              </a:rPr>
              <a:t>la posesión</a:t>
            </a:r>
            <a:r>
              <a:rPr b="0" lang="en-US" sz="2400" spc="-1" strike="noStrike">
                <a:solidFill>
                  <a:srgbClr val="000000"/>
                </a:solidFill>
                <a:latin typeface="Book Antiqua"/>
              </a:rPr>
              <a:t> e casi posesión en que están en todos los tratos, tierras, rescates de </a:t>
            </a:r>
            <a:r>
              <a:rPr b="1" lang="en-US" sz="2400" spc="-1" strike="noStrike">
                <a:solidFill>
                  <a:srgbClr val="000000"/>
                </a:solidFill>
                <a:latin typeface="Book Antiqua"/>
              </a:rPr>
              <a:t>Guinea</a:t>
            </a:r>
            <a:r>
              <a:rPr b="0" lang="en-US" sz="2400" spc="-1" strike="noStrike">
                <a:solidFill>
                  <a:srgbClr val="000000"/>
                </a:solidFill>
                <a:latin typeface="Book Antiqua"/>
              </a:rPr>
              <a:t>, con sus minas de oro, e qualesquier otras islas, costas, tierras, descubiertas e por descobrir, falladas e por fallar, </a:t>
            </a:r>
            <a:r>
              <a:rPr b="1" lang="en-US" sz="2400" spc="-1" strike="noStrike">
                <a:solidFill>
                  <a:srgbClr val="000000"/>
                </a:solidFill>
                <a:latin typeface="Book Antiqua"/>
              </a:rPr>
              <a:t>islas de la Madera</a:t>
            </a:r>
            <a:r>
              <a:rPr b="0" lang="en-US" sz="2400" spc="-1" strike="noStrike">
                <a:solidFill>
                  <a:srgbClr val="000000"/>
                </a:solidFill>
                <a:latin typeface="Book Antiqua"/>
              </a:rPr>
              <a:t>, Puerto Sancto e Desierta, e todas las </a:t>
            </a:r>
            <a:r>
              <a:rPr b="1" lang="en-US" sz="2400" spc="-1" strike="noStrike">
                <a:solidFill>
                  <a:srgbClr val="000000"/>
                </a:solidFill>
                <a:latin typeface="Book Antiqua"/>
              </a:rPr>
              <a:t>islas de los Açores</a:t>
            </a:r>
            <a:r>
              <a:rPr b="0" lang="en-US" sz="2400" spc="-1" strike="noStrike">
                <a:solidFill>
                  <a:srgbClr val="000000"/>
                </a:solidFill>
                <a:latin typeface="Book Antiqua"/>
              </a:rPr>
              <a:t>, e islas de las Flores, e así las </a:t>
            </a:r>
            <a:r>
              <a:rPr b="1" lang="en-US" sz="2400" spc="-1" strike="noStrike">
                <a:solidFill>
                  <a:srgbClr val="000000"/>
                </a:solidFill>
                <a:latin typeface="Book Antiqua"/>
              </a:rPr>
              <a:t>islas de Cabo Verde</a:t>
            </a:r>
            <a:r>
              <a:rPr b="0" lang="en-US" sz="2400" spc="-1" strike="noStrike">
                <a:solidFill>
                  <a:srgbClr val="000000"/>
                </a:solidFill>
                <a:latin typeface="Book Antiqua"/>
              </a:rPr>
              <a:t>, e todas las islas que agora tiene descubiertas, e qualesquier otras islas que se fallaren o conquirieren de las islas de </a:t>
            </a:r>
            <a:r>
              <a:rPr b="1" lang="en-US" sz="2400" spc="-1" strike="noStrike">
                <a:solidFill>
                  <a:srgbClr val="000000"/>
                </a:solidFill>
                <a:latin typeface="Book Antiqua"/>
              </a:rPr>
              <a:t>Canaria pera baxo contra Guinea</a:t>
            </a:r>
            <a:r>
              <a:rPr b="0" lang="en-US" sz="2400" spc="-1" strike="noStrike">
                <a:solidFill>
                  <a:srgbClr val="000000"/>
                </a:solidFill>
                <a:latin typeface="Book Antiqua"/>
              </a:rPr>
              <a:t>, porque todo lo que es fallado e se fallare conquerir o descobrir en los dichos términos, allende de lo que ya es fallado, ocupado, descubierto, finca a los dichos Rey e Príncipe de Portogal e sus reinos, </a:t>
            </a:r>
            <a:r>
              <a:rPr b="1" lang="en-US" sz="2400" spc="-1" strike="noStrike">
                <a:solidFill>
                  <a:srgbClr val="000000"/>
                </a:solidFill>
                <a:latin typeface="Book Antiqua"/>
              </a:rPr>
              <a:t>tirando solamente las islas de Canaria</a:t>
            </a:r>
            <a:r>
              <a:rPr b="0" lang="en-US" sz="2400" spc="-1" strike="noStrike">
                <a:solidFill>
                  <a:srgbClr val="000000"/>
                </a:solidFill>
                <a:latin typeface="Book Antiqua"/>
              </a:rPr>
              <a:t>, a saber, Lançarote, Palma, Fuerte Ventura, la Gomera, el Fierro, la Graciosa, la Gran Canaria, Tenerife, e todas las otras islas de Canaria ganadas o por ganar, las quales fincan a los reinos de Casti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189000"/>
            <a:ext cx="842472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con el auxilio divino y con extrema diligencia, navegando en el mar océano, encontraron ciertas islas remotísimas y también tierras firmes que hasta ahora no habían sido descubiertas por otros, en las cuales habitan varios pueblos que viven pacíficamente y, según se asegura, andan desnudos y no comen carne […] estas gentes que habitan en las mencionadas islas y tierras creen en un Dios creador que está en el cielo y las consideran bastante aptas para abrazar la fe católica e imbuirles buenas costumbres; y se tiene la esperanza de que, si se les enseña, fácilmente se introducirá el nombre del Salvador, nuestro Señor Jesucristo, en las tierras e islas mencionadas” </a:t>
            </a:r>
            <a:br>
              <a:rPr sz="2800"/>
            </a:br>
            <a:endParaRPr b="0" lang="en-US" sz="2800" spc="-1" strike="noStrike">
              <a:solidFill>
                <a:srgbClr val="000000"/>
              </a:solidFill>
              <a:latin typeface="Arial"/>
            </a:endParaRPr>
          </a:p>
        </p:txBody>
      </p:sp>
      <p:sp>
        <p:nvSpPr>
          <p:cNvPr id="64" name=""/>
          <p:cNvSpPr/>
          <p:nvPr/>
        </p:nvSpPr>
        <p:spPr>
          <a:xfrm>
            <a:off x="1403280" y="623736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Intercaetera, 4 de mayo de 14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620640"/>
            <a:ext cx="813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Y, además, os mandamos, en virtud de santa obediencia, que, conforme ya prometisteis, y no dudamos dada vuestra gran devoción y magnanimidad real que lo haréis, que a las tierras firmes e islas citadas, varones probos y temerosos de Dios, doctos, peritos y expertos para instruir a los residentes y habitantes citados en la fe católica e inculcarles buenas costumbres, debéis destinar, poniendo en lo dicho toda la diligencia debida”. </a:t>
            </a:r>
            <a:endParaRPr b="0" lang="en-US" sz="2800" spc="-1" strike="noStrike">
              <a:solidFill>
                <a:srgbClr val="000000"/>
              </a:solidFill>
              <a:latin typeface="Arial"/>
            </a:endParaRPr>
          </a:p>
        </p:txBody>
      </p:sp>
      <p:sp>
        <p:nvSpPr>
          <p:cNvPr id="66" name=""/>
          <p:cNvSpPr/>
          <p:nvPr/>
        </p:nvSpPr>
        <p:spPr>
          <a:xfrm>
            <a:off x="1403280" y="623736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Intercaetera, 4 de mayo de 14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71640" y="620640"/>
            <a:ext cx="7991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a:t>
            </a:r>
            <a:r>
              <a:rPr b="0" lang="es-MX" sz="2400" spc="-1" strike="noStrike">
                <a:solidFill>
                  <a:srgbClr val="000000"/>
                </a:solidFill>
                <a:latin typeface="Book Antiqua"/>
              </a:rPr>
              <a:t>[…] </a:t>
            </a:r>
            <a:r>
              <a:rPr b="0" lang="es-ES" sz="2400" spc="-1" strike="noStrike">
                <a:solidFill>
                  <a:srgbClr val="000000"/>
                </a:solidFill>
                <a:latin typeface="Book Antiqua"/>
              </a:rPr>
              <a:t>A vosotros y a vuestros herederos y sucesores los Reyes de Castilla y León, para siempre según el tenor de las presentes, donamos, concedemos y asignamos, todas las islas y tierras firmes descubiertas y por descubrir, halladas y por hallar hacia el Occidente y Mediodía, fabricando y construyendo una línea del Polo Artico que es el Septentrión, hasta el polo Antártico que es el Mediodía […] la cual línea diste de las islas que vulgarmente llaman Azores y Cabo Verde cien leguas hacia el Occidente y mediodía, así que todas sus islas y tierra firme halladas y que hallaren, descubiertas y que se descubrieren desde la dicha línea hacia el Occidente y mediodía que por otro Rey cristiano no fuesen actualmente poseídas</a:t>
            </a:r>
            <a:r>
              <a:rPr b="0" lang="es-MX" sz="2400" spc="-1" strike="noStrike">
                <a:solidFill>
                  <a:srgbClr val="000000"/>
                </a:solidFill>
                <a:latin typeface="Book Antiqua"/>
              </a:rPr>
              <a:t>”</a:t>
            </a:r>
            <a:r>
              <a:rPr b="0" lang="es-ES" sz="2400" spc="-1" strike="noStrike">
                <a:solidFill>
                  <a:srgbClr val="000000"/>
                </a:solidFill>
                <a:latin typeface="Book Antiqua"/>
              </a:rPr>
              <a:t> </a:t>
            </a:r>
            <a:endParaRPr b="0" lang="en-US" sz="2400" spc="-1" strike="noStrike">
              <a:solidFill>
                <a:srgbClr val="000000"/>
              </a:solidFill>
              <a:latin typeface="Arial"/>
            </a:endParaRPr>
          </a:p>
        </p:txBody>
      </p:sp>
      <p:sp>
        <p:nvSpPr>
          <p:cNvPr id="68" name=""/>
          <p:cNvSpPr/>
          <p:nvPr/>
        </p:nvSpPr>
        <p:spPr>
          <a:xfrm>
            <a:off x="468360" y="6021360"/>
            <a:ext cx="79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Bula Inter caetera, Papa Alejandro VI, 4 de mayo de 149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907560"/>
            <a:ext cx="8229600" cy="3457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Por lo cual, por parte del expresado rey Manuel, nos fué humildemente suplicado que añadiésemos a dicha concordia, pacto y composición la fortaleza de la confirmación apostólica, para la más firme subsistencia de la misma, y que nos dignásemos por benignidad apostólica proveer oportunamente otras cosas en lo referido</a:t>
            </a:r>
            <a:r>
              <a:rPr b="0" lang="es-ES" sz="2800" spc="-1" strike="noStrike">
                <a:solidFill>
                  <a:srgbClr val="000000"/>
                </a:solidFill>
                <a:latin typeface="Book Antiqua"/>
              </a:rPr>
              <a:t> </a:t>
            </a:r>
            <a:endParaRPr b="0" lang="en-US" sz="2800" spc="-1" strike="noStrike">
              <a:solidFill>
                <a:srgbClr val="000000"/>
              </a:solidFill>
              <a:latin typeface="Arial"/>
            </a:endParaRPr>
          </a:p>
        </p:txBody>
      </p:sp>
      <p:sp>
        <p:nvSpPr>
          <p:cNvPr id="70" name=""/>
          <p:cNvSpPr/>
          <p:nvPr/>
        </p:nvSpPr>
        <p:spPr>
          <a:xfrm>
            <a:off x="468360" y="515772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Bula </a:t>
            </a:r>
            <a:r>
              <a:rPr b="1" lang="es-ES" sz="2400" spc="-1" strike="noStrike">
                <a:solidFill>
                  <a:srgbClr val="000000"/>
                </a:solidFill>
                <a:latin typeface="Book Antiqua"/>
              </a:rPr>
              <a:t>Ea quae pro bono</a:t>
            </a:r>
            <a:r>
              <a:rPr b="0" lang="es-ES" sz="2400" spc="-1" strike="noStrike">
                <a:solidFill>
                  <a:srgbClr val="000000"/>
                </a:solidFill>
                <a:latin typeface="Book Antiqua"/>
              </a:rPr>
              <a:t> de 1505 del Papa Julio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333360"/>
            <a:ext cx="2376360" cy="4525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0</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Book Antiqua"/>
              </a:rPr>
              <a:t>1503</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3</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8</a:t>
            </a:r>
            <a:br>
              <a:rPr sz="2800"/>
            </a:b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0</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1</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2</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2</a:t>
            </a:r>
            <a:endParaRPr b="0" lang="en-US" sz="2800" spc="-1" strike="noStrike">
              <a:solidFill>
                <a:srgbClr val="000000"/>
              </a:solidFill>
              <a:latin typeface="Arial"/>
            </a:endParaRPr>
          </a:p>
        </p:txBody>
      </p:sp>
      <p:sp>
        <p:nvSpPr>
          <p:cNvPr id="72" name=""/>
          <p:cNvSpPr/>
          <p:nvPr/>
        </p:nvSpPr>
        <p:spPr>
          <a:xfrm>
            <a:off x="1403280" y="333360"/>
            <a:ext cx="741672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rancisco Bobadilla asume gobierno</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Gobernador Nicolás de Ovando</a:t>
            </a:r>
            <a:endParaRPr b="0" lang="en-US" sz="2800" spc="-1" strike="noStrike">
              <a:solidFill>
                <a:srgbClr val="000000"/>
              </a:solidFill>
              <a:latin typeface="Arial"/>
            </a:endParaRPr>
          </a:p>
          <a:p>
            <a:pPr marL="301680" indent="-301680">
              <a:lnSpc>
                <a:spcPct val="100000"/>
              </a:lnSpc>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Book Antiqua"/>
              </a:rPr>
              <a:t>Creación de la Casa de Contratación</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édula que institucionaliza la encomienda</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Primeras capitulaciones para la conquista de Darién y Tierra Firme</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undación de Nombre de Di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Establecimiento hispano en Cuba</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eyes de Burg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Requerimiento de Juan López Palacios Rubi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81440" y="-360"/>
            <a:ext cx="9325080" cy="6165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Otrosí: procuraréys como los yndios sean bien tratados e puedan andar syguramente por toda la tierra, e nenguno los faga fuerza, nin los roben, nin fagan otro mal nin dapño[…]</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Item: porque nuestra merced e voluntad es, que los yndios nos paguen nuestros tributos e derechos que nos an de pagar como nos lo pagan nuestros súditos vecinos de nuestros reynos e señoríos […]  hablaréis de nuestra parte con los caciques e con las otras personas prencipales […] e de su voluntad concordaréis con ellos lo que nos ayan de pagar cada uno, cada año, de tributos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Item: e porque para coger oro e facer las otras labores que nos mandamos facer, será necesario aprovecharnos del servicio de los yndios, compelir los eis que trabaxen en las cosas de nuestro servicio, pagando a cada uno el salario que xustamente vos pareciere que debieren de aber, sygund la calidad de la tierra.”</a:t>
            </a:r>
            <a:endParaRPr b="0" lang="en-US" sz="2800" spc="-1" strike="noStrike">
              <a:solidFill>
                <a:srgbClr val="000000"/>
              </a:solidFill>
              <a:latin typeface="Arial"/>
            </a:endParaRPr>
          </a:p>
        </p:txBody>
      </p:sp>
      <p:sp>
        <p:nvSpPr>
          <p:cNvPr id="74" name=""/>
          <p:cNvSpPr/>
          <p:nvPr/>
        </p:nvSpPr>
        <p:spPr>
          <a:xfrm>
            <a:off x="900000" y="6237360"/>
            <a:ext cx="842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Fecho en Granada, a diez e seys de setiembre de mill e quinientos e un años. </a:t>
            </a:r>
            <a:br>
              <a:rPr sz="1800"/>
            </a:br>
            <a:r>
              <a:rPr b="0" lang="es-ES" sz="1800" spc="-1" strike="noStrike">
                <a:solidFill>
                  <a:srgbClr val="000000"/>
                </a:solidFill>
                <a:latin typeface="Book Antiqua"/>
              </a:rPr>
              <a:t>Yo el Rey. Yo la Reyn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52720" y="404640"/>
            <a:ext cx="9396360" cy="6453360"/>
          </a:xfrm>
          <a:prstGeom prst="rect">
            <a:avLst/>
          </a:prstGeom>
          <a:noFill/>
          <a:ln w="0">
            <a:noFill/>
          </a:ln>
        </p:spPr>
        <p:txBody>
          <a:bodyPr lIns="90000" rIns="90000" tIns="46800" bIns="46800"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Book Antiqua"/>
              </a:rPr>
              <a:t>“</a:t>
            </a:r>
            <a:r>
              <a:rPr b="0" i="1" lang="en-US" sz="2600" spc="-1" strike="noStrike">
                <a:solidFill>
                  <a:srgbClr val="000000"/>
                </a:solidFill>
                <a:latin typeface="Book Antiqua"/>
              </a:rPr>
              <a:t>E porque emos sido informado que para aber más provecho del dicho oro, convenía que los cristhianos questán en las dichas Indias se sirviesen en esto de los mismos yndios, mandamos al dicho nuestro gobernador e a los dichos oficiales, quellos vean la forma que se deba de therner en lo susodicho […]con tanto que los dichos yndios non sean mal tratados nin agraviados por los dichos cristhianos, como fasta aquí lo an sido; e sean pagados de sus xornales […]</a:t>
            </a:r>
            <a:br>
              <a:rPr sz="2600"/>
            </a:br>
            <a:r>
              <a:rPr b="0" i="1" lang="en-US" sz="2600" spc="-1" strike="noStrike">
                <a:solidFill>
                  <a:srgbClr val="000000"/>
                </a:solidFill>
                <a:latin typeface="Book Antiqua"/>
              </a:rPr>
              <a:t>Otrosí: mandamos […]se ynformen cómo e de qué manera nos podríamos servir mexor de los dichos yndios, e si para ello les mandásemos dar de comer, o sueldo, por el tiempo que syrvieren […] e porque los dichos yndios an destar a nuestro cargo, será razón que mandemos thomar dellos, o si será mexor que nos sirvan ciertos días o cierto tiempo; o si será bien que los dichos yndios, por sí, vayan a sacar oro de las dichas minas para Nos, e que Nos acudan con cierta parte de lo que ansi cogieren”</a:t>
            </a:r>
            <a:br>
              <a:rPr sz="2600"/>
            </a:br>
            <a:br>
              <a:rPr sz="2600"/>
            </a:br>
            <a:endParaRPr b="0" lang="en-US" sz="2600" spc="-1" strike="noStrike">
              <a:solidFill>
                <a:srgbClr val="000000"/>
              </a:solidFill>
              <a:latin typeface="Arial"/>
            </a:endParaRPr>
          </a:p>
        </p:txBody>
      </p:sp>
      <p:sp>
        <p:nvSpPr>
          <p:cNvPr id="76" name=""/>
          <p:cNvSpPr/>
          <p:nvPr/>
        </p:nvSpPr>
        <p:spPr>
          <a:xfrm>
            <a:off x="179280" y="5805360"/>
            <a:ext cx="93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Zaragoz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veinte e nueve días del mes de marzo de mil e quinientos e tres añ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Yo el Rey. Yo la Reyna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95280" y="151596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una práctica hispana destinada a conseguir bienes o servicios por parte de la población indígena a partir de la reutilización de las unidades sociopolíticas preexistentes, en particular, por medio de sus propias autoridades”</a:t>
            </a:r>
            <a:endParaRPr b="0" lang="en-US" sz="2400" spc="-1" strike="noStrike">
              <a:solidFill>
                <a:srgbClr val="000000"/>
              </a:solidFill>
              <a:latin typeface="Arial"/>
            </a:endParaRPr>
          </a:p>
        </p:txBody>
      </p:sp>
      <p:sp>
        <p:nvSpPr>
          <p:cNvPr id="78" name=""/>
          <p:cNvSpPr/>
          <p:nvPr/>
        </p:nvSpPr>
        <p:spPr>
          <a:xfrm>
            <a:off x="2484360" y="386064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95280" y="620640"/>
            <a:ext cx="8064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t>
            </a:r>
            <a:r>
              <a:rPr b="0" lang="es-ES" sz="2800" spc="-1" strike="noStrike">
                <a:solidFill>
                  <a:srgbClr val="000000"/>
                </a:solidFill>
                <a:latin typeface="Book Antiqua"/>
              </a:rPr>
              <a:t>según se a visto por luenga espiriençia dyz que todo no vasta para que los dichos caçiques e yndios tengan el conosçimiento de nuestra fe que sería necesaria para su salvación, porque de su natural son ynclinados a oçiosidad y malos viçios”</a:t>
            </a:r>
            <a:endParaRPr b="0" lang="en-US" sz="2800" spc="-1" strike="noStrike">
              <a:solidFill>
                <a:srgbClr val="000000"/>
              </a:solidFill>
              <a:latin typeface="Arial"/>
            </a:endParaRPr>
          </a:p>
        </p:txBody>
      </p:sp>
      <p:sp>
        <p:nvSpPr>
          <p:cNvPr id="80" name=""/>
          <p:cNvSpPr/>
          <p:nvPr/>
        </p:nvSpPr>
        <p:spPr>
          <a:xfrm>
            <a:off x="2484360" y="606744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yes de Burgos, 151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9280" y="189000"/>
            <a:ext cx="2376720" cy="4525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2-1493</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3</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3-1496</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6</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8</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8-150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9-150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150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1</a:t>
            </a:r>
            <a:endParaRPr b="0" lang="en-US" sz="2800" spc="-1" strike="noStrike">
              <a:solidFill>
                <a:srgbClr val="000000"/>
              </a:solidFill>
              <a:latin typeface="Arial"/>
            </a:endParaRPr>
          </a:p>
        </p:txBody>
      </p:sp>
      <p:sp>
        <p:nvSpPr>
          <p:cNvPr id="44" name=""/>
          <p:cNvSpPr/>
          <p:nvPr/>
        </p:nvSpPr>
        <p:spPr>
          <a:xfrm>
            <a:off x="2050920" y="189000"/>
            <a:ext cx="7561440" cy="4525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Primer viaje de Colón (agosto-marz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Bula Inter caetera</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Segundo viaje de Colón (septiembre-juni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Tratado de Tordesillas</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Rebelión contra los hermanos Colón</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Fundación de Santo Doming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Tercer viaje de Colón (mayo-noviembr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a:t>
            </a:r>
            <a:r>
              <a:rPr b="0" lang="es-CL" sz="2800" spc="-1" strike="noStrike">
                <a:solidFill>
                  <a:srgbClr val="000000"/>
                </a:solidFill>
                <a:latin typeface="Book Antiqua"/>
              </a:rPr>
              <a:t>Viajes menores”</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rancisco Bobadilla asume gobiern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Gobernador Nicolás de Ovand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uarto viaje de Colón (mayo-noviembr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Expediciones a Tierra Firm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quista de Cub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45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t>
            </a:r>
            <a:r>
              <a:rPr b="0" lang="es-ES" sz="2000" spc="-1" strike="noStrike">
                <a:solidFill>
                  <a:srgbClr val="000000"/>
                </a:solidFill>
                <a:latin typeface="Book Antiqua"/>
              </a:rPr>
              <a:t>De parte de los Reyes, sus criados os notificamos y hacemos saber, como mejor podemos, que Dios nuestro Señor, uno y eterno, creó el cielo y la tierra, y un hombre y una mujer, de quien nos y vosotros y todos los hombres del mundo fueron y son descendientes y procre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todas estas gentes Dios nuestro Señor dio cargo a uno, que fue llamado S. Pedro, […] dióle todo el mundo por su Reino y jurisdicción</a:t>
            </a:r>
            <a:r>
              <a:rPr b="1" lang="es-ES" sz="2000" spc="-1" strike="noStrike">
                <a:solidFill>
                  <a:srgbClr val="000000"/>
                </a:solidFill>
                <a:latin typeface="Book Antiqua"/>
              </a:rPr>
              <a:t> </a:t>
            </a:r>
            <a:r>
              <a:rPr b="0" lang="es-ES" sz="2000" spc="-1" strike="noStrike">
                <a:solidFill>
                  <a:srgbClr val="000000"/>
                </a:solidFill>
                <a:latin typeface="Book Antiqua"/>
              </a:rPr>
              <a:t>[…]</a:t>
            </a:r>
            <a:r>
              <a:rPr b="1" lang="es-ES" sz="2000" spc="-1" strike="noStrike">
                <a:solidFill>
                  <a:srgbClr val="000000"/>
                </a:solidFill>
                <a:latin typeface="Book Antiqua"/>
              </a:rPr>
              <a:t> </a:t>
            </a:r>
            <a:r>
              <a:rPr b="0" lang="es-ES" sz="2000" spc="-1" strike="noStrike">
                <a:solidFill>
                  <a:srgbClr val="000000"/>
                </a:solidFill>
                <a:latin typeface="Book Antiqua"/>
              </a:rPr>
              <a:t>Uno de los Pontífices pasados […] como señor del mundo hizo donación de estas islas y tierra firme del mar Océano a los dichos Rey y Re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Por ende, como mejor podemos, os rogamos y requerimos que entendáis bien esto que os hemos dicho […] y reconozcáis a la Iglesia por señora y superiora del universo mundo, y al Sumo Pontífice, llamado Papa, en su nombre, y nuestros señores, en su lugar, como a superiores y Reyes de esas islas y tierra firme […] Si así lo hicieseis, haréis bien […] os recibiremos con todo amor y car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Y si así no lo hicieseis o en ello maliciosamente pusieseis dilación […] entraremos poderosamente contra vosotros, y os haremos guerra por todas las partes y maneras que pudiéramos […] tomaremos vuestras personas y de vuestras mujeres e hijos y los haremos esclavos, y como tales los venderemos y dispondremos de ellos […] y os tomaremos vuestros bienes, y os haremos todos los males y daños que pudiéramo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como lo decimos y requerimos pedimos al presente escribano que nos lo dé por testimonio signado</a:t>
            </a:r>
            <a:r>
              <a:rPr b="0" lang="es-ES" sz="2000" spc="-1" strike="noStrike" u="sng">
                <a:solidFill>
                  <a:srgbClr val="009999"/>
                </a:solidFill>
                <a:uFillTx/>
                <a:latin typeface="Book Antiqua"/>
                <a:hlinkClick r:id="rId1"/>
              </a:rPr>
              <a:t> </a:t>
            </a:r>
            <a:r>
              <a:rPr b="0" lang="es-ES" sz="2000" spc="-1" strike="noStrike">
                <a:solidFill>
                  <a:srgbClr val="000000"/>
                </a:solidFill>
                <a:latin typeface="Book Antiqua"/>
              </a:rPr>
              <a:t>, y a los presente rogamos que de ello sean testig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5843520"/>
          </a:xfrm>
          <a:prstGeom prst="rect">
            <a:avLst/>
          </a:prstGeom>
          <a:ln w="0">
            <a:noFill/>
          </a:ln>
        </p:spPr>
      </p:pic>
      <p:sp>
        <p:nvSpPr>
          <p:cNvPr id="83" name=""/>
          <p:cNvSpPr/>
          <p:nvPr/>
        </p:nvSpPr>
        <p:spPr>
          <a:xfrm>
            <a:off x="3780000" y="6021360"/>
            <a:ext cx="504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Fuente: Bernand y Gruzinski, </a:t>
            </a:r>
            <a:r>
              <a:rPr b="0" i="1" lang="es-CL" sz="1400" spc="-1" strike="noStrike">
                <a:solidFill>
                  <a:srgbClr val="000000"/>
                </a:solidFill>
                <a:latin typeface="Book Antiqua"/>
              </a:rPr>
              <a:t>Historia del Nuevo Mundo. Del descubrimiento a la conquista. La experiencia europea, 1492-1550</a:t>
            </a:r>
            <a:endParaRPr b="0" lang="en-US" sz="1400" spc="-1" strike="noStrike">
              <a:solidFill>
                <a:srgbClr val="000000"/>
              </a:solidFill>
              <a:latin typeface="Arial"/>
            </a:endParaRPr>
          </a:p>
        </p:txBody>
      </p:sp>
      <p:sp>
        <p:nvSpPr>
          <p:cNvPr id="84" name=""/>
          <p:cNvSpPr/>
          <p:nvPr/>
        </p:nvSpPr>
        <p:spPr>
          <a:xfrm>
            <a:off x="2124000" y="4076640"/>
            <a:ext cx="15829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Nombre de Di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0)</a:t>
            </a:r>
            <a:endParaRPr b="0" lang="en-US" sz="1400" spc="-1" strike="noStrike">
              <a:solidFill>
                <a:srgbClr val="000000"/>
              </a:solidFill>
              <a:latin typeface="Arial"/>
            </a:endParaRPr>
          </a:p>
        </p:txBody>
      </p:sp>
      <p:sp>
        <p:nvSpPr>
          <p:cNvPr id="85" name=""/>
          <p:cNvSpPr/>
          <p:nvPr/>
        </p:nvSpPr>
        <p:spPr>
          <a:xfrm>
            <a:off x="3132000" y="4437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332000" y="5229360"/>
            <a:ext cx="15825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anamá</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9)</a:t>
            </a:r>
            <a:endParaRPr b="0" lang="en-US" sz="1400" spc="-1" strike="noStrike">
              <a:solidFill>
                <a:srgbClr val="000000"/>
              </a:solidFill>
              <a:latin typeface="Arial"/>
            </a:endParaRPr>
          </a:p>
        </p:txBody>
      </p:sp>
      <p:sp>
        <p:nvSpPr>
          <p:cNvPr id="87" name=""/>
          <p:cNvSpPr/>
          <p:nvPr/>
        </p:nvSpPr>
        <p:spPr>
          <a:xfrm flipV="1">
            <a:off x="2124000" y="5084280"/>
            <a:ext cx="93528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5640" y="5229360"/>
            <a:ext cx="15829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Darié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0)</a:t>
            </a:r>
            <a:endParaRPr b="0" lang="en-US" sz="1400" spc="-1" strike="noStrike">
              <a:solidFill>
                <a:srgbClr val="000000"/>
              </a:solidFill>
              <a:latin typeface="Arial"/>
            </a:endParaRPr>
          </a:p>
        </p:txBody>
      </p:sp>
      <p:sp>
        <p:nvSpPr>
          <p:cNvPr id="89" name=""/>
          <p:cNvSpPr/>
          <p:nvPr/>
        </p:nvSpPr>
        <p:spPr>
          <a:xfrm flipH="1" flipV="1">
            <a:off x="3708000" y="5300280"/>
            <a:ext cx="358920" cy="73080"/>
          </a:xfrm>
          <a:prstGeom prst="line">
            <a:avLst/>
          </a:prstGeom>
          <a:ln w="93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 name=""/>
          <p:cNvSpPr/>
          <p:nvPr/>
        </p:nvSpPr>
        <p:spPr>
          <a:xfrm>
            <a:off x="3564000" y="1844640"/>
            <a:ext cx="158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4360" y="1628640"/>
            <a:ext cx="777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Los nativos comenzaron a desaparecer ante el avance agresivo de la cultura extranjera. En el término de un siglo se extinguieron y una nueva sociedad de inmigrantes europeos y afrodescendientes tomaron su lugar” </a:t>
            </a:r>
            <a:endParaRPr b="0" lang="en-US" sz="2400" spc="-1" strike="noStrike">
              <a:solidFill>
                <a:srgbClr val="000000"/>
              </a:solidFill>
              <a:latin typeface="Arial"/>
            </a:endParaRPr>
          </a:p>
        </p:txBody>
      </p:sp>
      <p:sp>
        <p:nvSpPr>
          <p:cNvPr id="92" name=""/>
          <p:cNvSpPr/>
          <p:nvPr/>
        </p:nvSpPr>
        <p:spPr>
          <a:xfrm>
            <a:off x="250920" y="5589720"/>
            <a:ext cx="84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John Parry, </a:t>
            </a:r>
            <a:r>
              <a:rPr b="0" i="1" lang="es-ES" sz="1800" spc="-1" strike="noStrike">
                <a:solidFill>
                  <a:srgbClr val="000000"/>
                </a:solidFill>
                <a:latin typeface="Book Antiqua"/>
              </a:rPr>
              <a:t>Historia de las Antillas, 19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9280" y="115920"/>
            <a:ext cx="67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Bartolomé de las Casas (1543)</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ntre 1494 y 1508, 3.000.000 de indígenas, habrían muerto en La Española</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n 1531, sólo quedarían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Pedro Mártir de Anglería (1511)</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Hacia 1496, había uno o dos millones de habitantes en La Españ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lonso de Zuaso (1520)</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más de 1 millón 300 mil habitantes hacia 1500</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ólo quedan 11.000 en 1520</a:t>
            </a:r>
            <a:endParaRPr b="0" lang="en-US" sz="2000" spc="-1" strike="noStrike">
              <a:solidFill>
                <a:srgbClr val="000000"/>
              </a:solidFill>
              <a:latin typeface="Arial"/>
            </a:endParaRPr>
          </a:p>
        </p:txBody>
      </p:sp>
      <p:graphicFrame>
        <p:nvGraphicFramePr>
          <p:cNvPr id="94" name=""/>
          <p:cNvGraphicFramePr/>
          <p:nvPr/>
        </p:nvGraphicFramePr>
        <p:xfrm>
          <a:off x="395280" y="4005360"/>
          <a:ext cx="6635880" cy="2624040"/>
        </p:xfrm>
        <a:graphic>
          <a:graphicData uri="http://schemas.openxmlformats.org/drawingml/2006/table">
            <a:tbl>
              <a:tblPr/>
              <a:tblGrid>
                <a:gridCol w="1346040"/>
                <a:gridCol w="2552760"/>
                <a:gridCol w="273708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blación originaria de La Españo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abitantes europeos de la Españ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49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4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5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5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6360" y="189000"/>
            <a:ext cx="878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t>
            </a:r>
            <a:r>
              <a:rPr b="0" lang="es-ES" sz="2800" spc="-1" strike="noStrike">
                <a:solidFill>
                  <a:srgbClr val="000000"/>
                </a:solidFill>
                <a:latin typeface="Book Antiqua"/>
              </a:rPr>
              <a:t>Item, que de todas y cualesquiera mercaderías, siquiera sean perlas, piedras preciosas, oro, plata, especiería y otras cualesquiera cosas y mercaderías de cualquier especie, nombre y manera que sean, que se compraren, trocaren, hallaren, ganaren y hubieren dentro de los límites de dicho almirantazgo, que desde ahora vuestras altezas hacen merced al dicho don Cristóbal, y quieren que haya y lleve para sí la decena parte de todo ello, quitadas las costas todas que se hicieren en ello, por manera que de lo que quedare limpio y libre haya y tome la dicha décima parte para sí mismo, y haga de ello a su voluntad, quedando las otras nueve partes para vuestras altezas. Place a sus altezas” </a:t>
            </a:r>
            <a:endParaRPr b="0" lang="en-US" sz="2800" spc="-1" strike="noStrike">
              <a:solidFill>
                <a:srgbClr val="000000"/>
              </a:solidFill>
              <a:latin typeface="Arial"/>
            </a:endParaRPr>
          </a:p>
        </p:txBody>
      </p:sp>
      <p:sp>
        <p:nvSpPr>
          <p:cNvPr id="46" name=""/>
          <p:cNvSpPr/>
          <p:nvPr/>
        </p:nvSpPr>
        <p:spPr>
          <a:xfrm>
            <a:off x="863640" y="6093000"/>
            <a:ext cx="828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Capitulaciones de Santa Fe, 17 de abril de 14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260280"/>
            <a:ext cx="9144000" cy="5770800"/>
          </a:xfrm>
          <a:prstGeom prst="rect">
            <a:avLst/>
          </a:prstGeom>
          <a:ln w="0">
            <a:noFill/>
          </a:ln>
        </p:spPr>
      </p:pic>
      <p:sp>
        <p:nvSpPr>
          <p:cNvPr id="48" name=""/>
          <p:cNvSpPr/>
          <p:nvPr/>
        </p:nvSpPr>
        <p:spPr>
          <a:xfrm>
            <a:off x="3995640" y="6165720"/>
            <a:ext cx="504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Fuente: Bernand y Gruzinski, </a:t>
            </a:r>
            <a:r>
              <a:rPr b="0" i="1" lang="es-CL" sz="1400" spc="-1" strike="noStrike">
                <a:solidFill>
                  <a:srgbClr val="000000"/>
                </a:solidFill>
                <a:latin typeface="Book Antiqua"/>
              </a:rPr>
              <a:t>Historia del Nuevo Mundo. Del descubrimiento a la conquista. La experiencia europea, 1492-1550</a:t>
            </a:r>
            <a:endParaRPr b="0" lang="en-US" sz="1400" spc="-1" strike="noStrike">
              <a:solidFill>
                <a:srgbClr val="000000"/>
              </a:solidFill>
              <a:latin typeface="Arial"/>
            </a:endParaRPr>
          </a:p>
        </p:txBody>
      </p:sp>
      <p:sp>
        <p:nvSpPr>
          <p:cNvPr id="49" name=""/>
          <p:cNvSpPr/>
          <p:nvPr/>
        </p:nvSpPr>
        <p:spPr>
          <a:xfrm flipH="1">
            <a:off x="5292360" y="2195640"/>
            <a:ext cx="14292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219640" y="197964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Book Antiqua"/>
              </a:rPr>
              <a:t>Navidad</a:t>
            </a:r>
            <a:endParaRPr b="0" lang="en-US" sz="1200" spc="-1" strike="noStrike">
              <a:solidFill>
                <a:srgbClr val="000000"/>
              </a:solidFill>
              <a:latin typeface="Arial"/>
            </a:endParaRPr>
          </a:p>
        </p:txBody>
      </p:sp>
      <p:sp>
        <p:nvSpPr>
          <p:cNvPr id="51" name=""/>
          <p:cNvSpPr/>
          <p:nvPr/>
        </p:nvSpPr>
        <p:spPr>
          <a:xfrm>
            <a:off x="8459640" y="5445000"/>
            <a:ext cx="6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260280"/>
            <a:ext cx="8496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Señor, porque sé que habréis placer de la gran victoria que Nuestro Señor me ha dado en mi viaje, vos escribo ésta, por la cual sabréis como en 33 días pasé de las islas de Canaria a las Indias con la armada que los ilustrísimos rey y reina nuestros señores me dieron, donde yo hallé muy muchas islas pobladas con gente sin número; y de ellas todas he tomado posesión por Sus Altezas con pregón y bandera real extendida, y no me fue contradicho. A la primera que yo hallé puse nombre San Salvador a conmemoración de Su Alta Majestad, el cual maravillosamente todo esto ha dado; los Indios la llaman Guanahaní; a la segunda puse nombre la isla de Santa María de Concepción; a la tercera Fernandina; a la cuarta la Isabela; a la quinta la isla Juana, y así a cada una nombre nuevo” </a:t>
            </a:r>
            <a:endParaRPr b="0" lang="en-US" sz="2400" spc="-1" strike="noStrike">
              <a:solidFill>
                <a:srgbClr val="000000"/>
              </a:solidFill>
              <a:latin typeface="Arial"/>
            </a:endParaRPr>
          </a:p>
        </p:txBody>
      </p:sp>
      <p:sp>
        <p:nvSpPr>
          <p:cNvPr id="53" name=""/>
          <p:cNvSpPr/>
          <p:nvPr/>
        </p:nvSpPr>
        <p:spPr>
          <a:xfrm>
            <a:off x="324000" y="5734080"/>
            <a:ext cx="8351640" cy="10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t>
            </a:r>
            <a:r>
              <a:rPr b="0" lang="es-ES" sz="1800" spc="-1" strike="noStrike">
                <a:solidFill>
                  <a:srgbClr val="000000"/>
                </a:solidFill>
                <a:latin typeface="Book Antiqua"/>
              </a:rPr>
              <a:t>Fecha en la carabela, sobre las islas de Canaria, a 15 de febrero, año 1493” </a:t>
            </a:r>
            <a:r>
              <a:rPr b="0" lang="es-CL" sz="1800" spc="-1" strike="noStrike">
                <a:solidFill>
                  <a:srgbClr val="000000"/>
                </a:solidFill>
                <a:latin typeface="Book Antiqua"/>
              </a:rPr>
              <a:t>Cristóbal Colón a Luis de Santáng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476280"/>
            <a:ext cx="79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a:t>
            </a:r>
            <a:r>
              <a:rPr b="0" lang="es-ES" sz="2800" spc="-1" strike="noStrike">
                <a:solidFill>
                  <a:srgbClr val="000000"/>
                </a:solidFill>
                <a:latin typeface="Book Antiqua"/>
              </a:rPr>
              <a:t>El Romano Pontífice, sucesor de quien tiene las llaves del reino celestial y Vicario de Jesucristo, discurriendo con cuidado paternal sobre todas las regiones del mundo y las cualidades de los pueblos que viven en ellas (…) para que las ovejas que de arriba le fueron confiadas se reduzcan al redil único del Señor y obtengan para sí el premio de la felicidad eterna, e impetra el perdón de las almas. ”</a:t>
            </a:r>
            <a:endParaRPr b="0" lang="en-US" sz="2800" spc="-1" strike="noStrike">
              <a:solidFill>
                <a:srgbClr val="000000"/>
              </a:solidFill>
              <a:latin typeface="Arial"/>
            </a:endParaRPr>
          </a:p>
        </p:txBody>
      </p:sp>
      <p:sp>
        <p:nvSpPr>
          <p:cNvPr id="55" name=""/>
          <p:cNvSpPr/>
          <p:nvPr/>
        </p:nvSpPr>
        <p:spPr>
          <a:xfrm>
            <a:off x="1187280" y="537372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1936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Como llegase a noticia de este Infante que nunca […] se había navegado por este mar Océano hacia las costas meridionales y orientales […] creyendo prestar en esto un servicio a Dios, por su esfuerzo e industria hacía navegable el referido mar hasta los indios, que, según se dice, adoran el nombre de Cristo, de manera que pudiese entrar en relación con ellos y moverlos en auxilio de los cristianos contra los sarracenos y los otros enemigos de la Fe […] Por eso, siempre bajo la autoridad real, de veinticinco años a esta parte, con grandes trabajos, peligros y gastos, casi todos los años no ha cesado de enviar en navíos muy ligeros, que llaman carabelas, un ejército de gentes de dichos reinos a descubrir el mar y las provincias marítimas hacia las partes meridionales y el polo antártico” </a:t>
            </a:r>
            <a:endParaRPr b="0" lang="en-US" sz="2400" spc="-1" strike="noStrike">
              <a:solidFill>
                <a:srgbClr val="000000"/>
              </a:solidFill>
              <a:latin typeface="Arial"/>
            </a:endParaRPr>
          </a:p>
        </p:txBody>
      </p:sp>
      <p:sp>
        <p:nvSpPr>
          <p:cNvPr id="57" name=""/>
          <p:cNvSpPr/>
          <p:nvPr/>
        </p:nvSpPr>
        <p:spPr>
          <a:xfrm>
            <a:off x="1332000" y="5950080"/>
            <a:ext cx="7561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9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Después de ello, muchos guineos y otros negros, capturados por la fuerza, y también algunos por cambio con cosas no prohibidas o por otro contrato legítimo de compra, fueron traídos a estos reinos citados; de los cuales, en ellos, un gran número se convirtieron a la Fe católica, esperándose que, con ayuda de la divina clemencia, si continúa con ellos el progreso de este modo, estos pueblos se convertirán a la Fe o al menos las almas de muchos de ellos se salvarán en Cristo” </a:t>
            </a:r>
            <a:endParaRPr b="0" lang="en-US" sz="2800" spc="-1" strike="noStrike">
              <a:solidFill>
                <a:srgbClr val="000000"/>
              </a:solidFill>
              <a:latin typeface="Arial"/>
            </a:endParaRPr>
          </a:p>
        </p:txBody>
      </p:sp>
      <p:sp>
        <p:nvSpPr>
          <p:cNvPr id="59" name=""/>
          <p:cNvSpPr/>
          <p:nvPr/>
        </p:nvSpPr>
        <p:spPr>
          <a:xfrm>
            <a:off x="1403280" y="587700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189000"/>
            <a:ext cx="82072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 se conceda] facultad plena y libre para a cualesquier sarracenos y paganos y otros enemigos de Cristo, en cualquier parte que estuviesen, y a los reinos, ducados, principados, señoríos, posesiones y bienes muebles e inmuebles, tenidos y poseídos por ellos, invadirlos, conquistarlos, combatirlos, vencerlos y someterlos; y reducir a servidumbre perpetua a las personas de los mismos, y atribuirse para sí y sus sucesores y apropiarse y aplicar para uso y utilidad suya y de sus sucesores, sus reinos, ducados, condados, principados, señoríos, posesiones y bienes de ellos”</a:t>
            </a:r>
            <a:endParaRPr b="0" lang="en-US" sz="2800" spc="-1" strike="noStrike">
              <a:solidFill>
                <a:srgbClr val="000000"/>
              </a:solidFill>
              <a:latin typeface="Arial"/>
            </a:endParaRPr>
          </a:p>
        </p:txBody>
      </p:sp>
      <p:sp>
        <p:nvSpPr>
          <p:cNvPr id="61" name=""/>
          <p:cNvSpPr/>
          <p:nvPr/>
        </p:nvSpPr>
        <p:spPr>
          <a:xfrm>
            <a:off x="1258920" y="6237360"/>
            <a:ext cx="7561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3:25:49Z</dcterms:created>
  <dc:creator>Alejandra</dc:creator>
  <dc:description/>
  <dc:language>en-US</dc:language>
  <cp:lastModifiedBy>Pedro</cp:lastModifiedBy>
  <dcterms:modified xsi:type="dcterms:W3CDTF">2009-11-13T21:08:34Z</dcterms:modified>
  <cp:revision>115</cp:revision>
  <dc:subject/>
  <dc:title>Modulo II</dc:title>
</cp:coreProperties>
</file>