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033-08A9-4FE9-A181-BDFCE2E9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68E-8370-4B7B-92DC-CA357B5A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A98-7ADF-4DEE-8539-3FE1DD8C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066-37B3-4D81-9BF1-0A4D8CA7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9D67-020E-4C4B-8644-99BB54E2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4CB2-CD3B-4ADB-BFBE-19E439ED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B1C4-6AD2-4A32-BEEC-609F6AE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FD57-852E-464F-B4F8-7C4A12E3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AAD9-45E1-4260-A06A-8F202768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594A-A954-4BC3-A5C8-9265B9A8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0A1A-1E5E-4F1C-9AF5-E23159B9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1D1-7206-4049-B114-2396608C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A9F6-6B40-407F-89C5-4672E72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E384-6A15-4DA6-B9AC-E4BB2E00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382B-885D-4D82-894A-A329FF3C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A3E3-5288-496B-9106-72B8BAA9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3D3C-8A50-4BC9-A737-D671DF38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78E-513E-4D93-B002-2875B9DA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F8D-50A9-46F9-B9C1-7E51111B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C1F-D86F-4A4C-8257-C3BEF91B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376-0A92-4427-9B40-2233B67A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470-CA7C-4AE9-8065-BE2BED5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411-75FB-4273-B8E2-FEEDF16D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8F7-7247-4DFD-9570-DE3A712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57BC-9F87-4609-AD38-D79C694862F6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EC30-CCD9-4345-82B8-3C8674AFD385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600" spc="-1" strike="noStrike">
                <a:solidFill>
                  <a:srgbClr val="ffffb7"/>
                </a:solidFill>
                <a:latin typeface="Garamond"/>
              </a:rPr>
              <a:t>El judeo-español</a:t>
            </a:r>
            <a:r>
              <a:rPr b="0" lang="es-CL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r>
              <a:rPr b="0" lang="he-IL" sz="4800" spc="-1" strike="noStrike">
                <a:solidFill>
                  <a:srgbClr val="ffffb7"/>
                </a:solidFill>
                <a:latin typeface="Arial Black"/>
                <a:cs typeface="Tahoma"/>
              </a:rPr>
              <a:t>גודיאו-איספאנייול</a:t>
            </a:r>
            <a:r>
              <a:rPr b="1" lang="es-E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b7"/>
                </a:solidFill>
                <a:latin typeface="Garamond"/>
              </a:rPr>
              <a:t>Tránsito del español medieval al español moderno: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Garamond"/>
              </a:rPr>
              <a:t>Con el </a:t>
            </a:r>
            <a:r>
              <a:rPr b="1" i="1" lang="es-ES" sz="4000" spc="-1" strike="noStrike">
                <a:solidFill>
                  <a:srgbClr val="ffffb7"/>
                </a:solidFill>
                <a:latin typeface="Garamond"/>
              </a:rPr>
              <a:t>reajuste fonológico</a:t>
            </a:r>
            <a:r>
              <a:rPr b="1" lang="es-ES" sz="4000" spc="-1" strike="noStrike">
                <a:solidFill>
                  <a:srgbClr val="ffffb7"/>
                </a:solidFill>
                <a:latin typeface="Garamond"/>
              </a:rPr>
              <a:t> (siglos XVI y XVII), aparecen nuevos fonemas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/x/ velar fricativa áfona: &lt; j 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/θ / interdental fricativa áfona: &lt; z 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n el  judeo-español, no se presentan estas consonantes del reajuste fonológico características del español modern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s decir, se mantienen los sonidos medievales, arcaísmos, dialectalismos e innovacion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b7"/>
                </a:solidFill>
                <a:latin typeface="Garamond"/>
              </a:rPr>
              <a:t>Características del español de los judíos durante la Edad Med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bido al carácter restringido de la comunidad judía, el español usado por éstos ya tenía algunas peculiaridades en la Edad Med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1. Fonético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pócope –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nief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niev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2. Morfología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1492:</a:t>
            </a:r>
            <a:br>
              <a:rPr sz="5400"/>
            </a:br>
            <a:r>
              <a:rPr b="1" i="1" lang="es-ES" sz="5400" spc="-1" strike="noStrike">
                <a:solidFill>
                  <a:srgbClr val="ffffb7"/>
                </a:solidFill>
                <a:latin typeface="Garamond"/>
              </a:rPr>
              <a:t>Annus mirabili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Terminación en algunos verbos causa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&lt; lat. –ificare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amuch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‘multiplicar’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abiv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‘vivificar’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aboniguar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‘beneficiar’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fruch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‘dar fruto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[-ificare &gt; -ibigar&gt; -ib’gar&gt; iugar&gt; igwa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3. Léxico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erivaciones particulares del lat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ienes qu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‘a causa de que’, ‘porque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&lt; lat. Pĕnes, ‘en poder de’, ‘en posesión de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romin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&lt; lat. Propinquus, ‘acercars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nnin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&lt; longinquus, ‘alejars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Otros us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meld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meditar’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eer libros sagrados’, ‘leer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hues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&gt; güesmo  ‘olor’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igura etimológica intensiv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nfuercen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na uéndida esta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forzamiento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plido a por consieglo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special caso ideológic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io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‘Dio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Voces hebre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quinna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compromiso bajo juramento’ (&lt; quinyá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lgunos occidentalism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smazala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indolente, irresoluto, descuidado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all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smacela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port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smazela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&lt;macĕl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b7"/>
                </a:solidFill>
                <a:latin typeface="Garamond"/>
              </a:rPr>
              <a:t>El ladino y el  judesmo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Judeo-español escrito (producto de las traducciones bíblicas) se diferencia del judeo-español hablado, también conocido como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judes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/žudezmo/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Descubrimiento de Amé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xpulsión de los moros de Españ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Publicación de la primera gramática románica Nebr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xpulsión de los judíos de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fluencia del judeo-español escrito en el habla se traduce en un lenguaje híbrido, que se ajusta literalmente al texto hebreo en su semántica, fraseología y sint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iblia de Constantinopla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(1547)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iblia de Ferrar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155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e lenguaje artificioso es denominado por las comunidades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adin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lenguaje de uso general, hablado,  se ha denominad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judes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/žudezmo/) por las comun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Garamond"/>
              </a:rPr>
              <a:t>Características del </a:t>
            </a:r>
            <a:br>
              <a:rPr sz="6000"/>
            </a:br>
            <a:r>
              <a:rPr b="1" lang="es-ES" sz="6000" spc="-1" strike="noStrike">
                <a:solidFill>
                  <a:srgbClr val="ffffb7"/>
                </a:solidFill>
                <a:latin typeface="Garamond"/>
              </a:rPr>
              <a:t>judeo-español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rcaí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bido a que la diáspora de los judíos hispanos comenzó a raíz de las matanzas de 139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1. Fonética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special desarrollo de las sibil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l igual que lo ocurrido con el Español Atlántico, se extendieron las dentales, pero se mantuvo la distinción de sonoridad, algo que no ocurrió en el español centro-norteño y en el español atlán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1547 (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iblia de Constantinopl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 se atestigua el primer caso de sustitución de apicales por dentales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çeo,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no te ç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erv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los Balcanes y Asia Menor quedan restos de la /dz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 africada medieval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onz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ozen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Se palataliza la /–s/: /moška/, /piškadu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3165480"/>
            <a:ext cx="8901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Condición del español como lengua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trasplanta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Las sibilantes palatales /š/ y /ž/mantienen su pronunciación palatal medieval sorda: /dišo/ y sonora: /hižo/, /žugar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b y v: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Marruecos se pierde la distinción  en favor de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como oclusiva y fricativ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Los Balcanes y Nueva York se mantiene la distinción en favor de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f– &gt; h– &gt; </a:t>
            </a:r>
            <a:r>
              <a:rPr b="1" lang="es-ES" sz="4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acilación en el uso de /f–/: /fazer/, /ferir/ (en los Balcane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piración en /kehazer/, /hermozu/ (Turquía, Rumania y Bulgari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 la pérdida: /ižo/, /ermozu/ (Marruec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2. Morfológica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lutinación del imperativo con el pronombre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quitalde, traíld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3. Sintáctica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mas gramaticales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s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t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ado&gt;va’o&gt;vo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m&gt; su&gt; so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to&gt; 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¿Y qué sucedió en el españ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m, do, sto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ibi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estoy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aquí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bi&gt; i’i&gt; i &gt; (so)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¿Qué fue del pueblo sefardí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Garamond"/>
              </a:rPr>
              <a:t>Otras particularidades sintáctica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En terminaciones com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topás, querés, sos, amá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mad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Como tratamiento de respeto se utiliz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o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Marruecos) y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él, ey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Orient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4. Léxica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bsisten palabras que son anticuadas en Españ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gora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vagaroz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ent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mat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pag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mbez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esp. ant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bez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)‘enseñ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güerc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(esp. ant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huer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 ‘diabl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Symbol"/>
                <a:ea typeface="Symbol"/>
              </a:rPr>
              <a:t></a:t>
            </a: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 </a:t>
            </a: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Algunos dialectalismo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ind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ún’ (gallego)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ns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oso’ (aragonés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šamarad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lamarada’ (leonés y portugués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noš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enoj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mbirrarse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enfurecerse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froñ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funda’ (lusism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nnovaciones de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judeo-españ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El seseo (meridionalis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Se mantiene la  sonoridad en las sibil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Yeísmo (meridionalis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Pérdida /–y– / antecedida o precedida de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kastío, bolsío, amaría, gaína, aí, e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Prótesis y epéntesi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s–[ue]/ &gt; /{e, i}s– {f, h}[ue]/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fuegr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sfuegr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suegra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fue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sfue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zuec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fueñ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sfueñ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sueñ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Epéntesis de [w] en velares y labi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agu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ag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gua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gat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uadre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padre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l pueblo sefardí se estableció en diversos puntos del Imperi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etáte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codrarsi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cordarse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guad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guard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edri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verde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iptong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Vacilación en las diptongacion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rog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rueg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queres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quieres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re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priet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nalogí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n–/ &gt; /m–/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mosotros, mos, mueb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alatal nasal pierde su carácter palatal en el judeoespañ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ni/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niu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uniu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Marruecos, se presenta la total despalatización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nil, menique, panuel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El siglo XX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el siglo XX el judeoespañol experimenta un rápido decl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r un lado, el Holocausto nazi que aniquiló comunidades enteras, como la numerosa comunidad de Salón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exterminación sistemática de la población judía en los campos de concentración es el acontecimiento histórico más duro que sufren las comunidades sefardíes desde su expulsión de 14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r otro lado, las migraciones causadas por la propia guerra y posteriormente por la creación del Estado de Israel propiciaron el desmembramiento y aculturación de las comunidad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penas cinco años la lengua Sefardíes perdió al 90% de sus hablant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Turquía, Holanda, norte de Francia, norte de África, la zona balcánica y Estados Unidos (Nueva York) después de la Segunda Guerra Mundi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o significó para el judeo-español dejar de tener un punto de localización reconocible y perder a quienes mejor hubieran podido abrir nuevos caminos hacia la normalización de una lengua: los escritores y creadores liter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mantenimiento del judeoespañol como signo de identidad judía tenía poco sentido en Israel, donde una lengua considerada más propia de los judíos, el hebreo, había sido resucitada como lengua viv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 Israel se trasladaron la mayor parte de los sefardíes de Marruecos, emigrados masivamente en los años 5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sefardíes emigrados a países de habla hispana abandonaron rápidamente su lengua en favor del español, y las comunidades de Francia o Estados Unidos lo mantuvieron durante un tiempo, aunque relegándolo cada vez más al ámbito doméstico o de las relaciones so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número de hablantes de judeoespañol ronda hoy los 150.00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Iberoamérica hay comunidades donde el ladino y las tradiciones sefardíes han sido parte integral de su historia y cultura, por ejemplo en países como Puerto Rico, Cuba, Bolivia, Brasil, entre otr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Israel se mantiene una revista en judeoespañol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ki Yerushalayim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"Aquí Jerusalén"), editada por la Autoridad Nasionala del Ladino y una emisión semanal de radio en la emisora Kol Isra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gualmente Radio Exterior de España emite el program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ozes de Sefarad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que recientemente cumplió 20 años al ai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s comunidades sefardíes más numerosas fuera de Israel están en Turquía, donde hay unos 15.000 hablantes. Ahí mismo, el número de periódicos y boletines emitidos en judeoespañol sigue siendo signific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48120" y="1133640"/>
            <a:ext cx="30477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¿Y qué sucedió con su lengua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b7"/>
                </a:solidFill>
                <a:latin typeface="Garamond"/>
              </a:rPr>
              <a:t>LAS KONSEJAS I LOS </a:t>
            </a:r>
            <a:br>
              <a:rPr sz="4800"/>
            </a:br>
            <a:r>
              <a:rPr b="0" lang="es-ES" sz="4800" spc="-1" strike="noStrike">
                <a:solidFill>
                  <a:srgbClr val="ffffb7"/>
                </a:solidFill>
                <a:latin typeface="Garamond"/>
              </a:rPr>
              <a:t>KUENTOS POPULARES DJUDEO-ESPANYOL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Ke azian muestros padres en los tiempos ke no avia ni radio ni televizion i ke el uzo de los sefaradis era de pasar la noche adientro de kaza, kon la famiya o kon los vizino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o de los divertimientos los mas populares de akeyos tiempos era el de sintir las narasiones de kuentos i konsej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vre todo en las largas noches de invierno, kuando eskuresia bien presto i toda la famiya estava en kaza, arekojida al deredor del "tandur", del brazero, ke plazer era de eskuchar los kuentos i las konsejas sovre las fantastikas aventuras de prinsipes o kavayeros barraganes, o de mansevos proves ma intelijentes i korajozo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ke kombatiendo kontra dragos i leones, o kontra ichizeras i reyes krueles, riushian siempre a salvar a sus keridos i a yegar a porto a salvo, malgrado todas las difikultades i todos los peligros ke los enfrentav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l español siguió empleándose en las comunidades sefardíes hasta  constituirse en un código inteligible, aunque se presentan diferencias en grupos más pequeñ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06:03Z</dcterms:created>
  <dc:creator>.</dc:creator>
  <dc:description/>
  <dc:language>en-US</dc:language>
  <cp:lastModifiedBy>Senen Chavez</cp:lastModifiedBy>
  <dcterms:modified xsi:type="dcterms:W3CDTF">2009-10-23T17:10:45Z</dcterms:modified>
  <cp:revision>6</cp:revision>
  <dc:subject/>
  <dc:title>El judeo-español  </dc:title>
</cp:coreProperties>
</file>