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1FCA-238A-4FD4-A952-2106B3B33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713B-D5EB-4CA2-BF90-37844BAF0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DAA6-F4A4-4B7C-8798-0C35D13D8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45C8-73C1-44B4-8608-2700D1D5B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14D17-41A8-4D7F-8071-54C3192D5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906FF-AA23-4CFB-866F-B99A99D2D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72D17-D2C0-4062-AF4F-13533C1A5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D4DD1-FE06-4104-B797-9CA0E680B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C5F54-F03E-4028-95BA-315CCFDF9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12F0D-3101-4E34-904B-9AE533F76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4A592-E6B3-48A5-B101-391F8A7CE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EBD8-A278-4CA4-B712-89C8DC041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C5A62-6852-41B8-9318-1F096F074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7B8AA-7071-4176-8D95-A43386824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B8794-145A-4ED5-B7CF-9CBB365F2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E81EE-C1BF-468A-B435-86CEB1B29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C4F7E-CFA6-4659-89E8-7983C5AC0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A11C-312E-4EBA-B982-D9BAFB48D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F889-88AA-4759-B4FA-1657B2935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7141-C506-43FB-A307-6FBFA3D1E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F6DC-75FC-4CDC-9EF4-47E90BE44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3B81-76E9-444D-A301-42BC312EB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3ADD-759B-4AA2-848C-AEB3F5ED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4F05-186C-4005-9204-157A874B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4EA67-C710-4C1C-AC3E-077FF890B6DF}" type="slidenum"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B18A4-B16D-4A13-8570-339684B3647C}" type="slidenum"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6600" spc="-1" strike="noStrike">
                <a:solidFill>
                  <a:srgbClr val="ffffb7"/>
                </a:solidFill>
                <a:latin typeface="Garamond"/>
              </a:rPr>
              <a:t>El judeo-español</a:t>
            </a:r>
            <a:r>
              <a:rPr b="0" lang="es-CL" sz="48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4800"/>
            </a:br>
            <a:r>
              <a:rPr b="0" lang="he-IL" sz="4800" spc="-1" strike="noStrike">
                <a:solidFill>
                  <a:srgbClr val="ffffb7"/>
                </a:solidFill>
                <a:latin typeface="Arial Black"/>
                <a:cs typeface="Tahoma"/>
              </a:rPr>
              <a:t>גודיאו-איספאנייול</a:t>
            </a:r>
            <a:r>
              <a:rPr b="1" lang="es-ES" sz="48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b7"/>
                </a:solidFill>
                <a:latin typeface="Garamond"/>
              </a:rPr>
              <a:t>Tránsito del español medieval al español moderno:</a:t>
            </a:r>
            <a:br>
              <a:rPr sz="4800"/>
            </a:b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b7"/>
                </a:solidFill>
                <a:latin typeface="Garamond"/>
              </a:rPr>
              <a:t>Con el </a:t>
            </a:r>
            <a:r>
              <a:rPr b="1" i="1" lang="es-ES" sz="4000" spc="-1" strike="noStrike">
                <a:solidFill>
                  <a:srgbClr val="ffffb7"/>
                </a:solidFill>
                <a:latin typeface="Garamond"/>
              </a:rPr>
              <a:t>reajuste fonológico</a:t>
            </a:r>
            <a:r>
              <a:rPr b="1" lang="es-ES" sz="4000" spc="-1" strike="noStrike">
                <a:solidFill>
                  <a:srgbClr val="ffffb7"/>
                </a:solidFill>
                <a:latin typeface="Garamond"/>
              </a:rPr>
              <a:t> (siglos XVI y XVII), aparecen nuevos fonemas: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/x/ velar fricativa áfona: &lt; j &g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/θ / interdental fricativa áfona: &lt; z &g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En el  judeo-español, no se presentan estas consonantes del reajuste fonológico características del español moderno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Es decir, se mantienen los sonidos medievales, arcaísmos, dialectalismos e innovacion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b7"/>
                </a:solidFill>
                <a:latin typeface="Garamond"/>
              </a:rPr>
              <a:t>Características del español de los judíos durante la Edad Media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Debido al carácter restringido de la comunidad judía, el español usado por éstos ya tenía algunas peculiaridades en la Edad Medi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b7"/>
                </a:solidFill>
                <a:latin typeface="Garamond"/>
              </a:rPr>
              <a:t>1. Fonético: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Apócope –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nief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‘niev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b7"/>
                </a:solidFill>
                <a:latin typeface="Garamond"/>
              </a:rPr>
              <a:t>2. Morfología: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b7"/>
                </a:solidFill>
                <a:latin typeface="Garamond"/>
              </a:rPr>
              <a:t>1492:</a:t>
            </a:r>
            <a:br>
              <a:rPr sz="5400"/>
            </a:br>
            <a:r>
              <a:rPr b="1" i="1" lang="es-ES" sz="5400" spc="-1" strike="noStrike">
                <a:solidFill>
                  <a:srgbClr val="ffffb7"/>
                </a:solidFill>
                <a:latin typeface="Garamond"/>
              </a:rPr>
              <a:t>Annus mirabili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Terminación en algunos verbos causativ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Garamond"/>
              </a:rPr>
              <a:t>–</a:t>
            </a:r>
            <a:r>
              <a:rPr b="1" i="1" lang="es-ES" sz="2800" spc="-1" strike="noStrike">
                <a:solidFill>
                  <a:srgbClr val="ffffff"/>
                </a:solidFill>
                <a:latin typeface="Garamond"/>
              </a:rPr>
              <a:t>iguar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(&lt; lat. –ificare)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Garamond"/>
              </a:rPr>
              <a:t>amuchiguar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‘multiplicar’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Garamond"/>
              </a:rPr>
              <a:t>abiviguar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‘vivificar’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Garamond"/>
              </a:rPr>
              <a:t>aboniguar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‘beneficiar’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Garamond"/>
              </a:rPr>
              <a:t>fruchiguar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‘dar fruto’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[-ificare &gt; -ibigar&gt; -ib’gar&gt; iugar&gt; igwar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b7"/>
                </a:solidFill>
                <a:latin typeface="Garamond"/>
              </a:rPr>
              <a:t>3. Léxico: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Derivaciones particulares del latí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pienes que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‘a causa de que’, ‘porque’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&lt; lat. Pĕnes, ‘en poder de’, ‘en posesión de’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prominco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&lt; lat. Propinquus, ‘acercars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lonninco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&lt; longinquus, ‘alejars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Otros us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meldar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‘meditar’ </a:t>
            </a:r>
            <a:r>
              <a:rPr b="0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‘leer libros sagrados’, ‘leer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huesmo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&gt; güesmo  ‘olor’</a:t>
            </a: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Figura etimológica intensiv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‘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Enfuercen</a:t>
            </a:r>
            <a:r>
              <a:rPr b="1" i="1" lang="es-E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enna uéndida esta</a:t>
            </a:r>
            <a:r>
              <a:rPr b="1" i="1" lang="es-E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forzamiento</a:t>
            </a:r>
            <a:r>
              <a:rPr b="1" i="1" lang="es-E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conplido a por consieglo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Especial caso ideológico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Dio</a:t>
            </a:r>
            <a:r>
              <a:rPr b="1" i="1" lang="es-E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‘Dios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Voces hebrea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quinnan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‘compromiso bajo juramento’ (&lt; quinyá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Algunos occidentalism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Desmazalado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‘indolente, irresoluto, descuidado’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gall.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desmacelado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, port.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desmazelado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(&lt;macĕll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6000" spc="-1" strike="noStrike">
                <a:solidFill>
                  <a:srgbClr val="ffffb7"/>
                </a:solidFill>
                <a:latin typeface="Garamond"/>
              </a:rPr>
              <a:t>El ladino y el  judesmo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Judeo-español escrito (producto de las traducciones bíblicas) se diferencia del judeo-español hablado, también conocido como</a:t>
            </a: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s-ES" sz="3200" spc="-1" strike="noStrike">
                <a:solidFill>
                  <a:srgbClr val="ffffff"/>
                </a:solidFill>
                <a:latin typeface="Garamond"/>
              </a:rPr>
              <a:t>judesmo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(/žudezmo/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*Descubrimiento de Amér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*Expulsión de los moros de Españ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*Publicación de la primera gramática románica Nebrij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*Expulsión de los judíos de Españ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Influencia del judeo-español escrito en el habla se traduce en un lenguaje híbrido, que se ajusta literalmente al texto hebreo en su semántica, fraseología y sintax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Biblia de Constantinopla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(1547),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Biblia de Ferrara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(1553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Este lenguaje artificioso es denominado por las comunidades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ladino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El lenguaje de uso general, hablado,  se ha denominado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judesmo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(/žudezmo/) por las comunidad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b7"/>
                </a:solidFill>
                <a:latin typeface="Garamond"/>
              </a:rPr>
              <a:t>Características del </a:t>
            </a:r>
            <a:br>
              <a:rPr sz="6000"/>
            </a:br>
            <a:r>
              <a:rPr b="1" lang="es-ES" sz="6000" spc="-1" strike="noStrike">
                <a:solidFill>
                  <a:srgbClr val="ffffb7"/>
                </a:solidFill>
                <a:latin typeface="Garamond"/>
              </a:rPr>
              <a:t>judeo-español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Su </a:t>
            </a: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arcaísm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Debido a que la diáspora de los judíos hispanos comenzó a raíz de las matanzas de 139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b7"/>
                </a:solidFill>
                <a:latin typeface="Garamond"/>
              </a:rPr>
              <a:t>1. Fonéticas:</a:t>
            </a:r>
            <a:br>
              <a:rPr sz="5400"/>
            </a:b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Especial desarrollo de las sibilan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Al igual que lo ocurrido con el Español Atlántico, se extendieron las dentales, pero se mantuvo la distinción de sonoridad, algo que no ocurrió en el español centro-norteño y en el español atlántic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*En 1547 (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Biblia de Constantinopla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) se atestigua el primer caso de sustitución de apicales por dentales: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deçeo,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‘no te ç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iervas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’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*En los Balcanes y Asia Menor quedan restos de la /dz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/ africada medieval: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onze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dozena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*Se palataliza la /–s/: /moška/, /piškadu/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50920" y="3165480"/>
            <a:ext cx="8901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Condición del español como lengua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trasplantad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*Las sibilantes palatales /š/ y /ž/mantienen su pronunciación palatal medieval sorda: /dišo/ y sonora: /hižo/, /žugar/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b y v:</a:t>
            </a: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*En Marruecos se pierde la distinción  en favor de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b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, como oclusiva y fricativa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*En Los Balcanes y Nueva York se mantiene la distinción en favor de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v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s-E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4400" spc="-1" strike="noStrike">
                <a:solidFill>
                  <a:srgbClr val="ffffff"/>
                </a:solidFill>
                <a:latin typeface="Garamond"/>
              </a:rPr>
              <a:t>f– &gt; h– &gt; </a:t>
            </a:r>
            <a:r>
              <a:rPr b="1" lang="es-ES" sz="4400" spc="-1" strike="noStrike">
                <a:solidFill>
                  <a:srgbClr val="ffffff"/>
                </a:solidFill>
                <a:latin typeface="Symbol"/>
                <a:ea typeface="Symbol"/>
              </a:rPr>
              <a:t></a:t>
            </a:r>
            <a:r>
              <a:rPr b="0" lang="es-ES" sz="4400" spc="-1" strike="noStrike">
                <a:solidFill>
                  <a:srgbClr val="ffffff"/>
                </a:solidFill>
                <a:latin typeface="Garamond"/>
              </a:rPr>
              <a:t> 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Vacilación en el uso de /f–/: /fazer/, /ferir/ (en los Balcanes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Aspiración en /kehazer/, /hermozu/ (Turquía, Rumania y Bulgaria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y la pérdida: /ižo/, /ermozu/ (Marrueco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2. Morfológicas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*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Aglutinación del imperativo con el pronombre: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quitalde, traílde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b7"/>
                </a:solidFill>
                <a:latin typeface="Garamond"/>
              </a:rPr>
              <a:t>3. Sintácticas:</a:t>
            </a:r>
            <a:br>
              <a:rPr sz="5400"/>
            </a:b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Formas gramaticales: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só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estó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vó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dó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vado&gt;va’o&gt;vo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sum&gt; su&gt; so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sto&gt; es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* ¿Y qué sucedió en el españo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sum, do, sto </a:t>
            </a:r>
            <a:r>
              <a:rPr b="0" i="1" lang="es-ES" sz="3200" spc="-1" strike="noStrike" u="sng">
                <a:solidFill>
                  <a:srgbClr val="ffffff"/>
                </a:solidFill>
                <a:uFillTx/>
                <a:latin typeface="Garamond"/>
              </a:rPr>
              <a:t>ibi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(estoy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Garamond"/>
              </a:rPr>
              <a:t>aquí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)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ibi&gt; i’i&gt; i &gt; (so)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b7"/>
                </a:solidFill>
                <a:latin typeface="Garamond"/>
              </a:rPr>
              <a:t>¿Qué fue del pueblo sefardí?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b7"/>
                </a:solidFill>
                <a:latin typeface="Garamond"/>
              </a:rPr>
              <a:t>Otras particularidades sintácticas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* En terminaciones como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topás, querés, sos, amá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‘amad’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* Como tratamiento de respeto se utiliza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vos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(Marruecos) y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él, eya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(Oriente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4. Léxicas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Subsisten palabras que son anticuadas en España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agora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avagarozo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‘lento’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amatar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‘apagar’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ambezar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(esp. ant.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abezar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)‘enseñar’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güerco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(esp. ant.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huerco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) ‘diablo’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b7"/>
                </a:solidFill>
                <a:latin typeface="Symbol"/>
                <a:ea typeface="Symbol"/>
              </a:rPr>
              <a:t></a:t>
            </a:r>
            <a:r>
              <a:rPr b="0" lang="es-ES" sz="5400" spc="-1" strike="noStrike">
                <a:solidFill>
                  <a:srgbClr val="ffffb7"/>
                </a:solidFill>
                <a:latin typeface="Garamond"/>
              </a:rPr>
              <a:t> </a:t>
            </a:r>
            <a:r>
              <a:rPr b="0" lang="es-ES" sz="5400" spc="-1" strike="noStrike">
                <a:solidFill>
                  <a:srgbClr val="ffffb7"/>
                </a:solidFill>
                <a:latin typeface="Garamond"/>
              </a:rPr>
              <a:t>Algunos dialectalismos:</a:t>
            </a:r>
            <a:br>
              <a:rPr sz="5400"/>
            </a:b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ainda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‘aún’ (gallego);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lonso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‘oso’ (aragonés)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šamarada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‘llamarada’ (leonés y portugués)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anošar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‘enojar’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embirrarse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‘enfurecerse’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froña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‘funda’ (lusismo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Garamond"/>
              </a:rPr>
              <a:t>Innovaciones del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Garamond"/>
              </a:rPr>
              <a:t>judeo-españ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* El seseo (meridionalism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*Se mantiene la  sonoridad en las sibilan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*Yeísmo (meridionalism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*Pérdida /–y– / antecedida o precedida de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kastío, bolsío, amaría, gaína, aí, ea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b7"/>
                </a:solidFill>
                <a:latin typeface="Garamond"/>
              </a:rPr>
              <a:t>Prótesis y epéntesis:</a:t>
            </a:r>
            <a:br>
              <a:rPr sz="5400"/>
            </a:b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/s–[ue]/ &gt; /{e, i}s– {f, h}[ue]/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esfuegra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o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isfuegra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‘suegra’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esfueco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o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isfueco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‘zueco’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esfueño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o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isfueño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‘sueño’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* Epéntesis de [w] en velares y labia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laguar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‘lagar’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guato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‘gato’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puadre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‘padre’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El pueblo sefardí se estableció en diversos puntos del Imperio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Metátesi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acodrarsi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‘acordarse’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guadrar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‘guardar’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bedri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‘verde’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Diptongacion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*Vacilación en las diptongacione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rogo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‘ruego’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queres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‘quieres’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preto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‘prieto’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Analogía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/n–/ &gt; /m–/: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mosotros, mos, muebo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Palatal nasal pierde su carácter palatal en el judeoespaño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/ni/: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aniu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puniu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En Marruecos, se presenta la total despalatización: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anil, menique, panuelo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b7"/>
                </a:solidFill>
                <a:latin typeface="Garamond"/>
              </a:rPr>
              <a:t>El siglo XX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En el siglo XX el judeoespañol experimenta un rápido decliv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Por un lado, el Holocausto nazi que aniquiló comunidades enteras, como la numerosa comunidad de Salónic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La exterminación sistemática de la población judía en los campos de concentración es el acontecimiento histórico más duro que sufren las comunidades sefardíes desde su expulsión de 1492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Por otro lado, las migraciones causadas por la propia guerra y posteriormente por la creación del Estado de Israel propiciaron el desmembramiento y aculturación de las comunidad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En apenas cinco años la lengua Sefardíes perdió al 90% de sus hablant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Turquía, Holanda, norte de Francia, norte de África, la zona balcánica y Estados Unidos (Nueva York) después de la Segunda Guerra Mundia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Esto significó para el judeo-español dejar de tener un punto de localización reconocible y perder a quienes mejor hubieran podido abrir nuevos caminos hacia la normalización de una lengua: los escritores y creadores literari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El mantenimiento del judeoespañol como signo de identidad judía tenía poco sentido en Israel, donde una lengua considerada más propia de los judíos, el hebreo, había sido resucitada como lengua viv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A Israel se trasladaron la mayor parte de los sefardíes de Marruecos, emigrados masivamente en los años 50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Los sefardíes emigrados a países de habla hispana abandonaron rápidamente su lengua en favor del español, y las comunidades de Francia o Estados Unidos lo mantuvieron durante un tiempo, aunque relegándolo cada vez más al ámbito doméstico o de las relaciones socia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El número de hablantes de judeoespañol ronda hoy los 150.000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En Iberoamérica hay comunidades donde el ladino y las tradiciones sefardíes han sido parte integral de su historia y cultura, por ejemplo en países como Puerto Rico, Cuba, Bolivia, Brasil, entre otro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En Israel se mantiene una revista en judeoespañol,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Aki Yerushalayim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("Aquí Jerusalén"), editada por la Autoridad Nasionala del Ladino y una emisión semanal de radio en la emisora Kol Israe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Igualmente Radio Exterior de España emite el programa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Bozes de Sefarad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que recientemente cumplió 20 años al air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Las comunidades sefardíes más numerosas fuera de Israel están en Turquía, donde hay unos 15.000 hablantes. Ahí mismo, el número de periódicos y boletines emitidos en judeoespañol sigue siendo significativ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3048120" y="1133640"/>
            <a:ext cx="3047760" cy="45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b7"/>
                </a:solidFill>
                <a:latin typeface="Garamond"/>
              </a:rPr>
              <a:t>¿Y qué sucedió con su lengua?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b7"/>
                </a:solidFill>
                <a:latin typeface="Garamond"/>
              </a:rPr>
              <a:t>LAS KONSEJAS I LOS </a:t>
            </a:r>
            <a:br>
              <a:rPr sz="4800"/>
            </a:br>
            <a:r>
              <a:rPr b="0" lang="es-ES" sz="4800" spc="-1" strike="noStrike">
                <a:solidFill>
                  <a:srgbClr val="ffffb7"/>
                </a:solidFill>
                <a:latin typeface="Garamond"/>
              </a:rPr>
              <a:t>KUENTOS POPULARES DJUDEO-ESPANYOLES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Ke azian muestros padres en los tiempos ke no avia ni radio ni televizion i ke el uzo de los sefaradis era de pasar la noche adientro de kaza, kon la famiya o kon los vizinos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Uno de los divertimientos los mas populares de akeyos tiempos era el de sintir las narasiones de kuentos i konseja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Sovre todo en las largas noches de invierno, kuando eskuresia bien presto i toda la famiya estava en kaza, arekojida al deredor del "tandur", del brazero, ke plazer era de eskuchar los kuentos i las konsejas sovre las fantastikas aventuras de prinsipes o kavayeros barraganes, o de mansevos proves ma intelijentes i korajozo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ke kombatiendo kontra dragos i leones, o kontra ichizeras i reyes krueles, riushian siempre a salvar a sus keridos i a yegar a porto a salvo, malgrado todas las difikultades i todos los peligros ke los enfrentav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El español siguió empleándose en las comunidades sefardíes hasta  constituirse en un código inteligible, aunque se presentan diferencias en grupos más pequeño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9T04:06:03Z</dcterms:created>
  <dc:creator>.</dc:creator>
  <dc:description/>
  <dc:language>en-US</dc:language>
  <cp:lastModifiedBy>Senen Chavez</cp:lastModifiedBy>
  <dcterms:modified xsi:type="dcterms:W3CDTF">2009-10-23T17:10:45Z</dcterms:modified>
  <cp:revision>6</cp:revision>
  <dc:subject/>
  <dc:title>El judeo-español  </dc:title>
</cp:coreProperties>
</file>