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71C4-0DE5-4A3C-A8B2-4593D04AB90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369-8802-456F-967B-BF36CB03007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7F5-4846-46DA-8257-033672DF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9D2-A491-4442-9E1C-0429BD32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462-5629-41CF-9E24-78B13BDE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A04-C188-49FD-B986-ACC5A6D7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445-A66E-466C-88AC-A1E4BF2E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C98-59E8-4E3A-9D9F-80A63EB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F75-7481-4D53-BA5D-B839516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039-B9DC-4ACF-9AAC-1CFCE03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569-20B0-4488-9857-6DCBA90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A94-F28B-4422-AE3E-4A54181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8CC-DFD7-4467-BA53-31538EF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44C-BB61-414A-A5B3-548246F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171-CD04-477F-B5DB-7435BA2334E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judíos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Ximena Cortés, Ana María Tapia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 y Viernes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63520"/>
            <a:ext cx="835848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 historia de los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33920"/>
            <a:ext cx="7858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A HISTORIA DE LOS JUDÍOS 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endo el espacio y su cotidiane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 de las re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PENSAMIENTO JUDÍO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32832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18 de agos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 de septiembre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0 /1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9-07-20T08:47:51Z</dcterms:modified>
  <cp:revision>15</cp:revision>
  <dc:subject/>
  <dc:title>Diapositiva 1</dc:title>
</cp:coreProperties>
</file>