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8894-86FE-4482-88A4-493490BB131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A1BA-0EF5-47D8-A034-088636CDFA1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F4B-B9A7-4567-BA1C-D9444C2F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2A3-DAC3-4E79-9138-6791B0C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0DC-81A8-46D7-84DC-92DE6D5A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C3E-EAC9-416C-9622-3C8CFA9E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97D-95C7-4CD2-9CB6-E1AE35A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209-C7B9-424F-908F-E6C02C9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F04-1555-4214-98BD-6E4B6D9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6D1-7B84-4B65-8A33-796B428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753-EAB7-4FC8-90FE-CDACB3B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D6C-F68B-4123-9836-3D2CC8D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D52-5BD8-4E58-A980-AB73FE9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DCE-39CA-4681-A576-24AEE37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2FF-3597-453F-A22B-E2DFEDA2227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judíos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Ximena Cortés, Ana María Tapia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 y Viernes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63520"/>
            <a:ext cx="835848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 historia de los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33920"/>
            <a:ext cx="7858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A HISTORIA DE LOS JUDÍOS 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endo el espacio y su cotidiane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 de las re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PENSAMIENTO JUDÍO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32832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18 de agos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 de septiembre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0 /1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9-07-20T08:47:51Z</dcterms:modified>
  <cp:revision>15</cp:revision>
  <dc:subject/>
  <dc:title>Diapositiva 1</dc:title>
</cp:coreProperties>
</file>