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5512-708A-45AB-B551-75BA35EBFBE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41B5-9518-4638-A048-8FDDBC44BA2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07F-1C4F-4CBD-ADF4-061A568B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90A-F834-4970-8596-F8974FC1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FA8-AC6C-4B07-BB16-3F8C4E20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791-0E64-4CCE-918B-85131DB5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D17-E673-444D-BFE0-F6967E0D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573-0BAC-4B15-B596-2583265F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EDF-303B-43CA-9F44-351B7E62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861D-CD04-4801-B352-60600C6C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1C3-F72D-4D71-BEF9-48E8B12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32C-4033-4B9B-971F-D16EEA4C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AFA-BC10-4993-9EC0-456689C5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8A1-09E1-4E02-8D67-8F75D3B6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365B-AD63-43BE-8678-450E1441F17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orenacampos00@hotmail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udería vie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uderí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ravesía jud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travesía judí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357120" y="428760"/>
            <a:ext cx="82155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FARAD: pensamiento y literatura judíos en la formación de la cultura hisp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idad Académica: Centro de Estudios Juda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es: Ximena Cortés, Ana María Tapia y Juana 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a invitada: Soledad Chá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rtes  y Viernes de 14:30 a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ordinadora: Juana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orenacampos00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ono  977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lataforma:      www.u-curso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263520"/>
            <a:ext cx="835848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gene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er  Sefarad como parte fundamental en la formación de la cultura hispánica a través de sus aportes filosóficos, lingüísticos y liter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la historia de los judío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factores que permitieron  y/o bloquearon la convivencia multicultural de los judíos en la España medie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 los valores que hoy perduran de la cultura sefard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85840" y="428760"/>
            <a:ext cx="8429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distintos aspectos del pensamiento judío que nacen en Sefarad y viven hasta el día de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disfrutar la literatura judeo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en el contexto judío, la simbiosis de literatura y filosofía/te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l concepto de mestizaje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00040" y="133920"/>
            <a:ext cx="785808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: LA HISTORIA DE LOS JUDÍOS 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endo el espacio y su cotidiane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 de las re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cuentro de tres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ción de un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: PENSAMIENTO JUDÍO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mensión de lo juda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umbres y tradiciones judía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ción al pensamiento m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I: LENGUA Y LITERATURA JUDEO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literatura como representación social de judíos, moros y crist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etas y teólo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romancero judeo español y su aporte a la lengua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farad en la narrativa hispanoamericana contemporá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79280" y="328320"/>
            <a:ext cx="896472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18 de agost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 de septiembre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asistencia               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Final en PP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10 /17 nov.               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7:21:42Z</dcterms:created>
  <dc:creator>Juana Lorena Campos Bustos</dc:creator>
  <dc:description/>
  <dc:language>en-US</dc:language>
  <cp:lastModifiedBy>Juana Lorena Campos Bustos</cp:lastModifiedBy>
  <dcterms:modified xsi:type="dcterms:W3CDTF">2009-07-20T08:47:51Z</dcterms:modified>
  <cp:revision>15</cp:revision>
  <dc:subject/>
  <dc:title>Diapositiva 1</dc:title>
</cp:coreProperties>
</file>