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C05-A438-483B-84DA-361B6AFF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8AC-2597-4E4D-AE74-DE9BD2AD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402-A193-4060-B91F-898EE1FD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788-7294-47DC-9707-DDB3E37C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EA9AF-1993-454D-B31D-70840E8D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B4BE1-6D42-4FB9-A464-FC639BFE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C692-5BD1-4349-9FBE-EC54B0B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28E6B-9620-47F5-B6CC-F869097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BDDD7-4BF1-46D5-A008-B675867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7E4A4-D140-4A99-8F74-7789F2B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52AE3-E5F6-41D8-8917-3E94E52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AB3-0F9A-4568-BA04-3DE210B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A4B3A-790F-40E1-8396-30D535AC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81133-066B-4864-9283-5901D82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E6D1-A1BF-4644-A870-03015FC5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7BD2A-6B82-44A3-8AC6-0B4E776A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78456-9559-4677-BB66-F3B8DB85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35E-4104-4207-9CE4-FF96E7A3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A41-628C-4C01-AB85-EDFF961D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CBA-6EF8-403C-8F3E-369D1886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BD9-AF7E-44EE-A1EF-1E1925CA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1CC-DBFC-4895-99E6-438FB02C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E00-863F-4B48-8C69-8C4456D5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683-2B85-4CA1-A21B-DF9E4A5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C067-424D-4D2C-9184-60D502BC70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632F-C011-49BB-A823-0E3BDCAFF45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1371240"/>
            <a:ext cx="72741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cc"/>
                </a:solidFill>
                <a:latin typeface="Comic Sans MS"/>
              </a:rPr>
              <a:t>Modelo deliberativo en Bioética</a:t>
            </a:r>
            <a:br>
              <a:rPr sz="4000"/>
            </a:br>
            <a:br>
              <a:rPr sz="4000"/>
            </a:br>
            <a:r>
              <a:rPr b="0" lang="es-ES_tradnl" sz="2000" spc="-1" strike="noStrike">
                <a:solidFill>
                  <a:srgbClr val="00ffcc"/>
                </a:solidFill>
                <a:latin typeface="Comic Sans MS"/>
              </a:rPr>
              <a:t>- Ética y deliberación en Aristóteles</a:t>
            </a:r>
            <a:br>
              <a:rPr sz="2000"/>
            </a:br>
            <a:r>
              <a:rPr b="0" lang="es-ES_tradnl" sz="2000" spc="-1" strike="noStrike">
                <a:solidFill>
                  <a:srgbClr val="00ffcc"/>
                </a:solidFill>
                <a:latin typeface="Comic Sans MS"/>
              </a:rPr>
              <a:t>- Necesidad y carácter del método deliberativo en bioética</a:t>
            </a:r>
            <a:br>
              <a:rPr sz="2000"/>
            </a:br>
            <a:r>
              <a:rPr b="0" lang="es-ES_tradnl" sz="2000" spc="-1" strike="noStrike">
                <a:solidFill>
                  <a:srgbClr val="00ffcc"/>
                </a:solidFill>
                <a:latin typeface="Comic Sans MS"/>
              </a:rPr>
              <a:t>- Deliberación y bioética: hacia una sociedad deliber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5409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Pamela Chávez Aguila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minario “Filosofía, ética cívica y bioétic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iversidad de Chi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17 de abril de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Comic Sans MS"/>
              </a:rPr>
              <a:t>…</a:t>
            </a:r>
            <a:r>
              <a:rPr b="1" lang="es-ES_tradnl" sz="1800" spc="-1" strike="noStrike">
                <a:solidFill>
                  <a:srgbClr val="ffcc00"/>
                </a:solidFill>
                <a:latin typeface="Comic Sans MS"/>
              </a:rPr>
              <a:t>problema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udencia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(phrónesis)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arte de tomar decisiones morales razonables pero incier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(boúleusis)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camino para realizar juicios prudenciales; proceso colectivo, participativo que termina en una decisión o juicio pruden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blema real no está al final del proceso: es el proceso en sí  m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mos sobre los casos particulares y concretos, que es ámbito de incertidum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Juicios probables, no apodícticos; decisiones razonables, no absolutamente ciertas; un mismo hecho puede ser objeto de decisiones razonables diferentes y opues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ción: razonamiento no procede de “cuantificación” sino de “argumentación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omic Sans MS"/>
              </a:rPr>
              <a:t>…</a:t>
            </a:r>
            <a:r>
              <a:rPr b="1" lang="es-ES_tradnl" sz="2000" spc="-1" strike="noStrike">
                <a:solidFill>
                  <a:srgbClr val="ffcc00"/>
                </a:solidFill>
                <a:latin typeface="Comic Sans MS"/>
              </a:rPr>
              <a:t>problem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nfluencia hermenéutica: múltiples interpretaciones, lecturas </a:t>
            </a: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entendimiento más profundo del fenóme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Racionalidad ‘deliberativa’: no percibir verdad pura sino diálogo que progresa hacia interpretaciones más ricas  mediante dar y recibir (diversas lecturas, toma de conciencia de los propios prejuicios, apertura a otr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Bioeticista en deliberació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No sólo decisor, sino interlocutor socrát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rticulador de perspectivas, facilitador de diálogo, referente como clarifica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05920" cy="57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 deliberar se aprende deliberan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unque dialogar con otros de cuestiones morales nunca es fácil, especialmente si involucra el ámbito humanamente tan preciado de nuestras éticas de máximos, dialogar y llegar a resoluciones compartidas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es po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diferencias de valores, de culturas, de disciplinas y saberes pueden pasar de ser un obstáculo a una ayuda para la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deliberación m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l diálogo es una cuestión no únicamente de razones y argumentos, sino de experiencias”. (H. Giannin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 dialéctica puede ser entendida no como la confrontación de dos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logoi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n un duelo caballeresco ante el tribunal inapelable de la diosa Razón, sino más bien como un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legein (encuentro)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de dos ‘dialogantes’ que se escuchan recíprocamente y se escuchan para intentar comprender lo que la otra persona está diciendo y, más aún, lo que quiere decir”. (R. Panikk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122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esupo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undamentación racional de la ética como discurso y como ética de la responsabilidad. Presupuestos básicos: argumentación racional (ética comunicativa): debe darse cabida a todos los intereses, apoyarse con un buen manejo y desarrollo de la discusión grupal, actitud no impositiva, dar a todos la posibilidad de argumentar, considerar a todo ser capaz de comunicación como un interlocutor válido, favorecer las condiciones de simetría entre los interlocutor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Ética de la responsabilidad: considera a la vez principios éticos y consecuencias de la 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quiere ACTITUDES (escucha atenta al otro; esfuerzo de comprensión de situación objeto de estudio) y HABILIDADES (análisis de valores; argumentación racion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Niveles del método deliberativo de Gra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Nivel comprensivo: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arnos cuenta del problema, hechos y valores implicados, contexto, problemas de hábitos y carácter m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Nivel analítico: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nálisis de los principios bioéticos involucrados y ponderación de las circunstancias y consecuencias concretas, determinación de cursos de acción pos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Nivel resolutorio: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oma de decisiones, juicio moral o recomendación é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Comic Sans MS"/>
              </a:rPr>
              <a:t>… </a:t>
            </a:r>
            <a:r>
              <a:rPr b="0" lang="es-ES_tradnl" sz="2800" spc="-1" strike="noStrike">
                <a:solidFill>
                  <a:srgbClr val="ffcc00"/>
                </a:solidFill>
                <a:latin typeface="Comic Sans MS"/>
              </a:rPr>
              <a:t>heredero del modelo principialista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</a:rPr>
              <a:t>Beauchamp y Childress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: 4 principios, acotan hipótesis morales de que se parte, facilita deliberación: </a:t>
            </a: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autonomía, no-maleficencia, beneficencia, justi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Problema: ¿Son absolutos estos principio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avid Ross: diferenc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Deberes PRIMA FACIE: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eben ser respetados si no entran en conflicto entre sí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Deberes “actuales o reales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INCIPIOS “PRIMA FACIE”: Autonomía, Beneficencia, No-maleficencia, Justi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INCIPIOS REALES Y EFEC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Jerarquizar principios Prima Facie, a la vista de situación concr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Buscar consenso de todos los implic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mités Institucionales de É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80880" y="380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cc"/>
                </a:solidFill>
                <a:latin typeface="Comic Sans MS"/>
              </a:rPr>
              <a:t>Método deliberativo de Diego Gra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371600"/>
            <a:ext cx="6629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Respeto a la dignidad del ser hum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to a todos con igual consideración y resp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391520" y="1371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Comic Sans MS"/>
              </a:rPr>
              <a:t>absolu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7451640" y="2492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Comic Sans MS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39152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Comic Sans MS"/>
              </a:rPr>
              <a:t>particul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28600" y="1219320"/>
            <a:ext cx="7162920" cy="4038480"/>
          </a:xfrm>
          <a:prstGeom prst="rect">
            <a:avLst/>
          </a:prstGeom>
          <a:noFill/>
          <a:ln w="507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04920" y="5638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Comic Sans MS"/>
              </a:rPr>
              <a:t>Objetivo: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construir un </a:t>
            </a:r>
            <a:r>
              <a:rPr b="0" lang="es-ES" sz="2400" spc="-1" strike="noStrike">
                <a:solidFill>
                  <a:srgbClr val="00ffcc"/>
                </a:solidFill>
                <a:latin typeface="Comic Sans MS"/>
              </a:rPr>
              <a:t>juicio prudencial intersubjetivo e interdisciplinario, que pondere principios y consecu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4000" y="4437000"/>
            <a:ext cx="7010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sideración de circunstancias y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secuencias previsi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4000" y="2492280"/>
            <a:ext cx="70866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rincipios de la bioétic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Nivel 1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NO- MALEFICENCIA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Nivel 2   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UTONOMÍA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    B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EFIC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26"/>
          <p:cNvSpPr/>
          <p:nvPr/>
        </p:nvSpPr>
        <p:spPr>
          <a:xfrm>
            <a:off x="4267080" y="579132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27"/>
          <p:cNvSpPr/>
          <p:nvPr/>
        </p:nvSpPr>
        <p:spPr>
          <a:xfrm>
            <a:off x="609480" y="2590920"/>
            <a:ext cx="7925040" cy="182880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ffcc"/>
                </a:solidFill>
                <a:latin typeface="Comic Sans MS"/>
              </a:rPr>
              <a:t>Dignidad Humana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028"/>
          <p:cNvSpPr/>
          <p:nvPr/>
        </p:nvSpPr>
        <p:spPr>
          <a:xfrm rot="20874600">
            <a:off x="812880" y="220392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cc"/>
                </a:solidFill>
                <a:latin typeface="Comic Sans MS"/>
              </a:rPr>
              <a:t>no-malefic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029"/>
          <p:cNvSpPr/>
          <p:nvPr/>
        </p:nvSpPr>
        <p:spPr>
          <a:xfrm>
            <a:off x="5715000" y="2057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cc"/>
                </a:solidFill>
                <a:latin typeface="Comic Sans MS"/>
              </a:rPr>
              <a:t>autonom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030"/>
          <p:cNvSpPr/>
          <p:nvPr/>
        </p:nvSpPr>
        <p:spPr>
          <a:xfrm rot="1020000">
            <a:off x="5257440" y="4267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cc"/>
                </a:solidFill>
                <a:latin typeface="Comic Sans MS"/>
              </a:rPr>
              <a:t>just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31"/>
          <p:cNvSpPr/>
          <p:nvPr/>
        </p:nvSpPr>
        <p:spPr>
          <a:xfrm rot="21297000">
            <a:off x="914400" y="4419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cc"/>
                </a:solidFill>
                <a:latin typeface="Comic Sans MS"/>
              </a:rPr>
              <a:t>benefic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30" descr="kant3"/>
          <p:cNvPicPr/>
          <p:nvPr/>
        </p:nvPicPr>
        <p:blipFill>
          <a:blip r:embed="rId1"/>
          <a:srcRect l="14769" t="43839" r="0" b="0"/>
          <a:stretch/>
        </p:blipFill>
        <p:spPr>
          <a:xfrm>
            <a:off x="609480" y="380880"/>
            <a:ext cx="4038840" cy="2390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27"/>
          <p:cNvSpPr/>
          <p:nvPr/>
        </p:nvSpPr>
        <p:spPr>
          <a:xfrm>
            <a:off x="1752480" y="3808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1028"/>
          <p:cNvSpPr/>
          <p:nvPr/>
        </p:nvSpPr>
        <p:spPr>
          <a:xfrm>
            <a:off x="5257800" y="228600"/>
            <a:ext cx="3886200" cy="2362320"/>
          </a:xfrm>
          <a:prstGeom prst="wedgeEllipseCallout">
            <a:avLst>
              <a:gd name="adj1" fmla="val -83944"/>
              <a:gd name="adj2" fmla="val -7259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omic Sans MS"/>
              </a:rPr>
              <a:t>Actúa de modo que te relaciones con la humanidad, tanto en tu persona como en la persona de cualquier otro, siempre </a:t>
            </a:r>
            <a:r>
              <a:rPr b="0" i="1" lang="es-ES_tradnl" sz="1600" spc="-1" strike="noStrike">
                <a:solidFill>
                  <a:srgbClr val="000099"/>
                </a:solidFill>
                <a:latin typeface="Comic Sans MS"/>
              </a:rPr>
              <a:t>como un fin</a:t>
            </a:r>
            <a:r>
              <a:rPr b="0" lang="es-ES_tradnl" sz="1600" spc="-1" strike="noStrike">
                <a:solidFill>
                  <a:srgbClr val="000099"/>
                </a:solidFill>
                <a:latin typeface="Comic Sans MS"/>
              </a:rPr>
              <a:t> y nunca sólo como un med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031"/>
          <p:cNvSpPr/>
          <p:nvPr/>
        </p:nvSpPr>
        <p:spPr>
          <a:xfrm>
            <a:off x="533520" y="3048120"/>
            <a:ext cx="800100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incipio de no instrumentalizar a la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Immanuel Kant: personas y cosas, fines en sí y medios; </a:t>
            </a:r>
            <a:r>
              <a:rPr b="0" i="1" lang="es-ES_tradnl" sz="2400" spc="-1" strike="noStrike">
                <a:solidFill>
                  <a:srgbClr val="ffffff"/>
                </a:solidFill>
                <a:latin typeface="Comic Sans MS"/>
              </a:rPr>
              <a:t>persona como fin en sí mismo, no 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gnidad intrínseca, moral, absoluta de la persona; dignidad y no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contramos aquí la expresión </a:t>
            </a: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gno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como lo que merece un tipo de trato: ahora lo digno es lo que merece ser respetado y ayudado, de forma que cualquier aparente valor que vaya en contra de una persona dejará de poder ser considerado como tal”. (Adela Cortin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142720" y="7621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Comic Sans MS"/>
              </a:rPr>
              <a:t>Principio de No-malefic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09480" y="1752480"/>
            <a:ext cx="807732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ber de no hacer d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nvolucra el daño a la integridad física, psicológica, m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ive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salidad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sente en éticas tan diferentes como las que detentan fundamentos deontológicos, teleológicos y consecuencialist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en diversas corrientes morales provenientes de tradiciones religiosas y espirituales y en las éticas aplicadas actuale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bi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ética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ber estricto, formulación negativa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bligación más vinculante de todas, base de cualquier deber de bien hacia los otros y que probablemente se alcanzaría un gran acuerdo en reconocer que el deber humano primario es no perjudicar o dañar a otro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606400" y="7462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Comic Sans MS"/>
              </a:rPr>
              <a:t>Principio de Benefic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1828800"/>
            <a:ext cx="81532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ber de buscar el bien de los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recho de vivir de acuerdo a su propia concepción de vida buena y fel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eneficiar a las personas, darles fuerza, capacidad para que lleven su vida adel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800600" y="304920"/>
            <a:ext cx="3886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70028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cc"/>
                </a:solidFill>
                <a:latin typeface="Comic Sans MS"/>
              </a:rPr>
              <a:t>Ética y deliberación</a:t>
            </a:r>
            <a:br>
              <a:rPr sz="4000"/>
            </a:br>
            <a:r>
              <a:rPr b="0" lang="es-ES_tradnl" sz="4000" spc="-1" strike="noStrike">
                <a:solidFill>
                  <a:srgbClr val="00ffcc"/>
                </a:solidFill>
                <a:latin typeface="Comic Sans MS"/>
              </a:rPr>
              <a:t>en Aristóte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aristoteles"/>
          <p:cNvPicPr/>
          <p:nvPr/>
        </p:nvPicPr>
        <p:blipFill>
          <a:blip r:embed="rId1"/>
          <a:srcRect l="0" t="1315" r="1996" b="2634"/>
          <a:stretch/>
        </p:blipFill>
        <p:spPr>
          <a:xfrm>
            <a:off x="4952880" y="457200"/>
            <a:ext cx="358164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419720" y="56386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ristóteles, </a:t>
            </a:r>
            <a:r>
              <a:rPr b="1" i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Ética Nicomaquea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I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810520" y="45720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Comic Sans MS"/>
              </a:rPr>
              <a:t>Principio de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04920" y="990720"/>
            <a:ext cx="861048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ber de imparcialidad y equidad en la distribución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beneficios, riesgos y recurs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ber de no discrimin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quidad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ciertas prestaciones sociales y satisfacción de necesidades, superación de las desigualdades, no de las diferenci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ar a cada uno lo que le correspo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ber de honestidad y prob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uidado por los seres vulnerab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gu</a:t>
            </a:r>
            <a:r>
              <a:rPr b="0" i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dad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gual dignidad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las personas, por la que merecen igual consideración y respeto excluyendo toda forma de discrimin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ualdad ante 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ualdad de oportunidades y compensación de las desigualdades naturales y sociales de nacimiento para acceder a ell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John Rawls: “Teoría de la justicia”: justicia como imparcialidad involucra: iguales libertades, igualdad de oportunidades, beneficio de la diferencia para acceder a ésta) Equidad: t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ato conforme a las libertades iguales para todos,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igualdad de acceso y oportunidades y beneficio de la diferencia a los más desfavorecido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727360" y="74628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cc"/>
                </a:solidFill>
                <a:latin typeface="Comic Sans MS"/>
              </a:rPr>
              <a:t>Principio de Autonom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09480" y="1371600"/>
            <a:ext cx="815364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ber de respetar el derecho de la persona a decidir por sí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isma en aquello que le afecta, con conocimiento y sin co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ncepto de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ibertad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IBERTAD PARA: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sibilidad de participar en la vida pública, de no ser dominado ni pretender dominar a otros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libertad de los antiguo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IBERTAD DE: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dependencia o no interferencia, no coacción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libertad de los modernos)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pacidad de decidir por sí misma en todas las materias que la afectan,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 conocimiento,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n coacción,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tuando en consecuencia, eligiendo su propia concepción de bien y felicidad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deseos y preferenci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IBERTAD COMO AUTONOMÍA: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pacidad de darse a sí mismo los principios y leyes morales; no es “hacer lo que da la gana”, sino que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upone cap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cidad de vislumbrar que existen acciones que humanizan y otras que deshumanizan y que ésta es la razón por la cual son deseables o evitables,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 porque otros ordenen realizarlas o las prohíb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Proceso deliberativ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204640"/>
            <a:ext cx="838224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esentación del probl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claración y discusión de h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dentificación de problemas 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Selección del problema a deliber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ción sobre el curso de acción óptimo (propuesta de  cursos de acción posibles, principios, consecuenci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clusión (toma de decisiones, recomendación o juicio mor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ueba: argumentos en pro y contra; juridicidad; publ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Proceso deliberativ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Presentación del problema: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arración sintética, lo más completa posible de todos los hechos, acciones, omisiones, personas, opiniones y circunstancias que rodean el caso particular de conflicto moral que se pretende analizar. Escrita, comprensible para todos los participantes, persona responsable de tomar la decisión, conocimiento suficiente del problema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Aclaración y discusión de hechos: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evio a debate de valores involucrados, aclara dudas del grupo deliberante acerca de hechos, precisándolos, profundizándolos, ampliando información sobre ellos, contextualizándolos; en ética clínica, fundamental discusión y clarificación de los aspectos médicos del caso. Fundamental, no puede haber una buena discusión sobre valores, sin comprensión profunda de los hechos; una buena percepción de hechos permite descubrir valores present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Identificación de problemas morales: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tormenta de ideas”, visualizar </a:t>
            </a: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dos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los problemas implicados en el caso, ya sean procedimentales, técnicos o de claro carácter moral, enunciándolos sintéticamente e incorporándolos a un listado lo más completo posible. Refleja complejidad de conflicto moral, diversos problem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Selección del problema a deliberar: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cidir problema o pregunta a deliberar. Resolver cada problema en forma separada, secuencial y no simultáneamente; persona responsable de presentar el caso debe elegir el problema moral que le preocupa y quiere discutir.  Ordena discusión, evita confusión y aumenta posibilidad de entendimiento. Comprensión del problema requiere ver principios éticos en juego, clarificar conflicto ético fundamental, entre qué principios  y de qué nivel; condiciones particulares del cas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Identificación de cursos de acción posibles y deliberación sobre el curso de acción óptimo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visualizar </a:t>
            </a: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ursos de acción posibles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ponderando en cada uno los principios éticos que involucra y sus consecuencias previsibles; proponer un curso de acción que parezca óptimo y deliberar sobre él, dando razones en pro y en contra, rectificándolo, enriqueciéndo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Conclusión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uicio prudencial, resolución, decisión o recomendación moral. Contrastar: universalizable, defendible racionalmente en público, no ser contradictorio con el marco legal correspondiente, argumentos en pro y en contra.  Si no hay consenso total,  es conveniente hacer referencia en las conclusiones a las objeciones o argumentos en contra de la decisión tomada así como de los argumentos en contra de esos argumentos; espacio para todas las perspectivas y para las reflexiones futur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cc"/>
                </a:solidFill>
                <a:latin typeface="Comic Sans MS"/>
              </a:rPr>
              <a:t>Deliberación y bioética: </a:t>
            </a:r>
            <a:br>
              <a:rPr sz="3200"/>
            </a:br>
            <a:r>
              <a:rPr b="0" lang="es-ES_tradnl" sz="3200" spc="-1" strike="noStrike">
                <a:solidFill>
                  <a:srgbClr val="00ffcc"/>
                </a:solidFill>
                <a:latin typeface="Comic Sans MS"/>
              </a:rPr>
              <a:t>hacia una sociedad deliber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4581360"/>
            <a:ext cx="8893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Habermas, Jürgen: condiciones del diálogo </a:t>
            </a: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estructuras políticas y sociales </a:t>
            </a: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pasar de democracia representativa a democracia delibera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ción: procedimiento contrario a política puramente estratég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6" descr="DEMOCRAC"/>
          <p:cNvPicPr/>
          <p:nvPr/>
        </p:nvPicPr>
        <p:blipFill>
          <a:blip r:embed="rId1"/>
          <a:stretch/>
        </p:blipFill>
        <p:spPr>
          <a:xfrm>
            <a:off x="1403280" y="1773360"/>
            <a:ext cx="2679840" cy="267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foro_democracia_deliberativa"/>
          <p:cNvPicPr/>
          <p:nvPr/>
        </p:nvPicPr>
        <p:blipFill>
          <a:blip r:embed="rId2"/>
          <a:stretch/>
        </p:blipFill>
        <p:spPr>
          <a:xfrm>
            <a:off x="4500720" y="177336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847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azón práctica es deliberat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sencia de restricciones o coer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uena volunt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pacidad de dar raz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speto por ot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eo de entend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ope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omis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Bioét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ta valores (salud, enfermedad, vida, muerte) que son también sociales y polí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s ética profesional, pero también parte de filosofía polí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Relación clínica: </a:t>
            </a: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proceso de deliberación com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Cortina: bioética y ciudadanía ac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ortina: decepcionante realización de democracia como mero medio de organización polít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sequilibrio entre democracia formal y orden econ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usencia de particip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iudadanía pas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iudadano: aquél que es su propio señor junto a sus iguales, en el seno de una comunidad política. Supone autonomía e igualdad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Cortina: “democracia radical”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rticular una rigurosa democracia representativa con influencia de ciudadanos en toma política de decisiones través del diálogo y comun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articipación activa de ciudadanos en distintas esferas de la vida social o sociedad civil (hospitales, centros de salud, clínicas, universidades, campos profesionales..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Bioética: impulso a la ciudadanía activ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rofesionales como ciudadanos: </a:t>
            </a:r>
            <a:r>
              <a:rPr b="0" i="1" lang="es-ES" sz="1800" spc="-1" strike="noStrike">
                <a:solidFill>
                  <a:srgbClr val="ffffff"/>
                </a:solidFill>
                <a:latin typeface="Comic Sans MS"/>
              </a:rPr>
              <a:t>ethos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rofesional, implicarse en comités de ética y comisiones de bioética, comunicar en ámbito de opinión pública, colegios profes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Investigadores como ciudadanos: </a:t>
            </a:r>
            <a:r>
              <a:rPr b="0" i="1" lang="es-ES" sz="1800" spc="-1" strike="noStrike">
                <a:solidFill>
                  <a:srgbClr val="ffffff"/>
                </a:solidFill>
                <a:latin typeface="Comic Sans MS"/>
              </a:rPr>
              <a:t>ethos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investigador en el senos comunidad de científicos, comunicación a opinión públ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iudadanía sanitaria: responsabilidad de vida sana, participación en conferencias ciudadan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Bioética como motor de ciudadanía económica: ciudadanía social y derechos, responsabilidad social de empres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Referencias bibliográf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ristóteles (1997)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Ética Nicomaquea,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ibro III, 3. Trad. A. Gómez Robledo. México: Porrúa, pp. 31-33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rtina, Adela (2005), “Bioética: un impulso para la ciudadanía activa”.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vista Brasileira de Bioética,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ol. 1, N° 4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acia, Diego (2001), “La deliberación moral: el método de la ética clínica”. Proyecto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ioética para clínicos,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stituto de Bioética, Fundación de Ciencias de la Salud. </a:t>
            </a:r>
            <a:r>
              <a:rPr b="0" i="1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d Clin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Barc),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17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 18-23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acia, Diego (2001), “Democracia y Bioética”.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cta Bioethica,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evista del Programa Regional de Bioética, O.P.S./O.M.S.,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ño VII, Nº2: 343-354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acia, Diego (2007)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cedimientos de decisión en ética clínica.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Madrid: Triacastel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acia, Diego (2008)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Fundamentos de bioética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Madrid: Triacastel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racia, Diego  (2000), “La deliberación moral. El papel de las metodologías en ética clínica”, en J. Sarabia y Alvarezude y M. de los Reyes López (eds.)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ités de ética asistencial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Madrid: ABFyC, pp. 21-41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uttman, Amy (2001) “Deliberación y carácter democrático”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educación democrática. Una teoría política de la educación.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rcelona: Paidós, pp. 71-74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bermas, Jürgen (1991), “Tres modelos de democracia. Sobre el concepto de una política deliberativa”. Conferencia pronunciada en el Departamento de Filosofía de la Universitat de València, 16 de octubre de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bermas, Jürgen (1999), “Tres modelos normativos de democracia”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inclusión del otro. Estudios de teoría política.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rcelona: Paidós, pp. 231-259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ávez, Pamela (2004), “Introducción al método deliberativo en bioética”, en A. Escríbar, M. Pérez, R. Villarroel</a:t>
            </a:r>
            <a:r>
              <a:rPr b="0" lang="es-C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eds.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ioética. Fundamentos y dimensión práctica. 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antiago: </a:t>
            </a:r>
            <a:r>
              <a:rPr b="0" lang="es-CL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diterráneo, pp. 138-14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ávez, Pamela (2001), “Comités de ética ciudadana: hacia una sociedad deliberativa”, </a:t>
            </a:r>
            <a:r>
              <a:rPr b="0" i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uario de Postgrado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Facultad de Filosofía y Humanidades,Universidad de Chile,</a:t>
            </a:r>
            <a:r>
              <a:rPr b="1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:</a:t>
            </a:r>
            <a:r>
              <a:rPr b="0" lang="es-MX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25-14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 asuntos vitales, cotidianos o límites, tenemos que elegir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r>
              <a:rPr b="1" lang="es-ES_tradnl" sz="28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Elección: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lo que ha sido objeto de una evaluación reflexiva (deliberación), que nos permite preferir una cosa a otra, un valor a otro.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br>
              <a:rPr sz="2800"/>
            </a:br>
            <a:r>
              <a:rPr b="1" lang="es-ES_tradnl" sz="28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Deliberación: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 la reflexión (a solas o con otros) que nos permite elegir el mejor camino de acción posible en situaciones partic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027"/>
          <p:cNvSpPr/>
          <p:nvPr/>
        </p:nvSpPr>
        <p:spPr>
          <a:xfrm>
            <a:off x="669960" y="613728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No se delibera sobr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 que pertenece a naturaleza, necesidad o está sujeto a leyes inamovib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 que es tenido por cosas y verdades eternas (matemáticas, metafísica, fís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 que es de una manera y de otra (lluvi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 que depende del azar (hallazgo de un teso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2852640"/>
            <a:ext cx="86104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Deliberamos sobre aquello que</a:t>
            </a:r>
            <a:r>
              <a:rPr b="0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pende de nosotros y podemos ha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o es del mismo modo (medicina, negoci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neralmente acontece de cierto modo, pero en lo cual el resultado es oscuro o indetermi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 causa de mayor perplejidad e imprecisión (artes más que cienci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 importante; buscamos consejeros (experiencia) porque desconfiamos de nuestra propia capacidad de discern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mos no sobre los fines, sino sobre los med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28"/>
          <p:cNvSpPr/>
          <p:nvPr/>
        </p:nvSpPr>
        <p:spPr>
          <a:xfrm>
            <a:off x="4800600" y="304920"/>
            <a:ext cx="3886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1029" descr="aristotelescaricatura"/>
          <p:cNvPicPr/>
          <p:nvPr/>
        </p:nvPicPr>
        <p:blipFill>
          <a:blip r:embed="rId1"/>
          <a:stretch/>
        </p:blipFill>
        <p:spPr>
          <a:xfrm>
            <a:off x="1676520" y="1981080"/>
            <a:ext cx="7086600" cy="43610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030"/>
          <p:cNvSpPr/>
          <p:nvPr/>
        </p:nvSpPr>
        <p:spPr>
          <a:xfrm>
            <a:off x="152280" y="914400"/>
            <a:ext cx="4038840" cy="1600200"/>
          </a:xfrm>
          <a:prstGeom prst="wedgeEllipseCallout">
            <a:avLst>
              <a:gd name="adj1" fmla="val 41550"/>
              <a:gd name="adj2" fmla="val 101486"/>
            </a:avLst>
          </a:prstGeom>
          <a:solidFill>
            <a:srgbClr val="ffffff"/>
          </a:soli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f5f5f"/>
                </a:solidFill>
                <a:latin typeface="Tempus Sans ITC"/>
              </a:rPr>
              <a:t>En los asuntos que no son siempre del mismo modo o son inciertos, hay que deliber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13"/>
          <p:cNvSpPr/>
          <p:nvPr/>
        </p:nvSpPr>
        <p:spPr>
          <a:xfrm>
            <a:off x="2666880" y="2133720"/>
            <a:ext cx="3657600" cy="358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64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3200400" y="2590920"/>
            <a:ext cx="2590920" cy="25905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364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4038480" y="3429000"/>
            <a:ext cx="914400" cy="914400"/>
          </a:xfrm>
          <a:prstGeom prst="ellipse">
            <a:avLst/>
          </a:prstGeom>
          <a:solidFill>
            <a:srgbClr val="010199"/>
          </a:solidFill>
          <a:ln w="9360">
            <a:solidFill>
              <a:srgbClr val="364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20070520233444-arquero"/>
          <p:cNvPicPr/>
          <p:nvPr/>
        </p:nvPicPr>
        <p:blipFill>
          <a:blip r:embed="rId1"/>
          <a:stretch/>
        </p:blipFill>
        <p:spPr>
          <a:xfrm>
            <a:off x="0" y="3500280"/>
            <a:ext cx="223992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84988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</a:t>
            </a:r>
            <a:r>
              <a:rPr b="0" i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prudencia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 la virtud racional del que puede deliberar acertadamente sobre las cosas buenas y malas para el ser humano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Prudente</a:t>
            </a:r>
            <a:r>
              <a:rPr b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s el que siguiendo su evaluación racional, 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cierta con lo mejor de lo que puede ser realizado por el hom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ffcc"/>
                </a:solidFill>
                <a:latin typeface="Symbol"/>
                <a:ea typeface="Symbol"/>
              </a:rPr>
              <a:t></a:t>
            </a:r>
            <a:r>
              <a:rPr b="0" i="1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udentia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(sabiduría </a:t>
            </a:r>
            <a:r>
              <a:rPr b="0" lang="es-ES_tradnl" sz="2000" spc="-1" strike="noStrike">
                <a:solidFill>
                  <a:srgbClr val="00ffcc"/>
                </a:solidFill>
                <a:latin typeface="Comic Sans MS"/>
                <a:ea typeface="Times New Roman"/>
              </a:rPr>
              <a:t>práctica, moral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“A la virtud se lle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ga con esfuerzo, en el vicio c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emos con facilidad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Importancia del carácter mor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00ffcc"/>
                </a:solidFill>
                <a:latin typeface="Comic Sans MS"/>
              </a:rPr>
              <a:t>PRUDENCIA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  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Define el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ÉRMINO</a:t>
            </a:r>
            <a:r>
              <a:rPr b="1" lang="es-ES_tradnl" sz="2000" spc="-1" strike="noStrike">
                <a:solidFill>
                  <a:srgbClr val="00ffcc"/>
                </a:solidFill>
                <a:latin typeface="Comic Sans MS"/>
              </a:rPr>
              <a:t> MEDIO </a:t>
            </a:r>
            <a:r>
              <a:rPr b="0" lang="es-ES_tradnl" sz="2000" spc="-1" strike="noStrike">
                <a:solidFill>
                  <a:srgbClr val="00ffcc"/>
                </a:solidFill>
                <a:latin typeface="Comic Sans MS"/>
              </a:rPr>
              <a:t>VIRTU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Vicio por exceso                   Vicio por defect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84988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4500360" y="5950080"/>
            <a:ext cx="609480" cy="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7662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384988"/>
                </a:solidFill>
                <a:latin typeface="Comic Sans MS"/>
              </a:rPr>
              <a:t>       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Virtudes  éticas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             (recta acción)</a:t>
            </a:r>
            <a:br>
              <a:rPr sz="2400"/>
            </a:br>
            <a:r>
              <a:rPr b="0" i="1" lang="es-ES_tradnl" sz="2400" spc="-1" strike="noStrike">
                <a:solidFill>
                  <a:srgbClr val="ffffff"/>
                </a:solidFill>
                <a:latin typeface="Comic Sans MS"/>
              </a:rPr>
              <a:t>           étho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justicia, templanza, fortaleza...)</a:t>
            </a:r>
            <a:br>
              <a:rPr sz="20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Virtudes dianoéticas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        (recta razón)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i="1" lang="es-ES_tradnl" sz="2400" spc="-1" strike="noStrike">
                <a:solidFill>
                  <a:srgbClr val="ffffff"/>
                </a:solidFill>
                <a:latin typeface="Comic Sans MS"/>
              </a:rPr>
              <a:t>lógo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arte, ciencia, inteligencia, </a:t>
            </a:r>
            <a:r>
              <a:rPr b="1" lang="es-ES_tradnl" sz="2000" spc="-1" strike="noStrike">
                <a:solidFill>
                  <a:srgbClr val="00ffcc"/>
                </a:solidFill>
                <a:latin typeface="Comic Sans MS"/>
              </a:rPr>
              <a:t>prudencia</a:t>
            </a:r>
            <a:r>
              <a:rPr b="0" lang="es-ES_tradnl" sz="2000" spc="-1" strike="noStrike">
                <a:solidFill>
                  <a:srgbClr val="00ffcc"/>
                </a:solidFill>
                <a:latin typeface="Comic Sans MS"/>
              </a:rPr>
              <a:t>...)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ffcc"/>
                </a:solidFill>
                <a:latin typeface="Comic Sans MS"/>
              </a:rPr>
              <a:t> EUDAIMONÍA, felicidad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: fin último del ser humano = animal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racional y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6536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cc"/>
                </a:solidFill>
                <a:latin typeface="Comic Sans MS"/>
              </a:rPr>
              <a:t>VIRTU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ffcc"/>
                </a:solidFill>
                <a:latin typeface="Comic Sans MS"/>
              </a:rPr>
              <a:t>‘</a:t>
            </a:r>
            <a:r>
              <a:rPr b="1" i="1" lang="es-ES_tradnl" sz="2800" spc="-1" strike="noStrike">
                <a:solidFill>
                  <a:srgbClr val="00ffcc"/>
                </a:solidFill>
                <a:latin typeface="Comic Sans MS"/>
              </a:rPr>
              <a:t>areté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5"/>
          <p:cNvSpPr/>
          <p:nvPr/>
        </p:nvSpPr>
        <p:spPr>
          <a:xfrm flipV="1">
            <a:off x="1066680" y="1143000"/>
            <a:ext cx="914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1066680" y="3733920"/>
            <a:ext cx="121932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3628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cc"/>
                </a:solidFill>
                <a:latin typeface="Comic Sans MS"/>
              </a:rPr>
              <a:t>Método deliberativo en bioética (Diego Gra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eliberación es un método de reflexión y análisis colectivo, orientado a tomar decisiones racionales o probables en condiciones de incertidumbre”; método de investigación moral o análisis racional de problemas 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étodo problemático, no dile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omic Sans MS"/>
              </a:rPr>
              <a:t>DILEMA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escoger entre dos proposiciones opuestas, disyuntivas, excluy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Dilema’ se relaciona con teoría de decisión racion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Busca curso de acción más prob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 más posibilidad de éx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ás deseable o prefer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Busca acción que maximice valor esperado o uti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Énfasis ‘matemático’ en decisión f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omic Sans MS"/>
              </a:rPr>
              <a:t>PROBLEMA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(gr.) ‘arrojar hacia delante’ </a:t>
            </a: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problema está delante de nosotros, exigiéndonos respue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blemas: cuestiones abiert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No sabemos si podemos resolverlo ni si hay solución ún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olución no está presente desde el princip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Busca respuesta propia y adecu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puesto: realidad es más rica y comple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uestiones prácticas (ética, política, técnica): certidumbre total es impo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Razonamiento 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ás lejos de </a:t>
            </a: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</a:rPr>
              <a:t>epistéme (conocimiento cierto y universal sobre la realida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ás cercano a </a:t>
            </a:r>
            <a:r>
              <a:rPr b="0" i="1" lang="es-ES_tradnl" sz="1800" spc="-1" strike="noStrike">
                <a:solidFill>
                  <a:srgbClr val="ffffff"/>
                </a:solidFill>
                <a:latin typeface="Comic Sans MS"/>
              </a:rPr>
              <a:t>dóxa (opinión , conocimiento incierta pero no irracional);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requiere recto uso de la razón; posible desacuerdo, diversas opiniones, minorías, paradojasResultado: dosis de imprecisión, oscuridad o perplejidad, reducirse al máximo mediante un buen procedimiento r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uestiones morales: paradójicas, opinables: “No se delibera sobre lo que es absolutamente cierto, sino sobre lo que puede ser de varias manera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4:19:19Z</dcterms:created>
  <dc:creator>Manuel Chavez</dc:creator>
  <dc:description/>
  <dc:language>en-US</dc:language>
  <cp:lastModifiedBy>Lxciano Tapia</cp:lastModifiedBy>
  <dcterms:modified xsi:type="dcterms:W3CDTF">2008-08-16T15:56:08Z</dcterms:modified>
  <cp:revision>130</cp:revision>
  <dc:subject/>
  <dc:title>Diapositiva 1</dc:title>
</cp:coreProperties>
</file>