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7D8-969F-47CA-A6C0-40EE9A60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C4A-C4B3-40A0-897A-BB42016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047-CFBC-4F24-81B7-CC184DE2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2C2-86F8-46B6-8B50-7045A885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F301-A88F-42EC-BA61-8C29E5F2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51A03-4443-4AF4-9250-1D051EF9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950B7-4011-43AD-BD82-64247704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75630-6CE6-47FC-8E86-445E9E1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E7FA4-AA24-4855-8BD4-E085FFF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94A63-1170-4CC1-B7F3-4DF4E7B1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82A8F-BBE5-46A1-9D91-5FC6207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B5B-4F86-4797-9DC3-212B439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78E85-D2A7-45F6-A0F9-4F4CB84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99883-A015-49BB-8769-1A52A7C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46EE-1133-46E8-8F63-B3B24E1E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4AF47-CAF7-4BCB-9C75-526316DD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2B672-07DA-439F-8802-C3314485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20B-AC8A-4481-B05A-A912222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9C6-134E-497A-AB6E-E467308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A98-54FD-4AD7-A7CC-ECC8392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D93-DCAB-4CDD-8E83-78EDF88B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FBD-6196-4A1F-BC9A-C56BE17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977-A4AE-44E3-B153-C763AC8A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E05-6661-4FE0-B533-4FF3DE4C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88A6-0F68-4544-ACF9-CC506F5841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470-D584-4DD3-A028-9DB80D0009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e3e3ff"/>
                </a:solidFill>
                <a:latin typeface="Arial"/>
              </a:rPr>
              <a:t>RAYMOND WILLIAMS</a:t>
            </a:r>
            <a:r>
              <a:rPr b="0" lang="es-E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Sociología de la Cul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Williams escribió extensivamente sobre la historia de la cultura. Incluyen: Culture and Society 1780-1960 (1958), The Long Revolution (1961), Keywords (1976), Communications (1962), Second Generation (1964), Orwell (1971), The Country and the City (1973), Television: Technology and Cultural Form (1974), Marxism and Literature (1977), The Volunteers (1978), Problems in Materialism and Culture (1980), Culture (1981), Writings in Society (1983) and Loyalties (1985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773360"/>
            <a:ext cx="8136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lthey (1883) RETORNO DEL SUJETO  (Ibáñe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 Junto al sujeto, el registro de las leyes de la organización social. Asunto importante para el estudio de las instituciones y de los productos culturales de las institu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e3e3ff"/>
                </a:solidFill>
                <a:latin typeface="Arial"/>
              </a:rPr>
              <a:t>Dos postura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.  posición idealista y    b. posición materialis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staca un “orden social global”, producto directo o indirecto de un orden constituido por otras actividade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ero en lugar del “espíritu conformador”, considera la cultura como “sistema significante a través del cual un orden social se comunica, se reproduce, se experimenta y se investiga. 13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9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. CONTRIBUCIONES DE LA SOCIOLOGIA OBSERV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L PUEBLO A LA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LA SOCIEDAD CIVIL A LA SOCIEDAD DEL CONSUMO Y DEL ESPECTA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udio de las instituciones sociales y económicas de la cultura, y las definiciones de sus “producto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udio de sus conten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udio de sus efe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LA TRADICION ALTERNATIV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ICIONES SOCIALES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SOCIAL Del DISCURSO Y LAS OBRAS DE 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ES SOCIALES EN EL DISCURSO Y LAS OBRAS DE 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ONDICIONES SOCIALES DEL ART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Social de las obras de 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digo, Canal, Formas Expresivas, Semán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2 Relaciones Sociales en el discurso y las Obras de Ar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º Material social preexistente--- T/Mediación---Ob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 SUJETO E INTERSUBJE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e3ff"/>
                </a:solidFill>
                <a:latin typeface="Arial Black"/>
              </a:rPr>
              <a:t>IDEOLOGÍA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encias formales y conscientes de un género, grupo o clase que indica principios generales o posiciones teóricas y/o dog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Visión del mundo o perspectiva general  de género, clase o grupo: incluye creencias formales y conscientes, también actitudes, hábitos y sentimientos menos conscientes y formul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: APLICAR ORDEN IMAGINARIO Y ORDEN SIMBÓLICO, EL DESEO EN LA IDEOLOGÍA, LOS OBSTACULOS O CEGUERAS COG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edios de Producción. Desarrollo de recursos inher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Danza, canto y habla (oralidad, oralitura). Uso de medi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s de adiest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Usos de medios no-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tilización o transformación de objetos y fuerzas materiales no-humanos implica relaciones sociales más complejas y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 Combinación del uso de objetos externos con uso de recursos físicos; máscaras, disfr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2 Desarrollo de instr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 selección, transformación y producción de objetos separables (arcilla, metales, pied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esarrollo de sistemas materiales separables de significación creados para la significación cultural (escritura, c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esarrollo de complejos sistemas técnicos de amplificación, propagación y reproducción que posibilitan nuevas formas de pres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ce en Gales en el año 1921 hijo de un galés “señalero” del ferrocarril y muere en 198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USO DE LOS MEDIOS DE P Y REPRO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cces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rrollo de forma de división entre “artistas “ y público” se torna jerárqu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itura: adiestramiento, especialización, urbanización, estratif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ficación, reproducción; medios disponibles o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ción  de imá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29840"/>
            <a:ext cx="821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Relaciones sociales entre producción y reproducción social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ones de patronazgo y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metrías: a. organización de licencias, censura y otras formas de contro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rganización del mercado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relaciones desiguales y cambiantes entre una cultura popular heredada y formas nuevas de producción y reproducción estandarizada y cada vez más centrali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y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reproducida y pop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as formas de producción cultural, en grupo, nueva división del trabajo, prop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s alterna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Marco de los años sesenta y set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Prácticas reales’, prácticas significantes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sistema significante realiza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STEMA SEXO GÉNERO Y PRACTICAS SIGNIFICANTES REALIZ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Análisis historicista del discurso, que  contemple la cultura como prácticas significantes de producción simbólica y material, condicionadas por procesos institucionales y tecnoló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Una práctica cultural no se deriva simplemente de un orden social previo sino que es en sí misma un elemento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inir dos áreas de anális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) relaciones entre los medios materiales y las formas sociales en las que se utilizan. Las formas y relaciones sociales de género, clase, ra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) relaciones entre estos medios materiales y formas sociales, y las formas (artísticas) específicas que constituyen una producción cultural manifi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38280" y="1758960"/>
            <a:ext cx="6032520" cy="3803760"/>
            <a:chOff x="1538280" y="1758960"/>
            <a:chExt cx="6032520" cy="3803760"/>
          </a:xfrm>
        </p:grpSpPr>
        <p:sp>
          <p:nvSpPr>
            <p:cNvPr id="133" name="_s36870"/>
            <p:cNvSpPr/>
            <p:nvPr/>
          </p:nvSpPr>
          <p:spPr>
            <a:xfrm>
              <a:off x="3718080" y="2344680"/>
              <a:ext cx="1674720" cy="16747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4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36871"/>
            <p:cNvSpPr/>
            <p:nvPr/>
          </p:nvSpPr>
          <p:spPr>
            <a:xfrm>
              <a:off x="3827520" y="1758960"/>
              <a:ext cx="14558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C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6872"/>
            <p:cNvSpPr/>
            <p:nvPr/>
          </p:nvSpPr>
          <p:spPr>
            <a:xfrm>
              <a:off x="4322880" y="2784600"/>
              <a:ext cx="1674720" cy="1674720"/>
            </a:xfrm>
            <a:prstGeom prst="ellipse">
              <a:avLst/>
            </a:prstGeom>
            <a:solidFill>
              <a:srgbClr val="00ffcc">
                <a:alpha val="50000"/>
              </a:srgbClr>
            </a:solidFill>
            <a:ln w="46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36873"/>
            <p:cNvSpPr/>
            <p:nvPr/>
          </p:nvSpPr>
          <p:spPr>
            <a:xfrm>
              <a:off x="6114960" y="2892600"/>
              <a:ext cx="1455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36874"/>
            <p:cNvSpPr/>
            <p:nvPr/>
          </p:nvSpPr>
          <p:spPr>
            <a:xfrm>
              <a:off x="4091040" y="3495600"/>
              <a:ext cx="1674720" cy="16747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46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6875"/>
            <p:cNvSpPr/>
            <p:nvPr/>
          </p:nvSpPr>
          <p:spPr>
            <a:xfrm>
              <a:off x="5519880" y="5145120"/>
              <a:ext cx="14554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IMBOL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6876"/>
            <p:cNvSpPr/>
            <p:nvPr/>
          </p:nvSpPr>
          <p:spPr>
            <a:xfrm>
              <a:off x="3343320" y="3494160"/>
              <a:ext cx="1674720" cy="1674720"/>
            </a:xfrm>
            <a:prstGeom prst="ellipse">
              <a:avLst/>
            </a:prstGeom>
            <a:solidFill>
              <a:srgbClr val="463416">
                <a:alpha val="50000"/>
              </a:srgbClr>
            </a:solidFill>
            <a:ln w="4680">
              <a:solidFill>
                <a:srgbClr val="463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6877"/>
            <p:cNvSpPr/>
            <p:nvPr/>
          </p:nvSpPr>
          <p:spPr>
            <a:xfrm>
              <a:off x="2133720" y="5145120"/>
              <a:ext cx="14554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IRCULAC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6878"/>
            <p:cNvSpPr/>
            <p:nvPr/>
          </p:nvSpPr>
          <p:spPr>
            <a:xfrm>
              <a:off x="3112920" y="2782800"/>
              <a:ext cx="1675080" cy="1675080"/>
            </a:xfrm>
            <a:prstGeom prst="ellipse">
              <a:avLst/>
            </a:prstGeom>
            <a:solidFill>
              <a:srgbClr val="3399ff">
                <a:alpha val="50000"/>
              </a:srgbClr>
            </a:solidFill>
            <a:ln w="46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6879"/>
            <p:cNvSpPr/>
            <p:nvPr/>
          </p:nvSpPr>
          <p:spPr>
            <a:xfrm>
              <a:off x="1538280" y="2892600"/>
              <a:ext cx="1455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57200" y="1660680"/>
            <a:ext cx="8282880" cy="4002120"/>
            <a:chOff x="457200" y="1660680"/>
            <a:chExt cx="8282880" cy="4002120"/>
          </a:xfrm>
        </p:grpSpPr>
        <p:cxnSp>
          <p:nvCxnSpPr>
            <p:cNvPr id="144" name="_s37894"/>
            <p:cNvCxnSpPr>
              <a:stCxn id="145" idx="1"/>
              <a:endCxn id="146" idx="2"/>
            </p:cNvCxnSpPr>
            <p:nvPr/>
          </p:nvCxnSpPr>
          <p:spPr>
            <a:xfrm rot="10800000">
              <a:off x="3051720" y="4575240"/>
              <a:ext cx="377640" cy="65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37895"/>
            <p:cNvCxnSpPr>
              <a:stCxn id="146" idx="1"/>
              <a:endCxn id="148" idx="2"/>
            </p:cNvCxnSpPr>
            <p:nvPr/>
          </p:nvCxnSpPr>
          <p:spPr>
            <a:xfrm rot="10800000">
              <a:off x="1565280" y="3887280"/>
              <a:ext cx="378000" cy="452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37896"/>
            <p:cNvCxnSpPr>
              <a:stCxn id="148" idx="0"/>
              <a:endCxn id="150" idx="2"/>
            </p:cNvCxnSpPr>
            <p:nvPr/>
          </p:nvCxnSpPr>
          <p:spPr>
            <a:xfrm flipH="1" flipV="1" rot="5400000">
              <a:off x="2974680" y="1790640"/>
              <a:ext cx="214200" cy="303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37898"/>
            <p:cNvCxnSpPr>
              <a:stCxn id="150" idx="0"/>
              <a:endCxn id="152" idx="2"/>
            </p:cNvCxnSpPr>
            <p:nvPr/>
          </p:nvCxnSpPr>
          <p:spPr>
            <a:xfrm flipH="1" flipV="1" rot="5400000">
              <a:off x="4491360" y="2495160"/>
              <a:ext cx="21420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37899"/>
            <p:cNvCxnSpPr>
              <a:stCxn id="154" idx="0"/>
              <a:endCxn id="152" idx="2"/>
            </p:cNvCxnSpPr>
            <p:nvPr/>
          </p:nvCxnSpPr>
          <p:spPr>
            <a:xfrm flipH="1" flipV="1" rot="5400000">
              <a:off x="2990880" y="994680"/>
              <a:ext cx="214200" cy="300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37900"/>
            <p:cNvSpPr/>
            <p:nvPr/>
          </p:nvSpPr>
          <p:spPr>
            <a:xfrm>
              <a:off x="2284560" y="1660680"/>
              <a:ext cx="4627440" cy="7293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PRODUCCIÓN GLOBAL DEL TEXT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ffff"/>
                  </a:solidFill>
                  <a:latin typeface="Arial"/>
                </a:rPr>
                <a:t>Cf. CAMPO SIMBOLIC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 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7901"/>
            <p:cNvSpPr/>
            <p:nvPr/>
          </p:nvSpPr>
          <p:spPr>
            <a:xfrm>
              <a:off x="457200" y="2603520"/>
              <a:ext cx="2278800" cy="596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MIS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UJETO  EMPIR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7902"/>
            <p:cNvSpPr/>
            <p:nvPr/>
          </p:nvSpPr>
          <p:spPr>
            <a:xfrm>
              <a:off x="3457800" y="2603520"/>
              <a:ext cx="2278800" cy="596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"/>
                </a:rPr>
                <a:t>SUJETO+ ACCION+S RECEPT 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TEX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7904"/>
            <p:cNvSpPr/>
            <p:nvPr/>
          </p:nvSpPr>
          <p:spPr>
            <a:xfrm>
              <a:off x="457200" y="3413520"/>
              <a:ext cx="2217600" cy="474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</a:rPr>
                <a:t>can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7905"/>
            <p:cNvSpPr/>
            <p:nvPr/>
          </p:nvSpPr>
          <p:spPr>
            <a:xfrm>
              <a:off x="1943640" y="4101480"/>
              <a:ext cx="2217600" cy="474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</a:rPr>
                <a:t>código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7906"/>
            <p:cNvSpPr/>
            <p:nvPr/>
          </p:nvSpPr>
          <p:spPr>
            <a:xfrm>
              <a:off x="3429360" y="4789440"/>
              <a:ext cx="5310720" cy="8733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</a:rPr>
                <a:t>Instituciones, agencias, política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</a:rPr>
                <a:t>Cf. CAMPO SIMBOLICO Y MATERI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68400" y="333360"/>
            <a:ext cx="720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3e3ff"/>
                </a:solidFill>
                <a:latin typeface="Arial"/>
              </a:rPr>
              <a:t>ESQUEMA COMUNICACIONAL</a:t>
            </a:r>
            <a:br>
              <a:rPr sz="2000"/>
            </a:br>
            <a:r>
              <a:rPr b="1" i="1" lang="es-ES_tradnl" sz="2000" spc="-1" strike="noStrike">
                <a:solidFill>
                  <a:srgbClr val="e3e3ff"/>
                </a:solidFill>
                <a:latin typeface="Arial"/>
              </a:rPr>
              <a:t>cf. Teoría del Reflejo o Proceso de Producción y Apropiación Cul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stemas Significan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STEMA SIGNIFICANTE Y PRAXIS ESPECÍFICA ABARCA DESDE EL LENGUAJE, LAS ARTES, LA FILOSOFÍA, EL PERIODISMO, LA MODA Y LA PUBLICIDAD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ULTURA: CAMPO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TENSIONADO y DISCUTIBLE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SABER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. La cultura: un campo de temas “menores”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literatura vs. industria; sociología de la familia o delincuencia, sociología de la religión, de la educación y del cono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beres “nuevos”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los medios de comunicación y posteriormente, las “artes”. Estudios    “marginales” o “periféricos” a la sociología “dura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formul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,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os procesos que conducen a culturas marginales y perifér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 para las margin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I. C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2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  “espíritu conformador”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deal, religioso o nacional)  a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“cultura vivida”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“determinad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or otros procesos sociales, ahora diversamente designados, formas particulares de orden político o económic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3 En tanto “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ultivo activo de la ment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” se distinguen significados como :  1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. estado DE UNA PERSONA 2. Procesos de desarrollo (intereses culturales y actividades culturales); 3. Medios de estos procesos, como  las artes y las obras humanas intelectuales en l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0:48:52Z</dcterms:created>
  <dc:creator>Kemy Oyazun Vaccaro</dc:creator>
  <dc:description/>
  <dc:language>en-US</dc:language>
  <cp:lastModifiedBy>Kemy Oyarzun</cp:lastModifiedBy>
  <dcterms:modified xsi:type="dcterms:W3CDTF">2006-11-23T15:30:44Z</dcterms:modified>
  <cp:revision>52</cp:revision>
  <dc:subject/>
  <dc:title>RAYMOND WILLIAMS </dc:title>
</cp:coreProperties>
</file>