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87676-E541-4476-873C-E76F3F6B8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509DD-8E9B-47B4-A565-5A8473C8A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78B1F-CAAE-4D1A-9D54-8100940C5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333A3-6582-4DF7-992C-B692E8337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7F828DB-B532-40DF-8F01-20CF4BC02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FB0452-41D3-4D19-BFD4-DF99D614B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464A97-BC32-4604-B44E-89A640A75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8B3110-4F4C-4B6A-AFDA-EB7D7581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96F577-34F7-4515-9B2C-6F97D1144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922CB3-9ACC-4620-ACF4-E5F8CDEB3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889FC2-D2A9-4B9B-803A-11F2D41EA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720B-9E25-402A-9228-C43ADB7C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FF34BA-401F-4DD1-80A8-D1069CD8D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9E3151-F0CA-462E-AE58-400D2041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0BA046-D2FA-4876-826A-70A76E633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017A90F-1DEB-4FCA-9871-93E6411F7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7CDC535-577F-4745-8333-7AACC244C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0F5760-84D8-4CCF-8BEB-76293D727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C6767-BF92-4E31-93E6-3AA7856B0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233BF-CF86-47D6-998E-763DFCFDE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C58A1-D694-41BF-866E-951A283CC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F1C1A-7963-4771-B460-587748F15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2FA6C-3F9A-49CE-B574-C0DFF464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FA488-3A78-4697-A7BD-272E1084A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2DDF4-EFBF-4FB2-9601-39D35F280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BC285-9300-47E9-9F0F-0A6AA79C0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49CAF-E84E-410B-8E79-110C90514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A7E17-A359-4396-8CD5-179F797A9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2CDD98-A804-4234-B109-DBE0BFD9C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376826-FE0C-4FE9-BA10-E55ABB79D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A00CD3A-0D47-4FBD-BB92-01CCCE23A55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57E7E30-814A-4B56-A963-D589C964DC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C7164BD-D1C1-494C-BA69-381856F670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56070-E6D4-4D87-A317-B9A4C2C4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62280B0-D089-4E49-91CA-33777C37CDD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65F4DFA-7FF0-4295-9C8F-D0C6043218A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2E00B51-9704-4E2A-8B62-B667BA409A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7756A8C-3401-46F9-BD75-B01A0B8C24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E85CC4F-B2DE-46E3-ABD1-038F261F92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559C8FA-196A-44D8-A06F-AFC88EE9AD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967B858-0183-4AA6-A8AC-1C35F7E754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4175662-66D2-426B-B00E-4EF844BA97F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1FAD60B-2329-4314-AF7E-75E88D49D4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A431986-D00B-484A-BC00-2D8A1E4FD6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4A4B3-8CE3-4056-9804-41F4A053E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9BE05E-6580-4079-A06A-E23F9E39C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0A34D0-491C-4E05-850C-ACF83057D3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EA62CF-CA11-4F97-A835-607A73F4F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892AFA-4CDE-461A-99E0-357C5BA3D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585FE8-1585-4ED9-AC7D-10C90B16C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DA1526-350E-4893-9580-E8B7B162B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7A575E-02DF-4EA9-A622-AE1B33614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F9BA12-D424-4353-94D0-BA046BEC5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F7362B-5FBD-4B94-B393-85161A8E5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E9F0199-5108-4C4A-BF6B-5E4C95DA9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B83B-0658-4F1C-96D9-7C9EAE9B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FE585C-9AA9-4645-9CBF-23AECEFAD7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14E0EEF-4F2A-4C5F-91A7-6BE14732DA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3710AA-D54A-462B-8B5E-6F3290CDE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A6FF2E-111C-40D3-A6D4-B438327D63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9D07C6F-B677-4F4E-9512-E81BF886D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9918EED-66A9-4B02-92C9-B65D01429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D515724-06CF-4E36-8B30-9DF801F2E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770CC3-A299-4D67-9054-963312934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627AF0-A576-4A04-AB1F-2EB660A6A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B76841-6935-4466-B3B7-6F0ABC21F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9006-28E5-4092-8176-3610BBF5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3D52CE8-4756-4ABC-BBDF-5C11DFE82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CD42A17-BABC-4DC9-BFE9-8772AE7AF5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77F9521-D79C-4DDA-8269-99736C3585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4E62-3889-47FA-8272-99A6DC32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C474-4D9E-406B-B96E-22DBE2B47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D613-D2C7-4398-B8C5-549E19F6E75B}"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Conector recto"/>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7 Conector recto"/>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10 Elipse"/>
          <p:cNvSpPr/>
          <p:nvPr/>
        </p:nvSpPr>
        <p:spPr>
          <a:xfrm>
            <a:off x="4540320" y="3525840"/>
            <a:ext cx="46080" cy="46080"/>
          </a:xfrm>
          <a:prstGeom prst="ellipse">
            <a:avLst/>
          </a:prstGeom>
          <a:solidFill>
            <a:srgbClr val="f3a447"/>
          </a:solidFill>
          <a:ln w="255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9F1D-9FDA-4558-B0F8-D07669F9E52B}"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6 Conector recto"/>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27AE-893F-4E95-9043-A80777050571}"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6 Conector recto"/>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7 Conector recto"/>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406F-9612-4ADE-AB84-F6BF613DEC30}"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6A40-FC8A-45E5-92DD-6D34F479A04D}"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E4D7-E8E0-4BBD-AACE-E55944ED5978}"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efac9"/>
                </a:solidFill>
                <a:latin typeface="Constantia"/>
              </a:rPr>
              <a:t>Chapters 1-10</a:t>
            </a:r>
            <a:endParaRPr b="0" lang="en-US" sz="2200" spc="-1" strike="noStrike">
              <a:solidFill>
                <a:srgbClr val="ffffff"/>
              </a:solidFill>
              <a:latin typeface="Constantia"/>
            </a:endParaRPr>
          </a:p>
        </p:txBody>
      </p:sp>
      <p:pic>
        <p:nvPicPr>
          <p:cNvPr id="253" name="1 Título"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Marcador de texto" descr=""/>
          <p:cNvPicPr/>
          <p:nvPr/>
        </p:nvPicPr>
        <p:blipFill>
          <a:blip r:embed="rId1"/>
          <a:stretch/>
        </p:blipFill>
        <p:spPr>
          <a:xfrm>
            <a:off x="347760" y="1395360"/>
            <a:ext cx="4157640" cy="774720"/>
          </a:xfrm>
          <a:prstGeom prst="rect">
            <a:avLst/>
          </a:prstGeom>
          <a:ln w="0">
            <a:noFill/>
          </a:ln>
        </p:spPr>
      </p:pic>
      <p:sp>
        <p:nvSpPr>
          <p:cNvPr id="255" name=""/>
          <p:cNvSpPr txBox="1"/>
          <p:nvPr/>
        </p:nvSpPr>
        <p:spPr>
          <a:xfrm>
            <a:off x="45720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Benne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s. Benne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Elizabeth / Lizz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Jan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Ly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Kit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ary</a:t>
            </a:r>
            <a:endParaRPr b="0" lang="en-US" sz="2600" spc="-1" strike="noStrike">
              <a:solidFill>
                <a:srgbClr val="ffffff"/>
              </a:solidFill>
              <a:latin typeface="Constantia"/>
            </a:endParaRPr>
          </a:p>
        </p:txBody>
      </p:sp>
      <p:sp>
        <p:nvSpPr>
          <p:cNvPr id="256" name=""/>
          <p:cNvSpPr txBox="1"/>
          <p:nvPr/>
        </p:nvSpPr>
        <p:spPr>
          <a:xfrm>
            <a:off x="464976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Bingle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Darc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aroline Bingle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s. Hurs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rlotte Lucas</a:t>
            </a:r>
            <a:endParaRPr b="0" lang="en-US" sz="2600" spc="-1" strike="noStrike">
              <a:solidFill>
                <a:srgbClr val="ffffff"/>
              </a:solidFill>
              <a:latin typeface="Constantia"/>
            </a:endParaRPr>
          </a:p>
        </p:txBody>
      </p:sp>
      <p:pic>
        <p:nvPicPr>
          <p:cNvPr id="257" name="4 Título" descr=""/>
          <p:cNvPicPr/>
          <p:nvPr/>
        </p:nvPicPr>
        <p:blipFill>
          <a:blip r:embed="rId2"/>
          <a:stretch/>
        </p:blipFill>
        <p:spPr>
          <a:xfrm>
            <a:off x="219240" y="152280"/>
            <a:ext cx="8474040" cy="1152720"/>
          </a:xfrm>
          <a:prstGeom prst="rect">
            <a:avLst/>
          </a:prstGeom>
          <a:ln w="0">
            <a:noFill/>
          </a:ln>
        </p:spPr>
      </p:pic>
      <p:grpSp>
        <p:nvGrpSpPr>
          <p:cNvPr id="258" name="5 Marcador de texto"/>
          <p:cNvGrpSpPr/>
          <p:nvPr/>
        </p:nvGrpSpPr>
        <p:grpSpPr>
          <a:xfrm>
            <a:off x="4645080" y="1395360"/>
            <a:ext cx="4048200" cy="774720"/>
            <a:chOff x="4645080" y="1395360"/>
            <a:chExt cx="4048200" cy="774720"/>
          </a:xfrm>
        </p:grpSpPr>
        <p:pic>
          <p:nvPicPr>
            <p:cNvPr id="259" name="5 Marcador de texto" descr=""/>
            <p:cNvPicPr/>
            <p:nvPr/>
          </p:nvPicPr>
          <p:blipFill>
            <a:blip r:embed="rId3"/>
            <a:stretch/>
          </p:blipFill>
          <p:spPr>
            <a:xfrm>
              <a:off x="4645080" y="1395360"/>
              <a:ext cx="4048200" cy="774720"/>
            </a:xfrm>
            <a:prstGeom prst="rect">
              <a:avLst/>
            </a:prstGeom>
            <a:ln w="0">
              <a:noFill/>
            </a:ln>
          </p:spPr>
        </p:pic>
        <p:sp>
          <p:nvSpPr>
            <p:cNvPr id="260"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efac9"/>
                  </a:solidFill>
                  <a:latin typeface="Constantia"/>
                </a:rPr>
                <a:t>Other characters</a:t>
              </a:r>
              <a:endParaRPr b="0" lang="en-US" sz="2600" spc="-1" strike="noStrike">
                <a:solidFill>
                  <a:srgbClr val="ffffff"/>
                </a:solidFill>
                <a:latin typeface="Constanti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o is the protagonist of this novel? Identify him/her quickly by name, age, social class, family, and occupation.</a:t>
            </a:r>
            <a:endParaRPr b="0" lang="en-US" sz="2400" spc="-1" strike="noStrike">
              <a:solidFill>
                <a:srgbClr val="ffffff"/>
              </a:solidFill>
              <a:latin typeface="Constantia"/>
            </a:endParaRPr>
          </a:p>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lizabeth is twenty years old. The reader sees most of the literary world through the eyes of Elizabeth. She belongs to the country side of England, middle class. Her father has about 2,000 a year. Elizabeth is lively, light, independent. Her closest relationships are with her father, Jane, Charlotte Lukas.</a:t>
            </a:r>
            <a:endParaRPr b="0" lang="en-US" sz="2400" spc="-1" strike="noStrike">
              <a:solidFill>
                <a:srgbClr val="ffffff"/>
              </a:solidFill>
              <a:latin typeface="Constantia"/>
            </a:endParaRPr>
          </a:p>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r. Darcy: above twenty six years old, belongs to an aristocratic family. He’s a gentleman and at the beginning raises the expectation for having 10,000 a year. He’s the heir of Pemberly in Derbyshire.</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2" name="2 Título" descr=""/>
          <p:cNvPicPr/>
          <p:nvPr/>
        </p:nvPicPr>
        <p:blipFill>
          <a:blip r:embed="rId1"/>
          <a:stretch/>
        </p:blipFill>
        <p:spPr>
          <a:xfrm>
            <a:off x="219240" y="146160"/>
            <a:ext cx="8474040" cy="12319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62"/>
                                        </p:tgtEl>
                                        <p:attrNameLst>
                                          <p:attrName>style.visibility</p:attrName>
                                        </p:attrNameLst>
                                      </p:cBhvr>
                                      <p:to>
                                        <p:strVal val="visible"/>
                                      </p:to>
                                    </p:set>
                                    <p:animEffect filter="wipe(down)" transition="in">
                                      <p:cBhvr additive="repl">
                                        <p:cTn id="7" dur="500"/>
                                        <p:tgtEl>
                                          <p:spTgt spid="2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 dur="2000"/>
                                        <p:tgtEl>
                                          <p:spTgt spid="2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7" dur="2000"/>
                                        <p:tgtEl>
                                          <p:spTgt spid="26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2" dur="2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Summarize as briefly as possible the </a:t>
            </a:r>
            <a:r>
              <a:rPr b="0" lang="en-US" sz="2400" spc="-1" strike="noStrike" u="sng">
                <a:solidFill>
                  <a:srgbClr val="ffffff"/>
                </a:solidFill>
                <a:uFillTx/>
                <a:latin typeface="Constantia"/>
              </a:rPr>
              <a:t>single</a:t>
            </a:r>
            <a:r>
              <a:rPr b="0" lang="en-US" sz="2400" spc="-1" strike="noStrike">
                <a:solidFill>
                  <a:srgbClr val="ffffff"/>
                </a:solidFill>
                <a:latin typeface="Constantia"/>
              </a:rPr>
              <a:t> change which occurs to the protagonist during the course of this novel, taking care to specify whether this change is mainly one of fortune, moral character, or knowledge.</a:t>
            </a: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in change that occurs to Mr. Darcy and Elizabeth is that they are going to fall in love, but this is not to be seen in the first 10 chapters. At the beginning the reader is acquainted with the dislike they feel for each other, but later on we feel that there is some attraction.</a:t>
            </a:r>
            <a:br>
              <a:rPr sz="2400"/>
            </a:b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264"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9" dur="2000"/>
                                        <p:tgtEl>
                                          <p:spTgt spid="2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3">
                                            <p:txEl>
                                              <p:pRg st="3" end="3"/>
                                            </p:txEl>
                                          </p:spTgt>
                                        </p:tgtEl>
                                        <p:attrNameLst>
                                          <p:attrName>style.visibility</p:attrName>
                                        </p:attrNameLst>
                                      </p:cBhvr>
                                      <p:to>
                                        <p:strVal val="visible"/>
                                      </p:to>
                                    </p:set>
                                    <p:animEffect filter="fade" transition="in">
                                      <p:cBhvr additive="repl">
                                        <p:cTn id="34" dur="20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Which do you mean?" and turning round he looked for a moment at Elizabeth, till catching her eye, he withdrew his own and coldly said: "She is tolerable, but not handsome enough to tempt _me_; I am in no humour at present to give consequence to young ladies who are slighted by other men. You had better return to your partner and enjoy her smiles, for you are wasting your time with me." (11)</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u conjecture is totally wrong, I assure you. My mind was more agreeably engaged. I have been meditating on the very great pleasure which a pair of fine eyes in the face of a pretty woman can bestow." Miss Bingley immediately fixed her eyes on his face, and desired he would tell her what lady had the credit of inspiring such reflections. Mr. Darcy replied with great intrepidity: "Miss Elizabeth Bennet." </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6"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41" dur="2000"/>
                                        <p:tgtEl>
                                          <p:spTgt spid="26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5">
                                            <p:txEl>
                                              <p:pRg st="1" end="1"/>
                                            </p:txEl>
                                          </p:spTgt>
                                        </p:tgtEl>
                                        <p:attrNameLst>
                                          <p:attrName>style.visibility</p:attrName>
                                        </p:attrNameLst>
                                      </p:cBhvr>
                                      <p:to>
                                        <p:strVal val="visible"/>
                                      </p:to>
                                    </p:set>
                                    <p:animEffect filter="fade" transition="in">
                                      <p:cBhvr additive="repl">
                                        <p:cTn id="46" dur="20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3. Trace the progress of this change through these detailed stag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the original situation of the protagonist (include the initial possibilities of later disequilibrium)</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 the precipitating event (or series of events) which begins to involve the protagonist in a central tension.</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 the alternative types of action which are available to the protagonist as her/his involvement intensifi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 the major steps that intensify the involvement. Show how each step advances the involvement, and how it changes the relative strength of the alternativ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e. the crisis. Show what event precipitates the crisis and how.</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f. the resolution. Show what event breaks the crisis and how.</a:t>
            </a:r>
            <a:endParaRPr b="0" lang="en-US" sz="22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68"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3" dur="2000"/>
                                        <p:tgtEl>
                                          <p:spTgt spid="26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8" dur="2000"/>
                                        <p:tgtEl>
                                          <p:spTgt spid="267">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67">
                                            <p:txEl>
                                              <p:pRg st="2" end="2"/>
                                            </p:txEl>
                                          </p:spTgt>
                                        </p:tgtEl>
                                        <p:attrNameLst>
                                          <p:attrName>style.visibility</p:attrName>
                                        </p:attrNameLst>
                                      </p:cBhvr>
                                      <p:to>
                                        <p:strVal val="visible"/>
                                      </p:to>
                                    </p:set>
                                    <p:animEffect filter="fade" transition="in">
                                      <p:cBhvr additive="repl">
                                        <p:cTn id="63" dur="2000"/>
                                        <p:tgtEl>
                                          <p:spTgt spid="267">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67">
                                            <p:txEl>
                                              <p:pRg st="3" end="3"/>
                                            </p:txEl>
                                          </p:spTgt>
                                        </p:tgtEl>
                                        <p:attrNameLst>
                                          <p:attrName>style.visibility</p:attrName>
                                        </p:attrNameLst>
                                      </p:cBhvr>
                                      <p:to>
                                        <p:strVal val="visible"/>
                                      </p:to>
                                    </p:set>
                                    <p:animEffect filter="fade" transition="in">
                                      <p:cBhvr additive="repl">
                                        <p:cTn id="68" dur="2000"/>
                                        <p:tgtEl>
                                          <p:spTgt spid="26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67">
                                            <p:txEl>
                                              <p:pRg st="4" end="4"/>
                                            </p:txEl>
                                          </p:spTgt>
                                        </p:tgtEl>
                                        <p:attrNameLst>
                                          <p:attrName>style.visibility</p:attrName>
                                        </p:attrNameLst>
                                      </p:cBhvr>
                                      <p:to>
                                        <p:strVal val="visible"/>
                                      </p:to>
                                    </p:set>
                                    <p:animEffect filter="fade" transition="in">
                                      <p:cBhvr additive="repl">
                                        <p:cTn id="73" dur="2000"/>
                                        <p:tgtEl>
                                          <p:spTgt spid="267">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67">
                                            <p:txEl>
                                              <p:pRg st="5" end="5"/>
                                            </p:txEl>
                                          </p:spTgt>
                                        </p:tgtEl>
                                        <p:attrNameLst>
                                          <p:attrName>style.visibility</p:attrName>
                                        </p:attrNameLst>
                                      </p:cBhvr>
                                      <p:to>
                                        <p:strVal val="visible"/>
                                      </p:to>
                                    </p:set>
                                    <p:animEffect filter="fade" transition="in">
                                      <p:cBhvr additive="repl">
                                        <p:cTn id="78" dur="2000"/>
                                        <p:tgtEl>
                                          <p:spTgt spid="267">
                                            <p:txEl>
                                              <p:pRg st="5" end="5"/>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67">
                                            <p:txEl>
                                              <p:pRg st="6" end="6"/>
                                            </p:txEl>
                                          </p:spTgt>
                                        </p:tgtEl>
                                        <p:attrNameLst>
                                          <p:attrName>style.visibility</p:attrName>
                                        </p:attrNameLst>
                                      </p:cBhvr>
                                      <p:to>
                                        <p:strVal val="visible"/>
                                      </p:to>
                                    </p:set>
                                    <p:animEffect filter="fade" transition="in">
                                      <p:cBhvr additive="repl">
                                        <p:cTn id="83" dur="2000"/>
                                        <p:tgtEl>
                                          <p:spTgt spid="2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 What questions of probability arise in this novel? (Suggestion: select the two or three events which would be most unlikely in ordinary life; show how the likelihood of these events is established in the novel, or how their occurrence may be artistically justified.) In general, are the events of this novel made sufficiently probable to support its total design?</a:t>
            </a:r>
            <a:endParaRPr b="0" lang="en-US" sz="22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6. At what one or two points in this novel is tension highest? Lowest? How is that degree of tension produced, and how is it appropriate? Does this novel as a whole seem to be high-tension or low-tension? How is the degree of tension appropriate to the design of the novel as a whole?</a:t>
            </a:r>
            <a:br>
              <a:rPr sz="2200"/>
            </a:br>
            <a:br>
              <a:rPr sz="2200"/>
            </a:br>
            <a:br>
              <a:rPr sz="2200"/>
            </a:br>
            <a:r>
              <a:rPr b="0" lang="en-US" sz="2200" spc="-1" strike="noStrike">
                <a:solidFill>
                  <a:srgbClr val="ffffff"/>
                </a:solidFill>
                <a:latin typeface="Constantia"/>
              </a:rPr>
              <a:t> </a:t>
            </a:r>
            <a:endParaRPr b="0" lang="en-US" sz="2200" spc="-1" strike="noStrike">
              <a:solidFill>
                <a:srgbClr val="ffffff"/>
              </a:solidFill>
              <a:latin typeface="Constantia"/>
            </a:endParaRPr>
          </a:p>
        </p:txBody>
      </p:sp>
      <p:pic>
        <p:nvPicPr>
          <p:cNvPr id="270"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70"/>
                                        </p:tgtEl>
                                        <p:attrNameLst>
                                          <p:attrName>style.visibility</p:attrName>
                                        </p:attrNameLst>
                                      </p:cBhvr>
                                      <p:to>
                                        <p:strVal val="visible"/>
                                      </p:to>
                                    </p:set>
                                    <p:animEffect filter="fade" transition="in">
                                      <p:cBhvr additive="repl">
                                        <p:cTn id="90" dur="2000"/>
                                        <p:tgtEl>
                                          <p:spTgt spid="2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69">
                                            <p:txEl>
                                              <p:pRg st="0" end="0"/>
                                            </p:txEl>
                                          </p:spTgt>
                                        </p:tgtEl>
                                        <p:attrNameLst>
                                          <p:attrName>style.visibility</p:attrName>
                                        </p:attrNameLst>
                                      </p:cBhvr>
                                      <p:to>
                                        <p:strVal val="visible"/>
                                      </p:to>
                                    </p:set>
                                    <p:animEffect filter="fade" transition="in">
                                      <p:cBhvr additive="repl">
                                        <p:cTn id="95" dur="2000"/>
                                        <p:tgtEl>
                                          <p:spTgt spid="2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69">
                                            <p:txEl>
                                              <p:pRg st="2" end="2"/>
                                            </p:txEl>
                                          </p:spTgt>
                                        </p:tgtEl>
                                        <p:attrNameLst>
                                          <p:attrName>style.visibility</p:attrName>
                                        </p:attrNameLst>
                                      </p:cBhvr>
                                      <p:to>
                                        <p:strVal val="visible"/>
                                      </p:to>
                                    </p:set>
                                    <p:animEffect filter="fade" transition="in">
                                      <p:cBhvr additive="repl">
                                        <p:cTn id="100" dur="2000"/>
                                        <p:tgtEl>
                                          <p:spTgt spid="2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20:03:00Z</dcterms:created>
  <dc:creator>Erika</dc:creator>
  <dc:description/>
  <dc:language>en-US</dc:language>
  <cp:lastModifiedBy>Erika</cp:lastModifiedBy>
  <dcterms:modified xsi:type="dcterms:W3CDTF">2008-10-26T21:48:57Z</dcterms:modified>
  <cp:revision>11</cp:revision>
  <dc:subject/>
  <dc:title>Pride and Prejudice</dc:title>
</cp:coreProperties>
</file>