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CD3E-FDE1-4ECE-B3BF-EBA73E0A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248A-2D02-48EF-952E-B921A06B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DD5A-5BD9-45CB-9191-F0479684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1694-6755-4C2A-9F1E-8CF6DF27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4C8E-537E-48D6-A681-BC15F747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216C-C8F0-4BF1-9B18-511B6934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7063-F76D-467C-922F-D51EC516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3592-F013-43ED-B2A7-368B14AB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8BF4-AEEE-4C01-A531-2389F0C6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64E3-F68D-4D6C-B4FF-33A41F76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B1E5-0CE4-4DF9-901B-57081CF9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FB8A-F821-4276-981B-AD7AF567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9CE2-B904-4428-999A-763F4116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20FB-22EF-46F8-9383-729B29C2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6BAB-B54D-4587-89A7-646C2D95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AEC7-FAE4-44BE-8181-090D78CC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2090-ABE6-4004-A598-A5152878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3DB3-085B-46B0-8A7B-06A7641D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367B-7B6E-4938-876B-15E191FC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5A4-524D-452B-ACEC-A2E93873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81F9-2D94-4096-B18C-A0F37745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14AA-16A5-4435-ACB5-01D961A5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48B9-628A-496E-B84E-81054473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D1B-455E-4C81-8512-9A480395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D17F-584F-4F3A-A3E1-0BA1F43934D1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4538-8AAF-4CDF-B9F2-6558B5D0A7B3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he Prose of Samuel Richardson and Henry Fiel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ext Generation of noveli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4437000"/>
            <a:ext cx="1758960" cy="2087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732720" y="436572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Field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elding has been both admired and criticized by Coleridge, Johnson and Stern. He is considered a master but a hypocritic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elding remains as one of the most important writers because of the importance the novel acquired thanks to hi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Henry Field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nry Fielding was a very satiric dramatist. One of his first compositions was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hamel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, a pastiche of Pame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hamel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satirically attacks the hypocritical morality which the novel display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Joseph Andrew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was also a parody of Pame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elding focuses more on male charact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om Jones</a:t>
            </a: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 (1749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m is the model of a young man enjoying his freedom (to travel, to have relationships with women, to enjoy sensual expe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en he matures, he understands the social role that he has and decides to mar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m is a sort of hero and the reader usually sympathises with hi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he moral co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woman Tom loves look like a medieval maiden, she has been waiting for him without ever “falling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emale virtue has to do with waiting until the hero of the novel has become respectable. When that happens she marries hi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Moral co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t would a terrible mistake for a woman to “fall” that means to yield to the sensual /sexual experiences outside marriage or with a man who is not respectable and virtu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re is an interesting trip from the innocent world of sensuality to the mature and experience world of moral reform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Samuel Richards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ove stories become import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amuel Richardson made his way through poverty to becoming a prin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 starts writing moral stor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amuel Richardson creates the “right” heroines for the times. His heroines are poor but virtuo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mel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 the case of Pamela, Richardson creates a heroine that suffers a series of attempts from Mr. B to be rap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mela resists these attacks strongly. She also refuses to become Mr. B’s mistress and in the end, Mr. B falls in love with her and they marri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mel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re is a contrast between male domination and female restraint. The emphasis is on virtue symbolized in chastit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mela was a huge success but underscores role distinction which were to become predominant for two centuries: the male provider, strong, master and the woman as a victim and preserving virt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Female role/Clariss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female role in society is established in relation with the male role and any deviation is seen as morally reprehensi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 Clarissa, his most important novel, there are four people writing lett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male character in Clarissa is a strong, dominant man called Lovelace and he plays with her emotions in devious way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Clariss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 the end, Lovelace consigns Clarissa to a brothel and attempts rap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nally, Lovelace succeeds in raping Clarissa after drugging  her. Clarissa starts losing her reason and her identity. Clarissa dies in the e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3:10:10Z</dcterms:created>
  <dc:creator>.</dc:creator>
  <dc:description/>
  <dc:language>en-US</dc:language>
  <cp:lastModifiedBy>.</cp:lastModifiedBy>
  <dcterms:modified xsi:type="dcterms:W3CDTF">2008-09-30T19:58:07Z</dcterms:modified>
  <cp:revision>10</cp:revision>
  <dc:subject/>
  <dc:title>The Prose of Samuel Richardson and Henry Fielding</dc:title>
</cp:coreProperties>
</file>