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482-7CC7-4AA7-B3EB-11B99D88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434-B34F-4109-A142-79AD8312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0D9-60C9-4A8C-82A2-B73BEB91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A14-758D-45BA-9BFA-0012399A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CC58-6F14-4D94-AA66-E6A418BC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9501-9433-4AC4-A769-059B8971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C43F-D0A9-4410-A7F7-E22BF89D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12C9-1723-43BF-B986-45F372FC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4E66-49DD-4951-8F4A-56F6B61E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9044-645F-46D0-B81D-8D72FF92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37E0-E82A-4819-B7EC-ECD62DCE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AB9-46C2-4372-B3FE-82E5A7CD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5A43-4D42-4751-A8C7-4FA7C727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B266-4CD9-4D1B-BB45-405A6D9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5F62-818B-4971-B938-256A9BDF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0F4F-403E-40DA-ABD3-8759B254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942D-0744-4CE3-87EB-62B44330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4F4-91D1-414D-A52A-EE3FD68F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310-229D-4567-BBB5-99579E7C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70C-E475-4000-BAC4-D460B306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E0A-C9C0-4706-9EA4-508AAD75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1FC-506F-4E55-9776-3530DBD3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FBE-338F-4CD3-9020-D44C2183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9F4-5D68-45D0-815E-202B2E67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0565-3ABD-4E1E-8A1A-64575A32318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2E2A-DB15-4C5A-BEE0-DA0CE020429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he Prose of Samuel Richardson and Henry Fiel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xt Generation of noveli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4437000"/>
            <a:ext cx="1758960" cy="2087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32720" y="436572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Field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elding has been both admired and criticized by Coleridge, Johnson and Stern. He is considered a master but a hypocritic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elding remains as one of the most important writers because of the importance the novel acquired thanks to h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Henry Field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nry Fielding was a very satiric dramatist. One of his first compositions was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hamel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 a pastiche of Pame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Shamel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atirically attacks the hypocritical morality which the novel display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Joseph Andrew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as also a parody of Pame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elding focuses more on male charac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om Jones</a:t>
            </a: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 (1749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m is the model of a young man enjoying his freedom (to travel, to have relationships with women, to enjoy sensual expe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en he matures, he understands the social role that he has and decides to mar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m is a sort of hero and the reader usually sympathises with h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he moral co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woman Tom loves look like a medieval maiden, she has been waiting for him without ever “falling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emale virtue has to do with waiting until the hero of the novel has become respectable. When that happens she marries h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Moral co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t would a terrible mistake for a woman to “fall” that means to yield to the sensual /sexual experiences outside marriage or with a man who is not respectable and virt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re is an interesting trip from the innocent world of sensuality to the mature and experience world of moral re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Samuel Richards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ve stories become import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amuel Richardson made his way through poverty to becoming a prin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 starts writing moral sto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amuel Richardson creates the “right” heroines for the times. His heroines are poor but virtuo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mel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 the case of Pamela, Richardson creates a heroine that suffers a series of attempts from Mr. B to be rap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mela resists these attacks strongly. She also refuses to become Mr. B’s mistress and in the end, Mr. B falls in love with her and they marr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mel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re is a contrast between male domination and female restraint. The emphasis is on virtue symbolized in chastit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mela was a huge success but underscores role distinction which were to become predominant for two centuries: the male provider, strong, master and the woman as a victim and preserving virt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Female role/Clariss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emale role in society is established in relation with the male role and any deviation is seen as morally reprehensi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Clarissa, his most important novel, there are four people writing let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ale character in Clarissa is a strong, dominant man called Lovelace and he plays with her emotions in devious way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Clariss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 the end, Lovelace consigns Clarissa to a brothel and attempts rap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lly, Lovelace succeeds in raping Clarissa after drugging  her. Clarissa starts losing her reason and her identity. Clarissa dies in the e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3:10:10Z</dcterms:created>
  <dc:creator>.</dc:creator>
  <dc:description/>
  <dc:language>en-US</dc:language>
  <cp:lastModifiedBy>.</cp:lastModifiedBy>
  <dcterms:modified xsi:type="dcterms:W3CDTF">2008-09-30T19:58:07Z</dcterms:modified>
  <cp:revision>10</cp:revision>
  <dc:subject/>
  <dc:title>The Prose of Samuel Richardson and Henry Fielding</dc:title>
</cp:coreProperties>
</file>