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ED660-3566-415F-A1F5-54F3A04B9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27061-D8DE-42AA-9A2E-3D5B81C2E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84B01-9055-441E-BC3E-0070D021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A119-1850-440E-BD52-1821F9BED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8F6C2-35CE-4801-B179-B6268E8608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0BF65-10D1-441F-9217-87C2DF596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DA9A4-0ABF-44D3-93B4-E97B65C75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A436B-8674-4658-976B-239E0DF81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448F-DCB5-4557-9D91-5062BC09C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0872A-83DA-4D6E-9848-BD91F8A89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1BE88-074C-4DCD-92A0-AE8F9B28D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CA2DF-D090-4BEE-90F2-10C9900D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D4B68-2C27-420A-B297-83D49C649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A6B8-A92A-4605-8F4D-7B101A6C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9D9C9-CCEF-4C04-9EB7-D7167C55F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286F9-DDBA-4723-9EB6-BF2DA7F22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8F222-2E89-4739-ACEE-B550D8B89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0D16F2-4DF8-4AD2-B60E-6FA9B22135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8563E-7989-4C45-9FD7-351AE7FC8A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CF8EE-1807-443A-A631-67E07BDD4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B6167-BD12-45C0-863C-9445E8697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0C254-4DFD-4106-9786-7915099D04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78C65-C150-44D8-A29B-7D0249B6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31818-27ED-405B-90B6-31FC5E847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F8BB3-0827-439D-A65E-9A9C51C52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55482-FF84-4D79-9AB8-340C43140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68A31-D070-45B5-9D9C-85884691F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0D5BE-ACF3-4DD9-ACFA-C42244B0C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A49BF1-7704-42EE-8BA7-D0A8B9E735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A1A0BA-7867-4CA9-AE77-EE03C1246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2DEDC-6CD4-44C3-968D-D2BCF091EC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109B8-84DC-40F4-96C4-1FB010AF1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3CD61-EAD4-4954-87BA-5CA1C64C6C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F1445-3D60-4A9D-A427-501040B3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019C8-47F2-407A-A9DB-C8CE559FB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4DF96-E82E-4468-B061-3656AA5D6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99603-141C-409E-9265-FB53D757D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21E89-94E6-44F9-AB4C-F292E8988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81ED2-837C-4444-BC36-F6C22C46F8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85FE1-A9AE-4453-9B0C-6E78130BF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27572-0C21-4B9B-A21A-B91CB1A0E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77F320-F39F-4750-86D3-004E5D64A2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6A864E-3882-4DB6-A1C6-03CC4B51D1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312665-0423-401F-ABF5-3A40FE941B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5FDB6-489D-4E41-A4F2-5F3349573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04C38A-89DC-4C0D-8DF8-ABBBACDF3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FDA21-4B23-4F00-AF0F-5EB546EDE9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193D6-1467-46CE-9995-7D8D782E7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3A6D50-C511-4D93-8675-168CD3DF8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95E71-6D58-4267-93F3-D0886A394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493B0F-0AD9-4F19-B30E-F5EE2C7F5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E2BDB3-5246-4493-8C36-2D8D605EB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EE45E-3FB7-4BED-8D0C-C6E3ACBDC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F7FF6D-9866-43CB-82A6-02B712371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1941C-B693-4F1A-ACAA-E54FC6C4D3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840C-F7E1-47D9-A216-E2656CD5D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E34C6-0B10-4CB8-8094-86F5CB164D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BAB877-5299-442C-A3E1-A0FA53B834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CC5E5-DB11-45E4-B082-2FEB5EC7C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05DD3-C986-483D-B9DF-609623CC1E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6FAF5-2A0F-4755-A68B-B4D01C7BE9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92F3A-991C-4731-AF9D-D083F4B23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31163-E0B1-45DC-B9F5-15D8C5D8C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BF061-9936-496B-B6F5-167B43032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9D048-A02A-47F0-B416-72DDFE7D3D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C7C94-B6C7-42E0-8AEE-4BFF446E3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9F04F-3020-4DE5-8E93-1A8116459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787A7D-8D60-4856-BA92-7C662AD6EB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1F5649-EAB9-40A3-BFBD-819082D8D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F1C09E-997F-4C1D-86C3-665CB12B1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6EFEDF-0F0B-435F-9F2F-2919BAE57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297DC2-6465-4EE9-B863-9F4A70FEAA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032EE0-7ACD-41A3-A7A5-22FADF2733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B1674C-769B-485C-9450-499373777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6C7274-EE30-438B-937C-E114238FB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3A418-D19F-46FD-83EB-FB3895F1FE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6278B-776F-4A58-ADAD-9DFA4F46C1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E6AA3-D253-44B5-B0E8-2FA175075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5467C-45A9-4691-82A8-EB23CC13F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34341-DE91-41F3-BFF9-481FE6223A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6F9380-A05A-4FAD-9F3A-99BF4AFB9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BB418F-19B4-4AEA-9EAF-477F65A79F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1459FF-707E-4FDD-9E64-87A7FA21AA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45D1AB-ECD3-467A-9914-F78F6099A2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722CA-11FF-4446-BF1D-4282390B6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9C1B54-68EF-4F54-85AC-0757307DA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ADBDF-150A-4D4D-A151-192A6B54AF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52AF8B-DC61-4676-B9E8-DE3960B451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C261-0C87-4333-AC85-F367DD3BA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68C9D-240F-46EB-AEE8-B24EF424A7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EF47F-5867-401C-8CBF-592B1E84E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743F2-47DC-4878-93F3-0AB8B44D1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60991-6763-4DB9-A202-58B59A2DE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1C2167-086F-40DB-8DE0-234B7504A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9B9575-3228-4475-988A-6BF5E964D2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DAFAEE-72DB-4D9F-8BA3-6D4E98E3FB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8D15-67DE-4804-B52E-E58168CE1358}"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3A90-2934-46C0-A312-E1CDBCE6D957}"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F5F1-922E-4CCB-9D45-F210815A0838}"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5C42-0BBC-46DF-990E-C7E9978229F3}"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A653-EFFC-45B0-B98E-75B87A4EC859}"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EB2F-666C-4D82-8748-003456A18590}"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7B9E-6050-4211-9137-2CA091EB3AE2}"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BFD3-C668-491F-9465-F739DD4AFE60}"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Gulliver’s Travel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hapters I and II</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Langro Dehul s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but from context probably means something like "release him" or "untie him"; per Clark "Run from the wild man!" or "Run from the Devil man!" "... he cryed out three times, </a:t>
            </a:r>
            <a:r>
              <a:rPr b="0" i="1" lang="en-US" sz="2600" spc="-1" strike="noStrike">
                <a:solidFill>
                  <a:srgbClr val="000000"/>
                </a:solidFill>
                <a:latin typeface="Gill Sans MT"/>
              </a:rPr>
              <a:t>Langro Dehul san</a:t>
            </a:r>
            <a:r>
              <a:rPr b="0" lang="en-US" sz="2600" spc="-1" strike="noStrike">
                <a:solidFill>
                  <a:srgbClr val="000000"/>
                </a:solidFill>
                <a:latin typeface="Gill Sans MT"/>
              </a:rPr>
              <a:t>: Whereupon immediately about fifty of the Inhabitants came, and cut the Strings that fastened the left side of my Hea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urgo</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Gulliver translates as "a great lord" (I:1); (Clark) "willful" or "will go";</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Borach Mivola</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a shout of warning; "He hurls the drinking cups" [Clark] warning the People below to stand out of the Way, crying aloud, </a:t>
            </a:r>
            <a:r>
              <a:rPr b="0" i="1" lang="en-US" sz="2600" spc="-1" strike="noStrike">
                <a:solidFill>
                  <a:srgbClr val="000000"/>
                </a:solidFill>
                <a:latin typeface="Gill Sans MT"/>
              </a:rPr>
              <a:t>Borach Mivola</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eplom Sel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flee from the rain" [Clark] "a general Shout, with frequent repetitions of the words, </a:t>
            </a:r>
            <a:r>
              <a:rPr b="0" i="1" lang="en-US" sz="2600" spc="-1" strike="noStrike">
                <a:solidFill>
                  <a:srgbClr val="000000"/>
                </a:solidFill>
                <a:latin typeface="Gill Sans MT"/>
              </a:rPr>
              <a:t>Peplom Selan</a:t>
            </a:r>
            <a:r>
              <a:rPr b="0" lang="en-US" sz="2600" spc="-1" strike="noStrike">
                <a:solidFill>
                  <a:srgbClr val="000000"/>
                </a:solidFill>
                <a:latin typeface="Gill Sans MT"/>
              </a:rPr>
              <a:t>, and I felt great Numbers of the People on my Left Side relaxing the Cords" (I:1) </a:t>
            </a:r>
            <a:endParaRPr b="0" lang="en-US" sz="26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lements of analysis: Ch. I and II</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iniature worl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miniature world is a metaphor of the real world: time, history, spacial relationships, language, politic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Lilliputians have been able to create their own cultural world. (there is a well established set of rules, laws, custom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world of the Lilliputians is a perfect world, like a “doll’s house”. Every detail is crafted perfect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ulliver’s body</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lliput, Gulliver seems to become his own body: eating, drinking, defecating, sleeping become important to the point of being grotesqu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e.g. Excrement: symbol of visceral and ignoble of human body. Human condition linked to the b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r the Lilliputians Gulliver is remarkable because of his physicality. The cultural, social, individual dimension of Gulliver is not important for the Lilliputia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Body</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rotesque according to Bakhtin refers to a characteristic and cultural manifestation that presents the body as unbounded, in transform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a degradation. A movement from the upper, sublime part of the body to the basi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ody of Gulliver is constantly submitted to degradation by a movement to the material and bodi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as a way of satire</a:t>
            </a:r>
            <a:endParaRPr b="0" lang="en-US" sz="32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monstrosity and a game of difference and sameness. Through the grotesque the reader would see a likeness to himself that would reveal uncomfortable but salutary truths about himsel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wift’s narrative</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wift’s narrative blurs nothing, but brings this impossible experience in a fresh, exact and plausible wa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hower of arrows from the Lilliputians “pricked me like so many needles“ small but exceedingly painfu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description of the watch, with intelligent ignoranc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64653"/>
                </a:solidFill>
                <a:latin typeface="Bookman Old Style"/>
              </a:rPr>
              <a:t>The clock…</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 Globe, half Silver, and half of some transparent Metal: for on the transparent side we saw certain strange Figures circularly drawn, and thought we could touch them, till we found our Fingers stopped by that lucid Substance. He put this Engine to our Ears, which made an incessant Noise like that of a Water-Mill. And we conjecture it is either some unknown Animal, or the God that he worship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ekinah Degul</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expression of amazement; "What in the Devil!" [Clark] "lifting up his Hands and Eyes by way of Admiration, cried out in a shrill but distinct Voice, </a:t>
            </a:r>
            <a:r>
              <a:rPr b="0" i="1" lang="en-US" sz="2600" spc="-1" strike="noStrike">
                <a:solidFill>
                  <a:srgbClr val="000000"/>
                </a:solidFill>
                <a:latin typeface="Gill Sans MT"/>
              </a:rPr>
              <a:t>Hekinah Degul</a:t>
            </a:r>
            <a:r>
              <a:rPr b="0" lang="en-US" sz="2600" spc="-1" strike="noStrike">
                <a:solidFill>
                  <a:srgbClr val="000000"/>
                </a:solidFill>
                <a:latin typeface="Gill Sans MT"/>
              </a:rPr>
              <a:t>: the others repeated the same Words several times"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shouted for Joy, and danced upon my Breast, repeating several times as they did at first, </a:t>
            </a:r>
            <a:r>
              <a:rPr b="0" i="1" lang="en-US" sz="2600" spc="-1" strike="noStrike">
                <a:solidFill>
                  <a:srgbClr val="000000"/>
                </a:solidFill>
                <a:latin typeface="Gill Sans MT"/>
              </a:rPr>
              <a:t>Hekinah Degul</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olgo Phonac</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not defined: in context, appears to be an order to attack or fire arrows; "Let go! Vomit!" or "Let go vomit!" [Clark] I heard one of them cry aloud, </a:t>
            </a:r>
            <a:r>
              <a:rPr b="0" i="1" lang="en-US" sz="2600" spc="-1" strike="noStrike">
                <a:solidFill>
                  <a:srgbClr val="000000"/>
                </a:solidFill>
                <a:latin typeface="Gill Sans MT"/>
              </a:rPr>
              <a:t>Tolgo Phonac</a:t>
            </a:r>
            <a:r>
              <a:rPr b="0" lang="en-US" sz="2600" spc="-1" strike="noStrike">
                <a:solidFill>
                  <a:srgbClr val="000000"/>
                </a:solidFill>
                <a:latin typeface="Gill Sans MT"/>
              </a:rPr>
              <a:t>; when in an Instant I felt above a Hundred Arrows discharged on my left Han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00:00:51Z</dcterms:created>
  <dc:creator>Erika</dc:creator>
  <dc:description/>
  <dc:language>en-US</dc:language>
  <cp:lastModifiedBy>Erika</cp:lastModifiedBy>
  <dcterms:modified xsi:type="dcterms:W3CDTF">2008-09-24T02:18:14Z</dcterms:modified>
  <cp:revision>12</cp:revision>
  <dc:subject/>
  <dc:title>Gulliver’s Travels</dc:title>
</cp:coreProperties>
</file>