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E6867-CB8E-4629-A36F-3D7B05B72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E555-9EAD-4CB1-9101-6EB4B9FD8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24F11-62B5-4C29-8A6B-0725119AF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7BBD9-9725-482C-8504-8C1CEF7D1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4428-CA15-45BA-A72B-5E873365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3FA97-B6EF-4577-AA96-604390E0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476B3-5988-4E4A-8C25-493FB0C1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B2A1-E4A9-441E-87E5-0E9661F8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863B-2CC7-4366-9C85-1B8EAB10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9C8F-A235-4908-BB03-4DD4E967F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AE2A5-5615-4ECD-87AF-6AB84F0C6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F3B0-F13C-4324-8FA5-7B1007920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52CC-F946-4B3E-9C38-2CF0CC313CC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Satire is a sort of glass, wherein beholders do generally discover everybody’s face but their ow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atire of Jonathan Swi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art IV: </a:t>
            </a:r>
            <a:r>
              <a:rPr b="0" lang="en-US" sz="4000" spc="-1" strike="noStrike">
                <a:solidFill>
                  <a:srgbClr val="000000"/>
                </a:solidFill>
                <a:latin typeface="Calibri"/>
              </a:rPr>
              <a:t>A Voyage to the Country of the Houyhnhnm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sort of creatures: The Horses  (in their language Houyhnhnm or "the perfection of nature") who are the rulers and the deformed creatures ("Yahoos") who are human beings in their basest form.</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becomes a member of the horse's household, and comes to both admire and emulate the Houyhnhnms and their lifestyle, rejecting humans as merely Yaho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ti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atire” is a poem, or prose composition, in which prevailing vices and follies are held up to ridicule” (the Oxford Companion to English Literatu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terary manner which blends a critical attitude with humor and wit to the end that human institutions or humanity may be improved. " (Thrall, et al 436).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ati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satire does not seek to do harm or damage by its ridicule.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eks to create a shock of recognition and to make vice repulsive so that the vice will be expunged from the person or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ulliver’s Trav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novel written by Swift in 1726 and amended in 1735 is a satire on human nature and a parody on the “Travellers’ tales” as a subgen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otagonist of the story is Lemuel Gulliver. As it was the custom at the time, Lemuel tells about his life prior to the voyage and then about the shipwre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washed ashore after a shipwreck and awakes to find himself a prisoner of a race of people one-twelfth the size of normal human beings (6 inches/15cm ta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ies of Lilliput and Blefuscu are rival countries, probably representing England and France in real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giving assurances of his good behavior, he is given a residence in Lilliput and becomes a favourite of the cour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of the court probably represents George I, the King of England when the novel was writte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assists the Lilliputians to subdue their neighbours the Blefuscudians (by stealing their fle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refuses to reduce the country to a province of Lilliput, displeasing the King and the cou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charged with treason and sentenced to be blin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the assistance of a kind friend, Gulliver escapes to Blefusc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Voyage to Brobdingna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ip goes off course and Gulliver is abandoned by the rest of the crew. He arrives into a country where a people are gi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rescued by a farmer who is about 12 meters tall and is looked after his daught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treats him as curiosity and exhibits him for mone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becomes favourite with the qu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 III: A Voyage to Laputa, Balnibarbi, Glubbdubdrib, Luggnagg and Japan</a:t>
            </a:r>
            <a:endParaRPr b="0" lang="en-US" sz="4000" spc="-1" strike="noStrike">
              <a:solidFill>
                <a:srgbClr val="000000"/>
              </a:solidFill>
              <a:latin typeface="Calibri"/>
            </a:endParaRPr>
          </a:p>
        </p:txBody>
      </p:sp>
      <p:sp>
        <p:nvSpPr>
          <p:cNvPr id="58" name=""/>
          <p:cNvSpPr txBox="1"/>
          <p:nvPr/>
        </p:nvSpPr>
        <p:spPr>
          <a:xfrm>
            <a:off x="642960" y="1785960"/>
            <a:ext cx="8043840" cy="4340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sland of Laputa, a kingdom devoted to the arts of music and mathematics but utterly unable to use these for practical ends. The device described simply as The Engine is possibly the first literary description in history of something resembling a compu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9:24:28Z</dcterms:created>
  <dc:creator>Erika</dc:creator>
  <dc:description/>
  <dc:language>en-US</dc:language>
  <cp:lastModifiedBy>Erika</cp:lastModifiedBy>
  <dcterms:modified xsi:type="dcterms:W3CDTF">2008-09-21T21:45:16Z</dcterms:modified>
  <cp:revision>14</cp:revision>
  <dc:subject/>
  <dc:title>Satire is a sort of glass, wherein beholders do generally discover everybody’s face but their own</dc:title>
</cp:coreProperties>
</file>