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AA1-6535-467B-8F2F-A0696DAE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E46-9FD1-4A8A-8279-C00B22E8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A73-E1CC-4829-8142-637684CE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FD7-BFAB-4AAC-A086-20CB1711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2EB1-0A1A-446E-BA36-DD44CFAD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D16C-4266-4F2F-8661-868EC6C7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FBE8-F495-492E-AD31-3B93E35A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6814-4F60-47CE-8E6A-F0E52BE7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470C-3036-49D0-809A-18A5CE01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4FA8-47FC-4636-8C90-94D6871F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3542-CA59-4488-A9F3-2FD097F4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4BDF-D28F-4BB8-8194-102AA7B0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6999-E529-4AE5-8311-A936CCBF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4A63-EE77-4D37-BB41-24FFBF0B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8DEC-9613-4F2D-9409-7A5A9772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FA82-6D9C-491B-9DE5-7490490C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BB4F-635E-4233-8708-4381AD75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197-F221-41CE-8E52-546E6B91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781-7FAC-4EB7-8C44-4ECBA7A7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F06-4041-4714-B896-2FF0652F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6B7-19D1-45F3-A9DB-27D8A267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417-7892-40C9-863C-371C0399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4CB-1BA8-4750-ACA2-A3F2E859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1E0-1684-4E75-946A-4BAC0F39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F150-4748-4CEF-A9A8-BDF9313A43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CF7F-209D-45CA-B2AF-30DD110B5E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ociolingüística: introducción y concept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belardo San Mart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ambio lingüístic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seriu: ¿por qué cambian las lengu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ecesidades comunicativas de los habl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por qué no cambian completamente? = necesidad de intercompren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o = funcio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novación / cambio / diferen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ivel de intercompren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engua / dial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itudes de los habl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tigio o estigmat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tonomía e ideal de len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vergencia / diver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Parámetros de la variación (Flydal, Rona, Coseriu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. Diatópica (geográfica)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alecto                         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. Diacrónica (temporal)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época o peri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3. Diastrática (social)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ciolecto o norma         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 Diafásica (situacional)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ilo o nivel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stema / Dia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/ Arquitectura                          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osición / Diferen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2205000"/>
            <a:ext cx="2952720" cy="2806560"/>
          </a:xfrm>
          <a:prstGeom prst="cube">
            <a:avLst>
              <a:gd name="adj" fmla="val 25000"/>
            </a:avLst>
          </a:prstGeom>
          <a:solidFill>
            <a:srgbClr val="cc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012000" y="429264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720" y="220500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4292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Sociolingüístic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disciplina (lingüística + sociolog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ciolingüística” = Congreso Internacional, California, EE. UU., 1964. Actas: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Sociolinguistic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Bright (ed.), Introduction: The Dimensions of Sociolinguistics, 1966 [Las dimensiones de la sociolingüística en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ntologí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Garvin y Lastra, 197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Objeto de estudio de la sociolingüís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right: la sociolingüística intenta mostrar la covariación (correlación) sistemática entre la estructura lingüística y la estructura social y,  eventualmente, la relación causal en uno u otro sen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estudi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é aspectos de la estructura de una lengua influyen en la estructura de una sociedad y qué aspectos de la estructura de una sociedad influyen en la estructura de una lengu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oría capaz de explic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 relación lenguaje-socied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 variación lingüística o cambio lingüíst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Objeto de estudio de la sociolingüís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tras disciplinas que se ocupan del cambio lingüístico: etnolingüística, geografía lingüística, dialectología y sociología del lengu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ecificidad: la sociolingüística considera a las lenguas y las sociedades como estructuras y no como meras recopilaciones de fenómenos aislados (Bright 196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ngüística: ciencia que estudia el lenguaje y las len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(definición de trabajo): facultad humana (capacidad) que le permite al ser humano comunicar ideas mediante un sistema de signos convencionales (orales o escritos) y, de esta manera, interactuar socialmente con el resto de los individuos de una determinada comun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Complejidad del lenguaje human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últiples facetas o asp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de signos (semiót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humana (cogni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ción orgánica (biológ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idad humana (conduct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dio de comunicación (so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ctor de identidad grupal (cultu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ngüística: el punto de vista (enfoque) crea al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foques de la lingüística:</a:t>
            </a: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 Teórica y Aplica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órica: conocimiento científico “puro” = conocer por conoc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ingüista (juicios de existencia = “el objeto es así”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da: tecnología = conocer para “actuar” = cambiar el objeto (lengu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rofesor de lengua (juicios de valor = “el objeto debería ser así”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foques de la lingüística: </a:t>
            </a: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Teórica (Robin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cripti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Sincrónica = describe una lengua (sistema lingüístico) en un momento de su evolució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stór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Diacrónica = estudia la evolución histórica de una lengua (cambio lingüístico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ar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Contrastiva = describe similitudes y diferencias entre diferentes lengu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foques de la lingüística: perspectiv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isciplinar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Lingüística descriptiva: código o estructura de la lengu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terdisciplinar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82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Psicolingüística: lenguaje y cognició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82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Sociolingüística: lenguaje y socieda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82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Etnolingüística: lenguaje y cultur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foques de la lingüística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100"/>
            </a:b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cambio paradigmát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ingüística del códi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ontex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ciplina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uctura o códi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onológica, gramatical y léx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r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56000" y="1557000"/>
            <a:ext cx="4330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ingüística de la comunic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tex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rascen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terdisciplin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mántica y prag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foques de la lingüística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: niveles de análisis (Coseriu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iversal (Hablar) = cap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istórico (Lengua) = tra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ticular (Texto) = conte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ivers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lteridad (hablar con otr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Semanticidad (sonido con significad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Creatividad (creación de oraciones inédit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Historicidad (según una tradición históric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Materialidad (como algo material en el mund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Sistema y vari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taunivers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Sistematicidad (código) = lengua (sistema abstracto de convenciones compartida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Variación (diferencias) = habla (realización concreta e individu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dad y diversidad en las lengu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las lenguas cambian porque funcionan y al funcionar cambian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s: Sistema (código o estructura) / Variación (cambio o diversid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5:56:20Z</dcterms:created>
  <dc:creator>FFH206</dc:creator>
  <dc:description/>
  <dc:language>en-US</dc:language>
  <cp:lastModifiedBy>FFH206</cp:lastModifiedBy>
  <dcterms:modified xsi:type="dcterms:W3CDTF">2008-08-20T15:50:05Z</dcterms:modified>
  <cp:revision>3</cp:revision>
  <dc:subject/>
  <dc:title>Sociolingüística: introducción</dc:title>
</cp:coreProperties>
</file>