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D7D6-18B4-4D14-8644-70041A9510D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7828-53DF-4C00-ADF3-DA42D5CC931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557-3E41-4C7A-903A-396B39CA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C43-1FC7-4554-9E47-D4019D26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3AA-4E65-4A5D-A618-8245B54A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56F-7F49-4B7F-AA79-7D340719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29E-12AC-4199-B3C6-63D539C3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E5C-4C46-4344-AF36-7818C269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BDD-F19B-404E-BB04-FD9F1396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B088-456C-48B6-9B6C-2B025971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4B0-F7F5-4266-A8C0-AEB98469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E3F-3584-41DC-99DF-3E21FB21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C64-DB53-427F-9527-2C568F8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2A6-462E-4FD3-840E-3FD9EAB6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283A-4BFF-46B1-8D93-121E1570DBD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orenacampos00@hotmail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udería vie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uderí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ravesía jud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travesía judí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357120" y="428760"/>
            <a:ext cx="82155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FARAD: pensamiento y literatura en la formación de la cultura hisp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idad Académica: Centro de Estudios Juda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es: Ana María Tapia, Jaime Moreno y Juana 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a invitada: Soledad Chá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rtes (209) y Jueves (215) de 14:30 a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ordinadora: Juana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orenacampos00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ono  977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lataforma:      www.u-curso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237600"/>
            <a:ext cx="835848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gene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er  Sefarad como parte fundamental en la formación de la cultura hispánica a través de sus aportes filosóficos, lingüísticos y liter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factores que permitieron  y/o bloquearon la convivencia multicultural de los judíos en la España medie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 los valores que hoy perduran de la cultura sefard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85840" y="428760"/>
            <a:ext cx="8429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distintos aspectos del pensamiento judío que nacen en Sefarad y viven hasta el día de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disfrutar la literatura judeo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en el contexto judío, la simbiosis de literatura y filosofía/te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l concepto de mestizaje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00040" y="106200"/>
            <a:ext cx="785808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: LOS JUDÍOS Y SU ENTORNO FILOSÓ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construcción de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puta de Barcel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más de Aqu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: JUDÍO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mensión de lo juda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umbres y tradiciones judía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cuentro de tres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ción al pensamiento m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I: LENGUA Y LITERATURA JUDEO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literatura como representación social de judíos, moros y crist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etas y teólo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romancero judeo español y su aporte a la lengua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farad en la narrativa hispanoamericana contemporá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79280" y="299160"/>
            <a:ext cx="896472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 de septiembr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1 de octubre     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asistencia               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Final en PP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18 /27 nov.               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7:21:42Z</dcterms:created>
  <dc:creator>Juana Lorena Campos Bustos</dc:creator>
  <dc:description/>
  <dc:language>en-US</dc:language>
  <cp:lastModifiedBy>Juana Lorena Campos Bustos</cp:lastModifiedBy>
  <dcterms:modified xsi:type="dcterms:W3CDTF">2008-08-13T16:14:53Z</dcterms:modified>
  <cp:revision>9</cp:revision>
  <dc:subject/>
  <dc:title>Diapositiva 1</dc:title>
</cp:coreProperties>
</file>