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B6A2-34B0-4241-A211-0A2782B9DFE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A1A7-7FA0-4732-AAE8-EA38C2A5844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C3D-6804-43F1-B9EE-28E39B7C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4B57-908C-48A1-8F45-31138A67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294-895D-489A-A750-55FCD5D0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BAF-7127-41F6-8FC7-5CEFE520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559D-7B69-4B5A-822A-1224003C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7D2-D0DB-45AE-8C49-9B57A484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835-08A3-4ECF-ADAA-9FDBFDF4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486F-CE9C-4775-97DA-E05E722C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B47-D69A-4313-9347-34BB4626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2B2B-A11E-4243-924F-05C465C1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D0F-F3BB-492B-AECE-1CBC1F93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F3A-C115-4BEA-B4E7-6AC75D7B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E44F-1C0D-4394-B3B6-598C52354BC1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lorenacampos00@hotmail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udería vie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judería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travesía jud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travesía judí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357120" y="428760"/>
            <a:ext cx="821556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EFARAD: pensamiento y literatura en la formación de la cultura hisp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Unidad Académica: Centro de Estudios Juda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fesores: Ana María Tapia, Jaime Moreno y Juana  Lorena Cam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fesora invitada: Soledad Chá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rtes (209) y Jueves (215) de 14:30 a 16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Coordinadora: Juana Lorena Cam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s-C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orenacampos00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ono  9771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lataforma:      www.u-curso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14200" y="237600"/>
            <a:ext cx="835848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jetivos gener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onocer  Sefarad como parte fundamental en la formación de la cultura hispánica a través de sus aportes filosóficos, lingüísticos y litera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r los factores que permitieron  y/o bloquearon la convivencia multicultural de los judíos en la España medie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onar en torno a los valores que hoy perduran de la cultura sefard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285840" y="428760"/>
            <a:ext cx="8429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jetiv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r los distintos aspectos del pensamiento judío que nacen en Sefarad y viven hasta el día de ho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ocer y disfrutar la literatura judeo españ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ender en el contexto judío, la simbiosis de literatura y filosofía/teolo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onar en torno al concepto de mestizaje 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500040" y="106200"/>
            <a:ext cx="785808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i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: LOS JUDÍOS Y SU ENTORNO FILOSÓ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construcción del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puta de Barcel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más de Aqu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I: JUDÍOS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dimensión de lo juda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tumbres y tradiciones judías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encuentro de tres cul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ción al pensamiento mí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II: LENGUA Y LITERATURA JUDEO ESPAÑ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literatura como representación social de judíos, moros y cristi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etas y teólo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romancero judeo español y su aporte a la lengua españ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farad en la narrativa hispanoamericana contemporán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179280" y="299160"/>
            <a:ext cx="8964720" cy="64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 de septiembr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1 de octubre         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asistencia               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ción Final en PP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18 /27 nov.                3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7:21:42Z</dcterms:created>
  <dc:creator>Juana Lorena Campos Bustos</dc:creator>
  <dc:description/>
  <dc:language>en-US</dc:language>
  <cp:lastModifiedBy>Juana Lorena Campos Bustos</cp:lastModifiedBy>
  <dcterms:modified xsi:type="dcterms:W3CDTF">2008-08-13T16:14:53Z</dcterms:modified>
  <cp:revision>9</cp:revision>
  <dc:subject/>
  <dc:title>Diapositiva 1</dc:title>
</cp:coreProperties>
</file>