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4273-0978-4131-8252-7466F35BF642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A18E8-648F-4994-8EE4-0B946A52EC58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F751-EEA7-41B7-BE29-7CBF8FD23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29FC-BB3D-44EB-9D2C-9054442D8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BE90-BD99-4C80-ADAD-A137FF1D6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2324-BBF9-4465-B8C9-23F8ADF9D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8402-09C9-4C6B-A68E-60FC4553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EF5E-CCCA-40A0-BE12-C22C7339F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BDB3-4E3B-4860-8397-A2FA8FFDF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64E8-2F56-407B-AA5C-497103EB3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EB59-9BDC-418D-9F97-A2D3BD216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7EFE-EDC6-49C7-8B68-8F96FAF1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2D3D-4595-4715-91F2-64B29383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47DE-DB5A-4BEF-A418-0132E87B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FE1F4-6AEB-411A-9A88-9AF029727372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lorenacampos00@hotmail.com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judería viej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judería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travesía jud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travesía judí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1 CuadroTexto"/>
          <p:cNvSpPr/>
          <p:nvPr/>
        </p:nvSpPr>
        <p:spPr>
          <a:xfrm>
            <a:off x="357120" y="428760"/>
            <a:ext cx="8215560" cy="51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SEFARAD: pensamiento y literatura en la formación de la cultura hispá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Unidad Académica: Centro de Estudios Juda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Profesores: Ana María Tapia, Jaime Moreno y Juana  Lorena Camp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Profesora invitada: Soledad Cháv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Martes (209) y Jueves (215) de 14:30 a 16: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Coordinadora: Juana Lorena Camp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es-CL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lorenacampos00@hotmai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fono  97715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Plataforma:      www.u-cursos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214200" y="237600"/>
            <a:ext cx="8358480" cy="50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bjetivos genera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conocer  Sefarad como parte fundamental en la formación de la cultura hispánica a través de sus aportes filosóficos, lingüísticos y literari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alizar los factores que permitieron  y/o bloquearon la convivencia multicultural de los judíos en la España mediev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flexionar en torno a los valores que hoy perduran de la cultura sefardi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1 CuadroTexto"/>
          <p:cNvSpPr/>
          <p:nvPr/>
        </p:nvSpPr>
        <p:spPr>
          <a:xfrm>
            <a:off x="285840" y="428760"/>
            <a:ext cx="84294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bjetivos específic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alizar los distintos aspectos del pensamiento judío que nacen en Sefarad y viven hasta el día de ho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ocer y disfrutar la literatura judeo españo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tender en el contexto judío, la simbiosis de literatura y filosofía/teolog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flexionar en torno al concepto de mestizaje cult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500040" y="106200"/>
            <a:ext cx="7858080" cy="64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tenid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ódulo I: LOS JUDÍOS Y SU ENTORNO FILOSÓF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construcción del ot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sputa de Barcel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omás de Aqu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ódulo II: JUDÍOS EN ESPAÑ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dimensión de lo juda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stumbres y tradiciones judías en Españ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 encuentro de tres cultu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ción al pensamiento mís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ódulo III: LENGUA Y LITERATURA JUDEO ESPAÑ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literatura como representación social de judíos, moros y cristian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etas y teólog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 romancero judeo español y su aporte a la lengua españo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farad en la narrativa hispanoamericana contemporán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179280" y="299160"/>
            <a:ext cx="8964720" cy="64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valuació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ectura 1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2 de septiembre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2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ectura 2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21 de octubre          2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articipació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asistencia                1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posición Final en PPT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18 /27 nov.                3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1T17:21:42Z</dcterms:created>
  <dc:creator>Juana Lorena Campos Bustos</dc:creator>
  <dc:description/>
  <dc:language>en-US</dc:language>
  <cp:lastModifiedBy>Juana Lorena Campos Bustos</cp:lastModifiedBy>
  <dcterms:modified xsi:type="dcterms:W3CDTF">2008-08-13T16:14:53Z</dcterms:modified>
  <cp:revision>9</cp:revision>
  <dc:subject/>
  <dc:title>Diapositiva 1</dc:title>
</cp:coreProperties>
</file>