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A85F-1EA9-4AC1-A2CA-2F7A9F04635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8E84-AA74-4ADE-BE15-A40600E24B5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67B-44E2-4CFA-8820-B887D9B5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323-A92A-4914-8F99-08B295E5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F8B0-8858-43F3-ABA6-54356F51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818-5F77-4A32-8F6A-526914E7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CC76-6FF6-4D35-B676-19F2C02A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8C06-7DFC-476C-B957-728D255C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94E-2911-4470-B786-242812E2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7192-FAAA-4A0F-A1D0-7FD0BE44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1FA-AB9D-4DF8-B4D5-B7681396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A731-5A26-4EDA-B361-FE7047D5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0737-1B8B-441D-96F0-99D4E7A0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D6E7-BCC4-49C0-AE01-22E74EBD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4412-815C-44AA-84D8-E23B38C6B547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lorenacampos00@hotmail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udería vie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judería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travesía jud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travesía judí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357120" y="428760"/>
            <a:ext cx="821556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EFARAD: pensamiento y literatura en la formación de la cultura hisp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Unidad Académica: Centro de Estudios Juda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fesores: Ana María Tapia, Jaime Moreno y Juana  Lorena Cam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fesora invitada: Soledad Chá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artes (209) y Jueves (215) de 14:30 a 16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Coordinadora: Juana Lorena Cam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s-C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orenacampos00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ono  9771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lataforma:      www.u-curso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14200" y="237600"/>
            <a:ext cx="835848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jetivos gener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onocer  Sefarad como parte fundamental en la formación de la cultura hispánica a través de sus aportes filosóficos, lingüísticos y litera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r los factores que permitieron  y/o bloquearon la convivencia multicultural de los judíos en la España medie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xionar en torno a los valores que hoy perduran de la cultura sefard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285840" y="428760"/>
            <a:ext cx="8429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jetiv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r los distintos aspectos del pensamiento judío que nacen en Sefarad y viven hasta el día de ho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ocer y disfrutar la literatura judeo españ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ender en el contexto judío, la simbiosis de literatura y filosofía/teolo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xionar en torno al concepto de mestizaje 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500040" y="106200"/>
            <a:ext cx="785808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i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: LOS JUDÍOS Y SU ENTORNO FILOSÓ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construcción del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puta de Barcel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más de Aqu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I: JUDÍOS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dimensión de lo juda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tumbres y tradiciones judías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encuentro de tres cul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ción al pensamiento mí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II: LENGUA Y LITERATURA JUDEO ESPAÑ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literatura como representación social de judíos, moros y cristi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etas y teólo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romancero judeo español y su aporte a la lengua españ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farad en la narrativa hispanoamericana contemporán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179280" y="299160"/>
            <a:ext cx="8964720" cy="64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a 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 de septiembr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a 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1 de octubre         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asistencia               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osición Final en PP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18 /27 nov.                3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7:21:42Z</dcterms:created>
  <dc:creator>Juana Lorena Campos Bustos</dc:creator>
  <dc:description/>
  <dc:language>en-US</dc:language>
  <cp:lastModifiedBy>Juana Lorena Campos Bustos</cp:lastModifiedBy>
  <dcterms:modified xsi:type="dcterms:W3CDTF">2008-08-13T16:14:53Z</dcterms:modified>
  <cp:revision>9</cp:revision>
  <dc:subject/>
  <dc:title>Diapositiva 1</dc:title>
</cp:coreProperties>
</file>