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891-AF4C-4B7F-AD35-4C10A6A2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909-0499-45CB-849B-BA59EF6C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A39-0189-427C-A948-A40993E5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045-AE49-4B62-AAA5-BFA79548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B9B-BA54-463D-9A40-421CAB0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535-FD01-44AA-8112-7764B944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539-B2DF-4169-826A-85E32019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237-39F9-450D-AAC4-D8A8822F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696-2249-4CA9-9816-CD16075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74D-1150-4075-8140-A7AFEE2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F0B-C8A4-40DE-AD7C-10B73427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C95-91B2-4856-B67B-7782846C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3FA-5ABA-4665-B096-3DB6C8A40DE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200160"/>
            <a:ext cx="7772400" cy="53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License Plate"/>
              </a:rPr>
              <a:t>CC-EL DERECHO Y LA ACADEM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638320"/>
            <a:ext cx="4343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TICA &amp; LEGIS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ISEÑO GRAFICO E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F. MALDONADO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PRING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6520" y="1676520"/>
            <a:ext cx="61722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combinaciones posibles de Licencias CC son la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Sin obra derivada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 No se pueden realizar obras deriv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Sin obra derivada - No comerci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No se puede obtener ningún beneficio comercial. No se pueden realizar obras deriv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427644" t="1069026" r="2138135" b="1496669"/>
          <a:stretch/>
        </p:blipFill>
        <p:spPr>
          <a:xfrm>
            <a:off x="152280" y="25909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3"/>
          <a:srcRect l="427644" t="1069026" r="2138135" b="1496669"/>
          <a:stretch/>
        </p:blipFill>
        <p:spPr>
          <a:xfrm>
            <a:off x="152280" y="40384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4"/>
          <a:srcRect l="1924230" t="1069026" r="748376" b="1496669"/>
          <a:stretch/>
        </p:blipFill>
        <p:spPr>
          <a:xfrm>
            <a:off x="1066680" y="4038480"/>
            <a:ext cx="60984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5"/>
          <a:srcRect l="427644" t="1069026" r="2138135" b="1496669"/>
          <a:stretch/>
        </p:blipFill>
        <p:spPr>
          <a:xfrm>
            <a:off x="152280" y="57913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6"/>
          <a:srcRect l="1924230" t="1069026" r="748376" b="1496669"/>
          <a:stretch/>
        </p:blipFill>
        <p:spPr>
          <a:xfrm>
            <a:off x="1066680" y="5791320"/>
            <a:ext cx="60984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7"/>
          <a:srcRect l="1817402" t="2138135" r="748376" b="427560"/>
          <a:stretch/>
        </p:blipFill>
        <p:spPr>
          <a:xfrm>
            <a:off x="1905120" y="57913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64771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combinaciones posibles de Licencias CC son la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No comerci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No se puede obtener ningún beneficio comer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No comercial - Compartir igu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 No se puede obtener ningún beneficio comercial y las obras derivadas tienen que estar bajo los mismos términos de licencia que el trabajo orig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Compartir igu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Las obras derivadas tienen que estar bajo los mismos términos de licencia que el trabajo orig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427644" t="1069026" r="2138135" b="1496669"/>
          <a:stretch/>
        </p:blipFill>
        <p:spPr>
          <a:xfrm>
            <a:off x="152280" y="22096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3" name="" descr=""/>
          <p:cNvPicPr/>
          <p:nvPr/>
        </p:nvPicPr>
        <p:blipFill>
          <a:blip r:embed="rId3"/>
          <a:srcRect l="427644" t="1069026" r="2138135" b="1496669"/>
          <a:stretch/>
        </p:blipFill>
        <p:spPr>
          <a:xfrm>
            <a:off x="15228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4"/>
          <a:srcRect l="427644" t="1069026" r="2138135" b="1496669"/>
          <a:stretch/>
        </p:blipFill>
        <p:spPr>
          <a:xfrm>
            <a:off x="152280" y="54100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5"/>
          <a:srcRect l="1817402" t="2138135" r="748376" b="427560"/>
          <a:stretch/>
        </p:blipFill>
        <p:spPr>
          <a:xfrm>
            <a:off x="1066680" y="22096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6"/>
          <a:srcRect l="427644" t="2138135" r="2138135" b="427560"/>
          <a:stretch/>
        </p:blipFill>
        <p:spPr>
          <a:xfrm>
            <a:off x="190512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7"/>
          <a:srcRect l="1817402" t="2138135" r="748376" b="427560"/>
          <a:stretch/>
        </p:blipFill>
        <p:spPr>
          <a:xfrm>
            <a:off x="106668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8"/>
          <a:srcRect l="427644" t="2138135" r="2138135" b="427560"/>
          <a:stretch/>
        </p:blipFill>
        <p:spPr>
          <a:xfrm>
            <a:off x="1066680" y="54100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autor elige la licencia que desea adoptar, y al publicarla en Internet, la identifica con el símbolo otorgado por CC y adjunta la licencia. La licencia estará expresada en tres 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mon Deeds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s la explicación escrita e iconográfica de la licencia a nivel “human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egal Code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también a nivel humano, es la lectura jurídica de la licencia (código leg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gital Code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el código a nivel tecnológico que pueden leer el ordenador y los buscadores, pudiendo identificar que la obra está licenciada y sus condiciones de 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vez que eliges tu licencia, tienes que incluir el botón Creative Commons “algunos derechos reservados” en tu sitio. Los pasos para establecer tu Licencia son muy sencil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NTAJAS Y DESVENTAJAS DE C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sta hace unos añ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ropiedad intelectual se defendía con el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mbolizado por 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ignifica “todos los derechos reserva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uchas veces los autores no quieren proteger la inform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sta el punto de que nadie pueda utilizarla para obras posteri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busca, más bien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se pueda usar esa información de forma amplia y honest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 sin perder el derecho de propiedad sobre e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cisamente, estas licencias CC surgen como respuesta a esta necesidad de los autores y cre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tive Commons ofrece a los creadores la posibilidad de decir</a:t>
            </a:r>
            <a:r>
              <a:rPr b="1" lang="es-ES_tradnl" sz="1400" spc="-1" strike="noStrike">
                <a:solidFill>
                  <a:srgbClr val="000000"/>
                </a:solidFill>
                <a:latin typeface="Arial Black"/>
              </a:rPr>
              <a:t> “Some Rights Reserved”,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que traducido al español significaría “Algunos Derechos Reservado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ventaja de este tipo de licencias consiste en qu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autor se anticipa a posteriores solicitudes y otorga su permiso a la explotación de sus derechos por terceros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potenciales usuarios) bajo unas determinadas condiciones (Crego P., Jarque P. y Webster S., 200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principal ventaja de las licencias Creative Commons para los usuarios es que les </a:t>
            </a:r>
            <a:r>
              <a:rPr b="1" lang="es-ES_tradnl" sz="1400" spc="-1" strike="noStrike">
                <a:solidFill>
                  <a:srgbClr val="000000"/>
                </a:solidFill>
                <a:latin typeface="Arial Black"/>
              </a:rPr>
              <a:t>ofrecen un permiso previo para que otros puedan compartir, modificar o lucrar con el contenido creado por ellos.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esta manera, no es necesario solicitar una autorización al autor del mate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sibilitand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olaboración libre con todas las personas y procesos de creación compar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imismo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queda excluida la posibilidad de obtener un permiso expreso del aut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ara realizar actividades no permitidas por la licencia específica (Grupo de investigación Copia/Sur, 200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jas no tan conoc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o en los motores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está nada claro que usar licencias CC en blogs logre para éstos mejores posiciones en los buscadores, pero sí es cierto qu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sar estas licencias meten de lleno nuestros contenidos en los motores de búsqueda orientados a licencias 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rincipal ventaja es que cada vez más la gente busca conteni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no sólo para disfrutar pasivamente con ellos, sino para usarlos a su vez de forma activa. El hecho se tener contenidos que son usados y citados en otras páginas web se favorece nuestra posterior indexación en busc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usuario de Flickr se observa también que las imágenes con licenci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C aparecen con mayor frecuencia en las consultas API a buscador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o representa una visibilidad mayor de nuestra creación y por ende de nosotros mismos como cre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bién Creative Commons ha promovido el estándar W3C ccREL qu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vorece la indexación semántic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os trabajos así regist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entajas no tan conoc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ás probabilidades de ser 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fair us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permite a terceros usar citando nuestros contenidos en los países anglosajones. De igual maner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n el derecho de autor continental existe el derecho de cit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i bien en las últimas modificaciones legislativas está casi por completo eliminado al menos en España con lo que se observa una clara tendencia a ser completamente eliminado como posible práctica gratuita.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 existir límites complejos de entender, mucha gente no se siente cómoda citando nada que está bajo “todos los derechos reservado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citar contenidos con licencia Creative Commons,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si la única manera posible de usar este reducido derecho sin tener que pagar o pedir permiso expres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la mayor parte de los casos ya que de hecho lo que hacen estas licencias es por defecto dar la autorización del titular de las obras a que éstas sean usadas de nuevo citando siempre al autor ori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da vez más citas que aparezcan en Internet serán de contenidos con este tipo de lic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0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ventajas (resu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queda muy cla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áles son los beneficios para los cre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es respuesta alternativa al copyright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a que se sustenta en él para delimitar los derechos que pueden, o no, tener terceros sobre la obra cre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C aú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idera los bienes culturales como mercancí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son necesarias para favorecer una producción creativa, situación que excluye obras producidas por culturas ajenas a este concepto, como algunas asiáticas, africanas e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empr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y que asegurarse si el trabajo está bajo una licenc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 commons al ser u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28320" y="1320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ventajas (resu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ative common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tiene contro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bre l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licencias no están en todos países,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lo que hay que adaptar la obra a la jurisdicción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asegura que en todos los países se van a respet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os derechos, pues depende de la legislación al respecto en un determinado país y de la licencia seleccio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plagio de la obra se da en un país donde no hay leyes al respecto o las leyes de creative commons no están vigentes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se puede hacer nada para evi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8320" y="1320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ative Commons da, en definitiva,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eguridad jurídica a un uso común de recurs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garantiza el respeto, al menos da las herramientas para ello, de los derechos que cada autor quiera reservar de su ob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imism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 la colabo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n la creación de cultura” (Sagarra, 2005: párr.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importante tener presente, tal como afirma Vercelli (2004:157), que la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“licencias CC en ningún caso significan la entrega o cesión completa de los derechos de autor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029200"/>
            <a:ext cx="236232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23720" y="5105160"/>
            <a:ext cx="571500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1" marL="735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a legislación como red social, el inútil caso de Creative Com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3048120"/>
            <a:ext cx="1905120" cy="187632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2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igual que la licencia de GPL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General_Public_License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solo algunos derechos y algunas obligaciones quedan a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licencias CC signific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serva de facultades y el otorgamiento a los usuarios finales de algunos derechos bajo ciertas condiciones específica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todo lo que las licencias no habilitan,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los usuarios deberán solicitar permiso por escrito al autor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diferentes licencias ayudan a encontrar las preferencias para un mejor intercambio de las obras bajo estándares comu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no mencionan leyes, estatutos de ningún país en particul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 contenidos de ninguna clase de cláusula de opción legal específica y las mismas son irrevocables y su validez univer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 nivel prác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dría decirse que el uso de este tipo de licencias en cualquier publicación abierta, por ejemplo un portal o cualquier plataforma de Internet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implica libertad total de uso de sus conten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ún la experiencia de la Universidad Carlos III de Madrid, la publicación de un material con pie de licencias C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ignifica la autorización para los usos especificados en las misma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siempre van más allá de lo permitido por la ley (Crego, Jarque, Webster, 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la ONU, el uso de Creative Commons tendría dos beneficio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iría que los académicos y los equipos de producción responsables de la creación de contenid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artan y distribuyan sus obras por medio de Internet, estableciendo los derechos y deberes que tendrían los usu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otro lado, el conocimiento de estas licencias, sus alcances y limitaciones 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tirían aprovechar de mejor forma todos los recursos que se publican con este tipo de licencia, considerando siempre los deberes y derechos inherentes a su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PREGUNTAR PARA A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mas y pregun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Universidad de Chile y la propiedad del resultado acad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es el estudiante dueño de los derechos de autoría del material creado o articulado dentro de una actividad académ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existe algún tipo de estratificación de nuestras facultades en la Universidad de Ch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dónde acudo para verificar es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cuál es la contradicción? (biblioteca, cybertesis, tesis, proyecto de tít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cuál es la importancia de la confidencialidad de la invención para proteger el requisito de nove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TRABAJO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5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LICE UNA PUBLICACION VIRTUAL ACOGIDA A LAS LICENCIA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crear un blog, una website, puede publicar en un sitio ya instalado en la re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publicar escritos, fotos, diseñ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ublicación debe estar realizada al 17 de diciembre de 2013 y durante la sesión confirmaremos (on-line) que está re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ted debe publicar en material alumnos el link correspondiente, hasta las 23.59 del día lunes 9 de diciembre de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3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Commons (CC) es una corpora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in fin de lucr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orgar a un autor,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der de decidir los límites de uso y explot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u trabajo en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Commons nació en 2002 en Estados Unidos, como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de licencias para trabajos artístico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no limitara por completo el uso o reproducción de la o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co tiempo se convirtió en un proyecto internacional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legando a España y al mundo hispano, en 2003 de la mano de la Universidad de Barcelona, que ofició en la adaptación de las licencias al españ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 importante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las licencias de CC no van contra el copyright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no que buscan una forma de adaptarlo a los intereses del autor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sándose en el concepto de propiedad intelec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 decir, no interfiere -pero tampoco tiene derecho- sobre las legislacionales nacionales del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as las obras creativas quedan automáticamente bajo la protección de los derechos de copia, y mucha gente prefiere una alternativa que le permita que su obra esté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ponible para usos creativos y un beneficio simbiót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 la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as las obras creativas quedan automáticamente bajo la protección de los derechos de copia, y mucha gente prefiere una alternativa que le permita que su obra esté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ponible para usos creativos y un beneficio simbió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 la comun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ayudan a mantener el derecho de autor de una obra, a la vez que permiten ciertas excepciones bajo ciertas condi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resumen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s licencias buscan promocionar la ciencia y las artes aplicad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yudando a los autores a ajustar sus derechos de forma precisa para que se adapte a sus prefer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o no asegura plenos derechos globales sobre los conten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licencias de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C están inspiradas en la GNU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General Public License) que se aplica al software, y se orientan a obras educativas, películas, literatura, música, fotografía y demás trabajos creat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as las Licencias incluyen la condición de mención o reconocimiento del autor, y van variando en los permisos de modificación o distribución según la preferencia del au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utor opta por los tipos de “libertad” para la extensión de su o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esta manera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un estudiante que escribe por hobby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uede extender sus ideas por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diseñadora puede gana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utación distribuyendo sus trabajos por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úsico pue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r muestras de sus canciones para interesar a los internautas en sus trabajos totalmente protegidos;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los ejemplos no tienen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or qué es necesario buscar alternativas al Copyr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dea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pyright se generó para medios físicos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 modo que era posible distinguir el acto privado de usar una obra, y el público de explotar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rechos nos impedían distribui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un libro, pero no leerlo en la casa de un familiar o ami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Black"/>
              </a:rPr>
              <a:t>Los medios digitales, en cambio, no pueden definirse con la misma clar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uso y la reproducción de un archivo pueden ser la misma cosa, la infracción y lo legal son cuestionables,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a obra digital demasiado protegida, termina siendo perjudic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Black"/>
              </a:rPr>
              <a:t>Una licencia CC autoriza el uso de una obra digital sin dejar de proteger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4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se basan en 4 condiciones que pueden combinarse en 6 tipos de licencias diferentes. Esta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conocimiento (At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comercial (Non com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in Obra Derivada (No derivate Wor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artir Igual (Share a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4:39:19Z</dcterms:created>
  <dc:creator>Félix Maldonado</dc:creator>
  <dc:description/>
  <dc:language>en-US</dc:language>
  <cp:lastModifiedBy>Félix Maldonado</cp:lastModifiedBy>
  <dcterms:modified xsi:type="dcterms:W3CDTF">2013-12-03T09:51:02Z</dcterms:modified>
  <cp:revision>12</cp:revision>
  <dc:subject/>
  <dc:title>LEGISLACION Y CONSULTORIA PROFESIONAL  EL DERECHO DE AUTOR NACIONAL E INTERNACIONAL</dc:title>
</cp:coreProperties>
</file>