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1B1C-CA3D-4CF6-8675-6FCB34404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FEA7-2752-4125-B611-3B4157BC0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0972-EF04-43DC-8450-E950CFBC0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4EB4-D7E6-47A3-A59C-5C459CF07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6900-28CA-4DF3-87FF-D8D2D01DA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368A-FC69-4B20-BF44-705577891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0EBA-1426-4073-AB9C-F689CD7D5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A79E-4CFE-4E1F-ACB5-7991FF0C9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5462-5093-4815-87AD-C2C908536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66A0-7BF3-4054-B117-08616808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12F0-9182-41F1-9D1B-433BAA06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5E8F-B091-454E-A629-F214F8B7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3DBCC-95A5-413B-96D6-3AD3417233B0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130480"/>
            <a:ext cx="77724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LEGISLACIO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Y CONSULTORIA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PROFE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240" y="5638320"/>
            <a:ext cx="4343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TICA &amp; LEGISLAC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ISEÑO GRAFICO E INDUST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F. MALDONADO DE LA FU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PRING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License Plate"/>
              </a:rPr>
              <a:t>LegislaciOn y consultoria profe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hile destaca por su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tabilidad económica, politica y social,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además de por su moderna infraestructura, apertura a los mercados y fuerza laboral capacitada. Empresas como Oracle, Sinapsis y Accenture han apostado por Chile como plataforma de negoc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a consolidar esta iniciativa, se anunció la conformación de un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sejo Estratégico Público-Privad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el que tendrá como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isión diseñar e implementar acciones para fortalecer las condiciones país para el desarrollo y expansión de este sector,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seleccionado por el Consejo Nacional de Innovación como uno de los cluster con mayor potencial de crecimiento durante las próximas déca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ambién la CCS (Cámara de Comercio de Santiago)  ha tenido vital participación en ayudar a desgravar la exportación de servic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762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a prestación internacional de servicios de dise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License Plate"/>
              </a:rPr>
              <a:t>LegislaciOn y consultoria profe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globalización implica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"considerar el mundo como el mercado, fuente de insumo y espacio de acción, tanto para la producción como para la adquisición y la comercialización de productos y servicios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economía mundial ha experimentado una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ransformación sin precedente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en las últimas déca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gún Peter Drucker, “las grandes diferencias en el desarrollo de los diversos países del mundo en los últimos años se deben a una serie de transformaciones fundamentales en la manera de producir bienes y servicios. Lo que cambió fue no sólo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 tecnología esa siempre varí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sino el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cepto de producción que dejó de ser nacional para convertirse en un proceso global.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 ahí el término de globaliz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762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La globalización del serv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License Plate"/>
              </a:rPr>
              <a:t>LegislaciOn y consultoria profe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globalización implica que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un gran número de transacciones económicas y sociales entre agentes se realicen en una región multiterritorial.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a “nueva” región se diferencia de la interestatal, donde los Estados, como agentes soberanos se interrelacionan a nivel nacion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sociedad global y la red de relaciones interestatales se presentan así como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os realidades que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sin embargo,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e determinan mutua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 que genera la creación de bloques económic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E, proceso que se inició hace 40 añ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AFTA, TLC entre USA, Canadá y Méx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ERCOS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PEC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762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La globalización del serv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License Plate"/>
              </a:rPr>
              <a:t>LegislaciOn y consultoria profe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a que una empresa que este en p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osición de dominar el mercado,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pueda hacerlo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berá bajar sus costos y establecer una clara diferencia de producto.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ncapacidad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parte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de la empres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 conseguir los logros arriba enunciados la pondría en una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ituación difícil y casi imposible de permanecer en el mercado competiti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o genera un nuevo mercado, que es la t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ansacción de inteligencia, servicios, I+D+I; dentro de un contexto de exportación de tercer nivel = EXPORTACION DE DISEÑ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762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La globalización del serv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License Plate"/>
              </a:rPr>
              <a:t>LegislaciOn y consultoria profe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762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La globalización del serv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2280" y="1523880"/>
            <a:ext cx="883944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FORMAS EN LAS QUE LOS SERVICIOS CONTRIBUYEN A LA GLOBALIZACIÓN Y LA COMPETI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1981080"/>
            <a:ext cx="9144000" cy="520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0" y="3124080"/>
            <a:ext cx="914076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License Plate"/>
              </a:rPr>
              <a:t>LegislaciOn y consultoria profe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762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La globalización del serv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1523880"/>
            <a:ext cx="883944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FORMAS EN LAS QUE LOS SERVICIOS CONTRIBUYEN A LA GLOBALIZACIÓN Y LA COMPETI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1981080"/>
            <a:ext cx="9144000" cy="520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0" y="3124080"/>
            <a:ext cx="9144000" cy="32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License Plate"/>
              </a:rPr>
              <a:t>LegislaciOn y consultoria profe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762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a globalización del serv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1523880"/>
            <a:ext cx="883944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FORMAS EN LAS QUE LOS SERVICIOS CONTRIBUYEN A LA GLOBALIZACIÓN Y LA COMPETI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1981080"/>
            <a:ext cx="9144000" cy="520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0" y="2670120"/>
            <a:ext cx="914400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License Plate"/>
              </a:rPr>
              <a:t>LegislaciOn y consultoria profe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l Sector Servicios y su Impacto en la Economia Chilena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política exterior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de Chile se fundamenta en la plena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integración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de su economía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 la economía mundial.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ara lograr dicho propósito se ha considerado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undamental, la liberalización internacional de los servicios,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 fin de contar con mercados externos más abiertos para que los proveedores nacionales ingresen en condiciones de competenc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e este modo el país puede generar empleo y riqueza, así como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beneficiarse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de servicios importados eficientes y de más bajo cos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n ese sentido, Chile ha promovido la liberalización de los servicios utilizando básicamente tres vías complementarias entre sí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iberalización unilateral del sector servi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iberalización multilateral en el marco del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GATS (General Agreement on Trade in Servic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iberalización del sector a través de Acuerdos de integración en servi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hile es un gran impulsor de la liberalización del comercio internacional de servicios; ha suscrito Acuerdos con los países de América del Norte, Centroamérica, Oceanía, los quince de la Unión Europea y con dos países del Asia, restándole el mercado natural que es América del Sur (pues Chile no pertenece a MERCOSUR y participa incidentalmente en UNASU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762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a globalización del serv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License Plate"/>
              </a:rPr>
              <a:t>LegislaciOn y consultoria profe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CHILE Y EL SECTOR SERV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ctor Servicios, ha experimentado un gran dinamismo,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el cual ha sido reforzado por el rápido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sarrollo de las tecnologías de la información, las telecomunicaciones y la emergencia del comercio electrón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s exportaciones de servicios chilenos no financieros experimentaron una expansión media anual del 8%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estima que las cifras reales son bastante superiores, ya que muchas operaciones no se registran o no consideran la totalidad de las exportaciones de Servicios, bajo sus diferentes modalida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762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a globalización del serv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License Plate"/>
              </a:rPr>
              <a:t>LegislaciOn y consultoria profe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CHILE Y EL SECTOR SERV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política exterior Chilena reconoce la importancia y competitividad internacional del sector Servicios, impulsa su liberalización internacional en diversos TLC’s suscrit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te esfuerzo por abrir mercados externos es muy valioso, ya que facilita el intercambio internacional de estos servicios al aplicar el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incipio de trato nacional en materia de licencias profesionales,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libre tránsito de personas de negocios, garantizando visas temporales automáticas a ciertos profesionales y ciertos cargos ejecutivos, entre ot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Chile realiza el reconocimiento de la creciente importancia de este sector y desde marzo de 2004 crea el Departamento de Servicios dentro de su estructura organiza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762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a globalización del serv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License Plate"/>
              </a:rPr>
              <a:t>LegislaciOn y consultoria profe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prestación internacional de servicios de diseñ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globalización del servic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exportación de servicios y el derecho tributar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License Plate"/>
              </a:rPr>
              <a:t>LegislaciOn y consultoria profe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xportar Servicios es una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oportunidad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 participar en una de las industrias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n mayor potencialidad y crecimiento en el mercado internac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Exportaciones de Servicios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requieren de un esfuerzo diferente ya que se trata de un intangible.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Asimismo, deben tenerse en cuenta aspectos que puedan afectar la exportación, como por ejemplo, los aspectos regulatorios y normativos internos de cada país (tanto en el origne como en el destino de la prestació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a SII y Aduanas, existe un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oceso Exportador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para cada una de las modalidades de exportación reconocidas internacionalmente, así como los Instrumentos de Apoyo que instituciones públicas ofrecen al exportador en nuestro paí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762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La exportación de servicios y los asuntos tribut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License Plate"/>
              </a:rPr>
              <a:t>LegislaciOn y consultoria profe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Acuerdo General de Comercio de Servicios (AGCS) define cuatro modalidades de Exportación, esta es una de las características que marca diferencia entre el Comercio de Servicios y el de Bie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odo 1: Comercio Transfronteri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odo 2: Movimiento del Consum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odo 3: Presencia Comer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odo 4: Movimiento del Proveedo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debe tener presente, que hasta ahora, el Servicio Nacional de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duana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hileno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alifica como Exportación de Servicios,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aquellas transacciones realizadas dentro de las Instrucciones del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odo 1: Comercio Transfronteriz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762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La exportación de servicios y los asuntos tribut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License Plate"/>
              </a:rPr>
              <a:t>LegislaciOn y consultoria profe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odo 1: Comercio Transfronterizo: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Un Servicio cruza la frontera (físicamente o virtualmente) del país donde es residente el exportador al país donde el importador es resid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LIFICACIÓN DE UN SERVICIO COMO EXPORTACIÓN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a que un servicio sea calificado como exportación, el Servicio de Aduanas exigirá el cumplimiento de los siguientes requisi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) El Servicio deberá ser realizado en Chile y prestado a personas sin domicilio ni residencia en el paí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b) El servicio debe ser utilizado exclusivamente en el extranjero, con excepción del servicio de transporte interno que se preste a mercancías en tránsito por el paí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) El servicio debe ser susceptible de verificación en su existencia real y en su val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) El prestador de servicio deberá desarrollar la actividad pertinente en Chile, manteniendo domicilio o residencia en el país, o a través de una sociedad acogida a las normas del articulo 41 D de la ley sobre impuesto a la Rent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762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La exportación de servicios y los asuntos tribut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License Plate"/>
              </a:rPr>
              <a:t>LegislaciOn y consultoria profe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rvicios Calificados como Expor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lifícanse como exportación, de conformidad con lo dispuesto en el Nº 16 de la letra E del artículo 12 del DL Nº 825, de 1974, los servicios que enumera el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“Listado de Servicios Calificados como Exportación”,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l cual se entiende que forma parte integrante de la mis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os servicios no requerirán de nueva calificación, sin perjuicio del necesario cumplimiento de los requisitos establecid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762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La exportación de servicios y los asuntos tribut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License Plate"/>
              </a:rPr>
              <a:t>LegislaciOn y consultoria profe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ervicios Calificados como Expor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VESTIGACIONES Y ESTUD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VESTIGACIONES DE MER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SESOR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SULTOR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ISEÑO,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Arquitectura e Ingenier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rganización, Utilización y Optimización de Recursos Humanos y de Invers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paraciones e instalaciones nav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ransporte de carga de mercancías en tránsito o análisis de pureza, calidad, rendimiento, variedades y producción de semill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nipuleo de carga, estiba, cambios de embalaje, porteo, almacenaje, romaneo, etc., de carga de export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ransporte de carga internacional terrestre, et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762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La exportación de servicios y los asuntos tribut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License Plate"/>
              </a:rPr>
              <a:t>LegislaciOn y consultoria profe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ervicios Calificados como Expor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partir del 17/11/2004 a través de Oficio Circular de la Dirección Nacional de Aduanas Nº283, se establece que los servicios prestados 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ducción de largometrajes, películas, spots publicit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gramas computacionales (softwar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on calificados como exportación de servicios, previo cumplimiento de las normas y requisitos contenidos en la Resolución Nº 2511 de la Dirección de Adua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762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La exportación de servicios y los asuntos tribut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License Plate"/>
              </a:rPr>
              <a:t>LegislaciOn y consultoria profe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O EXPORT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762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La exportación de servicios y los asuntos tribut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2208240"/>
            <a:ext cx="2632320" cy="15210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Paso 0: </a:t>
            </a:r>
            <a:br>
              <a:rPr sz="1400"/>
            </a:b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Realizar los trámites de Iniciación de Actividades de Exportación ante el Servicio de   Impuestos Internos (S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67000" y="2208240"/>
            <a:ext cx="2632320" cy="15210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Paso 1: </a:t>
            </a:r>
            <a:br>
              <a:rPr sz="1400"/>
            </a:b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Petición de Calificación de Exportador de Servicios, en el Servicio Nacional de Aduanas para servicios no calificados previam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357960" y="2562480"/>
            <a:ext cx="2565360" cy="8125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Paso 2: </a:t>
            </a:r>
            <a:br>
              <a:rPr sz="1400"/>
            </a:b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Materialización del Reconoci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52760" y="4762800"/>
            <a:ext cx="2527200" cy="8125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Paso 3: </a:t>
            </a:r>
            <a:br>
              <a:rPr sz="1400"/>
            </a:b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Materialización del Envío al exterior del Servi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38680" y="4654080"/>
            <a:ext cx="2584440" cy="10486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Paso 4: </a:t>
            </a:r>
            <a:br>
              <a:rPr sz="1400"/>
            </a:b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Proceso bancario de Retornos y Anticipos de Compra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1905120"/>
            <a:ext cx="9144000" cy="36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00"/>
                </a:solidFill>
                <a:latin typeface="License Plate"/>
              </a:rPr>
              <a:t>CONSULTAS</a:t>
            </a:r>
            <a:br>
              <a:rPr sz="11700"/>
            </a:br>
            <a:r>
              <a:rPr b="1" lang="en-US" sz="11700" spc="-1" strike="noStrike">
                <a:solidFill>
                  <a:srgbClr val="000000"/>
                </a:solidFill>
                <a:latin typeface="License Plate"/>
              </a:rPr>
              <a:t>Y DUDAS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License Plate"/>
              </a:rPr>
              <a:t>LegislaciOn y consultoria profe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término consultor es genérico y puede aplicarse a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ualquier persona u organización que facilite asesoramient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a los responsables de adoptar decis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expresiones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“consultor gerencial” o “consultor empresarial”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ñalan el sector de intervención del consultor, que es la asistencia a empresarios,gerentes y otros decisores en las empresas, tanto del sector público como priv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clientes que buscan asesoramiento empresarial pueden elegir entre una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gran diversidad de servicios ofrecido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por consultores que muestran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normes diferencia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n cuanto a sus antecedentes, experiencias, costos, competencias, estilo de trabajo, condiciones de intervención, calidad de servicio y normas profes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762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a prestación internacional de servicios de dise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License Plate"/>
              </a:rPr>
              <a:t>LegislaciOn y consultoria profe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Consultoría de diseño es el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rvicio prestad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por una persona, personas independientes o empresas calificadas en la identificación e investigación de problemas relacionados c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omunicación, PDP, estrategia, marketing, </a:t>
            </a: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media design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,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efinición de productos y proces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a recomendación de medidas apropiadas para su solu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restación de asistencia en la aplicación de dichas recomend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to indica que la consultoría de diseño, es un servicio al cual los ejecutivos de empresas (los clientes) pueden recurrir si sienten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ecesidad de ayuda en la solución de problemas.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trabajo del consultor de diseño, empieza al surgir alguna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ituación juzgada insatisfactoria y susceptible de ser mejorad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y termina, idealmente, en una situación que se ha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ducido un cambio que constituye una mejor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762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a prestación internacional de servicios de dise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License Plate"/>
              </a:rPr>
              <a:t>LegislaciOn y consultoria profe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señar un servicio o, diseñar los procesos de prestación de servicio, es una actividad de diseño del producto contenido en la Norma ISO 9001:2008 (7.3) cuyo resultado no es un producto físico, sino los procedimientos a aplicar para prestar el servici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) planificar los procesos de prestación del servicio en base a los requisitos especificad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) establecer los cauces apropiados de comunicación con los clientes, para identificar y satisfacer sus requisitos de calida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) asegurar que los productos comprados y los servicios contratados, cumplen con los requisitos de calidad exigidos,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) controlar y asegurar la capacidad continuada de los procesos de prestación del servicio y de la calidad final de estos servic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762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a prestación internacional de servicios de dise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License Plate"/>
              </a:rPr>
              <a:t>LegislaciOn y consultoria profe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ffshoring es Subcontratación interna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 una subcontratación de procesos de negocios de un país a otro, usualmente en busca 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stos más bajos o mano de ob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uede inclui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cesos como pro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nufac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rv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novación o investigación y desarrollo (I+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762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a prestación internacional de servicios de dise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License Plate"/>
              </a:rPr>
              <a:t>LegislaciOn y consultoria profe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sde un punto de vista de la propiedad, existen dos tipos difer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slocalización: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s el proceso por el que bienes o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ervicios proceden de una filial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 una misma empresa, localizada en un país distinto al de la casa matriz. En definitiva existe una operación en el exterior, que pertenece a la misma empresa, lo que le da un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ayor nivel de control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ntratación externa: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s aquella situación en la que los bienes o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ervicios provienen de una empresa independiente,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localizada en un país distinto al de la empresa original. En definitiva existe una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operación en el exterior, que además se terceriza o externaliz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762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a prestación internacional de servicios de dise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License Plate"/>
              </a:rPr>
              <a:t>LegislaciOn y consultoria profe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sde un punto de vista del tipo de proceso de negoc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rvicios: Prestación de servicios desde el extranjer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como centros de llamados, servicio técnico o procesos administrativos. (India, Irlanda, países de europa del Este, paises del caribe y latam). Diseño y producción de website, Media y FX, por ejemp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anufactura: Relocalizació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de fábricas y centros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ducció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 Países con una mano de obra abundante y de bajo costo son los destinos preferidos (India, China, México, Brasil y emergentemente Sudafric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vestigación y desarrollo: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Conocido como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&amp;D offshoring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representa la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localización de actividades de alto valor como son la investigación, el desarrollo de productos, ingeniería y diseñ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762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a prestación internacional de servicios de dise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License Plate"/>
              </a:rPr>
              <a:t>LegislaciOn y consultoria profe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sde un punto de vista de la distanc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Offshoring: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sugiere una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localización a un país distante.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jemplo, Estados Unidos e India. Normalmente se obtienen menores costos pero existen diferencias culturales, de lenguaje y zonas horarias. Otro ejemplo Latam y China y Brasil y Afr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Nearshoring: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s un término usado para el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offshoring cuya locación no es lejana.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jemplo, Estados Unidos y México, o Estados Unidos y Canadá. El nearshoring tiene la ventaja de obtener bajos costos, pero compartiendo aspectos culturales y usos horarios. Otro ejemplo es Chile y Latam, Chile y APE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762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a prestación internacional de servicios de dise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1T14:39:19Z</dcterms:created>
  <dc:creator>Félix Maldonado</dc:creator>
  <dc:description/>
  <dc:language>en-US</dc:language>
  <cp:lastModifiedBy>Félix Maldonado</cp:lastModifiedBy>
  <dcterms:modified xsi:type="dcterms:W3CDTF">2013-12-03T09:57:19Z</dcterms:modified>
  <cp:revision>4</cp:revision>
  <dc:subject/>
  <dc:title>LEGISLACION Y CONSULTORIA PROFESIONAL  EL DERECHO DE AUTOR NACIONAL E INTERNACIONAL</dc:title>
</cp:coreProperties>
</file>