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DF0-19D1-48A4-A54F-85A19B9C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D0F-C0C1-497C-BB26-5EC9E68C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B2E-5744-411C-AAD2-638934E9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529-6AEE-468C-BF90-F142469B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9FA-8650-44FB-A22D-CEBED604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06E-D955-4A10-931F-F99BD577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888-DB47-4511-BB8B-18A85DED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CF0-B256-422F-915B-9D248B25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6FD-988D-4CB4-9CA5-8AF32934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B55-2F7E-4BBF-9674-AEFBBB6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5AF-4105-4EDB-96C8-4ECF902A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E98-685D-4B5C-BB58-9420B3C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69F5-85FF-4B1C-9F6B-41C54DF2E78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200160"/>
            <a:ext cx="777240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License Plate"/>
              </a:rPr>
              <a:t>CC-EL DERECHO Y LA ACADEM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6520" y="1676520"/>
            <a:ext cx="61722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5909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40384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4"/>
          <a:srcRect l="1924230" t="1069026" r="748376" b="1496669"/>
          <a:stretch/>
        </p:blipFill>
        <p:spPr>
          <a:xfrm>
            <a:off x="1066680" y="403848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5"/>
          <a:srcRect l="427644" t="1069026" r="2138135" b="1496669"/>
          <a:stretch/>
        </p:blipFill>
        <p:spPr>
          <a:xfrm>
            <a:off x="15228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6"/>
          <a:srcRect l="1924230" t="1069026" r="748376" b="1496669"/>
          <a:stretch/>
        </p:blipFill>
        <p:spPr>
          <a:xfrm>
            <a:off x="1066680" y="579132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90512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4771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 - Compartir igu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 obtener ningún beneficio comercial y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Compartir igu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4"/>
          <a:srcRect l="427644" t="1069026" r="2138135" b="1496669"/>
          <a:stretch/>
        </p:blipFill>
        <p:spPr>
          <a:xfrm>
            <a:off x="1522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5"/>
          <a:srcRect l="1817402" t="2138135" r="748376" b="427560"/>
          <a:stretch/>
        </p:blipFill>
        <p:spPr>
          <a:xfrm>
            <a:off x="10666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6"/>
          <a:srcRect l="427644" t="2138135" r="2138135" b="427560"/>
          <a:stretch/>
        </p:blipFill>
        <p:spPr>
          <a:xfrm>
            <a:off x="190512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0666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8"/>
          <a:srcRect l="427644" t="2138135" r="2138135" b="427560"/>
          <a:stretch/>
        </p:blipFill>
        <p:spPr>
          <a:xfrm>
            <a:off x="10666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autor elige la licencia que desea adoptar, y al publicarla en Internet, la identifica con el símbolo otorgado por CC y adjunta la licencia. La licencia estará expresada en tres 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mon Deeds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 la explicación escrita e iconográfica de la licencia a nivel “human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egal Code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también a nivel humano, es la lectura jurídica de la licencia (código leg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gital Code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el código a nivel tecnológico que pueden leer el ordenador y los buscadores, pudiendo identificar que la obra está licenciada y sus condiciones de 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vez que eliges tu licencia, tienes que incluir el botón Creative Commons “algunos derechos reservados” en tu sitio. Los pasos para establecer tu Licencia son muy senci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NTAJAS Y DESVENTAJAS DE C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sta hace unos añ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opiedad intelectual se defendía con el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mbolizado por 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ignifica “todos los derechos reserva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uchas veces los autores no quieren proteger la inform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sta el punto de que nadie pueda utilizarla para obras posteri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busca, más bien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pueda usar esa información de forma amplia y honest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 sin perder el derecho de propiedad sobre e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cisamente, estas licencias CC surgen como respuesta a esta necesidad de los autores y cre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tive Commons ofrece a los creadores la posibilidad de decir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 “Some Rights Reserved”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que traducido al español significaría “Algunos Derechos Reservado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ventaja de este tipo de licencias consiste en qu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autor se anticipa a posteriores solicitudes y otorga su permiso a la explotación de sus derechos por tercero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potenciales usuarios) bajo unas determinadas condiciones (Crego P., Jarque P. y Webster S., 200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principal ventaja de las licencias Creative Commons para los usuarios es que les 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ofrecen un permiso previo para que otros puedan compartir, modificar o lucrar con el contenido creado por ellos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a manera, no es necesario solicitar una autorización al autor del mate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ibilitan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olaboración libre con todas las personas y procesos de creación compar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imismo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queda excluida la posibilidad de obtener un permiso expreso del aut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ara realizar actividades no permitidas por la licencia específica (Grupo de investigación Copia/Sur, 200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o en los motores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está nada claro que usar licencias CC en blogs logre para éstos mejores posiciones en los buscadores, pero sí es cierto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ar estas licencias meten de lleno nuestros contenidos en los motores de búsqueda orientados a licencias 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incipal ventaja es que cada vez más la gente busca conteni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no sólo para disfrutar pasivamente con ellos, sino para usarlos a su vez de forma activa. El hecho se tener contenidos que son usados y citados en otras páginas web se favorece nuestra posterior indexación en bus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usuario de Flickr se observa también que las imágenes con lic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C aparecen con mayor frecuencia en las consultas API a buscad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o representa una visibilidad mayor de nuestra creación y por ende de nosotros mismos como cre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Creative Commons ha promovido el estándar W3C ccREL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vorece la indexación semántic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os trabajos así regis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probabilidades de ser 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fair us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permite a terceros usar citando nuestros contenidos en los países anglosajones. De igual maner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 el derecho de autor continental existe el derecho de cit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i bien en las últimas modificaciones legislativas está casi por completo eliminado al menos en España con lo que se observa una clara tendencia a ser completamente eliminado como posible práctica gratuita.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 existir límites complejos de entender, mucha gente no se siente cómoda citando nada que está bajo “todos los derechos reservado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citar contenidos con licencia Creative Commons,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si la única manera posible de usar este reducido derecho sin tener que pagar o pedir permiso expres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la mayor parte de los casos ya que de hecho lo que hacen estas licencias es por defecto dar la autorización del titular de las obras a que éstas sean usadas de nuevo citando siempre al autor 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da vez más citas que aparezcan en Internet serán de contenidos con este tipo de lic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0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queda muy cla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áles son los beneficios para los cre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es respuesta alternativa al copyright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a que se sustenta en él para delimitar los derechos que pueden, o no, tener terceros sobre la obra cr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C aú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idera los bienes culturales como mercancí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on necesarias para favorecer una producción creativa, situación que excluye obras producidas por culturas ajenas a este concepto, como algunas asiáticas, africanas e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empr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y que asegurarse si el trabajo está bajo una licenc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 commons al ser u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tiene contro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licencias no están en todos países,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lo que hay que adaptar la obra a la jurisdicción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asegura que en todos los países se van a respet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os derechos, pues depende de la legislación al respecto en un determinado país y de la licencia seleccio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lagio de la obra se da en un país donde no hay leyes al respecto o las leyes de creative commons no están vigentes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se puede hacer nada para evi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da, en definitiva,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eguridad jurídica a un uso común de recurs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garantiza el respeto, al menos da las herramientas para ello, de los derechos que cada autor quiera reservar de su ob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imis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 la co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 la creación de cultura” (Sagarra, 2005: párr.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importante tener presente, tal como afirma Vercelli (2004:157), que la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“licencias CC en ningún caso significan la entrega o cesión completa de los derechos de auto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029200"/>
            <a:ext cx="23623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3720" y="5105160"/>
            <a:ext cx="571500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735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a legislación como red social, el inútil caso de Creative Co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3048120"/>
            <a:ext cx="1905120" cy="18763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2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igual que la licencia de GPL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General_Public_License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solo algunos derechos y algunas obligaciones quedan 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CC signific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serva de facultades y el otorgamiento a los usuarios finales de algunos derechos bajo ciertas condiciones específica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todo lo que las licencias no habilitan,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os usuarios deberán solicitar permiso por escrito al autor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diferentes licencias ayudan a encontrar las preferencias para un mejor intercambio de las obras bajo estándares comu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no mencionan leyes, estatutos de ningún país en particul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contenidos de ninguna clase de cláusula de opción legal específica y las mismas son irrevocables y su validez unive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nivel prác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dría decirse que el uso de este tipo de licencias en cualquier publicación abierta, por ejemplo un portal o cualquier plataforma de Internet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implica libertad total de uso de sus conten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ún la experiencia de la Universidad Carlos III de Madrid, la publicación de un material con pie de licencias C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gnifica la autorización para los usos especificados en las misma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siempre van más allá de lo permitido por la ley (Crego, Jarque, Webster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a ONU, el uso de Creative Commons tendría dos beneficio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ía que los académicos y los equipos de producción responsables de la creación de contenid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artan y distribuyan sus obras por medio de Internet, estableciendo los derechos y deberes que tendrían los usu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otro lado, el conocimiento de estas licencias, sus alcances y limitaciones 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tirían aprovechar de mejor forma todos los recursos que se publican con este tipo de licencia, considerando siempre los deberes y derechos inherentes a su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PREGUNTAR PARA A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mas y pregu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Universidad de Chile y la propiedad del resultado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s el estudiante dueño de los derechos de autoría del material creado o articulado dentro de una actividad académ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xiste algún tipo de estratificación de nuestras facultades en la Universidad de Ch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dónde acudo para verificar es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contradicción? (biblioteca, cybertesis, tesis, proyecto de tít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importancia de la confidencialidad de la invención para proteger el requisito de nove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TRABAJO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5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LICE UNA PUBLICACION VIRTUAL ACOGIDA A LAS LICENCIA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crear un blog, una website, puede publicar en un sitio ya instalado en la re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publicar escritos, fotos, diseñ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ublicación debe estar realizada al 17 de diciembre de 2013 y durante la sesión confirmaremos (on-line) que está r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ted debe publicar en material alumnos el link correspondiente, hasta las 23.59 del día lunes 9 de diciembre de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(CC) es una corpora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n fin de lucr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orgar a un autor,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der de decidir los límites de uso y explo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u trabajo en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nació en 2002 en Estados Unidos, como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de licencias para trabajos artístic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no limitara por completo el uso o reproducción de la o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co tiempo se convirtió en un proyecto internacional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legando a España y al mundo hispano, en 2003 de la mano de la Universidad de Barcelona, que ofició en la adaptación de las licencias al españ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 importante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las licencias de CC no van contra el copyright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no que buscan una forma de adaptarlo a los intereses del autor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sándose en el concepto de propiedad intelec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 decir, no interfiere -pero tampoco tiene derecho- sobre las legislacionales nacionales del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 l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 la com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ayudan a mantener el derecho de autor de una obra, a la vez que permiten ciertas excepciones bajo ciertas condi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resumen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s licencias buscan promocionar la ciencia y las artes aplicad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yudando a los autores a ajustar sus derechos de forma precisa para que se adapte a sus p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o no asegura plenos derechos globales sobre los conte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de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C están inspiradas en la GN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General Public License) que se aplica al software, y se orientan a obras educativas, películas, literatura, música, fotografía y demás trabajos crea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Licencias incluyen la condición de mención o reconocimiento del autor, y van variando en los permisos de modificación o distribución según la preferencia del au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utor opta por los tipos de “libertad” para la extensión de su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esta manera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un estudiante que escribe por hobby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uede extender sus ideas por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diseñadora puede gana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utación distribuyendo sus trabajos por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úsico pue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r muestras de sus canciones para interesar a los internautas en sus trabajos totalmente protegidos;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los ejemplos no tienen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es necesario buscar alternativas al Copyr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dea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pyright se generó para medios físicos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 modo que era posible distinguir el acto privado de usar una obra, y el público de explotar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rechos nos impedían distribui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un libro, pero no leerlo en la casa de un familiar o am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Los medios digitales, en cambio, no pueden definirse con la misma cla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uso y la reproducción de un archivo pueden ser la misma cosa, la infracción y lo legal son cuestionables,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a obra digital demasiado protegida, termina siendo perjudic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Una licencia CC autoriza el uso de una obra digital sin dejar de protege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4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se basan en 4 condiciones que pueden combinarse en 6 tipos de licencias diferentes. Est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onocimiento (At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comercial (Non com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n Obra Derivada (No derivate Wor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artir Igual (Share a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1:02Z</dcterms:modified>
  <cp:revision>12</cp:revision>
  <dc:subject/>
  <dc:title>LEGISLACION Y CONSULTORIA PROFESIONAL  EL DERECHO DE AUTOR NACIONAL E INTERNACIONAL</dc:title>
</cp:coreProperties>
</file>