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E5B3-2C53-404F-AF63-EA1344EE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5E09-9F59-41C5-83CB-493A10DB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F36-551A-48AF-BBA8-FCC0BB941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5C6-F657-4732-BD2D-C2B0E462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FB9-A87B-4A2E-B10B-DA931850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2A8-9BEC-4754-89C1-91792A8C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E6B-8B64-4794-AF6F-CB6ACF96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88AD-B396-45E7-9F70-A3268894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80E-6A3C-4C56-844B-C91FD139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994-7C60-4E30-B9D1-830546BA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9881-E054-4849-B775-59905064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848-7467-495C-A27B-ABBD2D44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5262-DC2C-4A37-96ED-06739A932C00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130480"/>
            <a:ext cx="7772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LEGISLACIO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Y CONSULTORIA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ROFE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5638320"/>
            <a:ext cx="4343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TICA &amp; LEGISL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ISEÑO GRAFICO E INDUS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. MALDONADO DE LA FU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PRING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hile destaca por su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ilidad económica, politica y social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demás de por su moderna infraestructura, apertura a los mercados y fuerza laboral capacitada. Empresas como Oracle, Sinapsis y Accenture han apostado por Chile como plataforma de nego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consolidar esta iniciativa, se anunció la conformación de u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ejo Estratégico Público-Priva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el que tendrá com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isión diseñar e implementar acciones para fortalecer las condiciones país para el desarrollo y expansión de este sector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eleccionado por el Consejo Nacional de Innovación como uno de los cluster con mayor potencial de crecimiento durante las próximas déc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mbién la CCS (Cámara de Comercio de Santiago)  ha tenido vital participación en ayudar a desgravar la exportación de serv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globalización implic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"considerar el mundo como el mercado, fuente de insumo y espacio de acción, tanto para la producción como para la adquisición y la comercialización de productos y servicios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economía mundial ha experimentado u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nsformación sin precedent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n las últimas déc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ún Peter Drucker, “las grandes diferencias en el desarrollo de los diversos países del mundo en los últimos años se deben a una serie de transformaciones fundamentales en la manera de producir bienes y servicios. Lo que cambió fue no sól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tecnología esa siempre varí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sino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cepto de producción que dejó de ser nacional para convertirse en un proceso global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ahí el término de globa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globalización implica qu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gran número de transacciones económicas y sociales entre agentes se realicen en una región multiterritorial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 “nueva” región se diferencia de la interestatal, donde los Estados, como agentes soberanos se interrelacionan a nivel n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sociedad global y la red de relaciones interestatales se presentan así com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os realidades qu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sin embargo,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determinan mutu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 que genera la creación de bloques económ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, proceso que se inició hace 40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AFTA, TLC entre USA, Canadá y Méx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RCOS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EC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que una empresa que este en p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sición de dominar el mercado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ueda hacerl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berá bajar sus costos y establecer una clara diferencia de producto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capac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part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de la empres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conseguir los logros arriba enunciados la pondría en u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tuación difícil y casi imposible de permanecer en el mercado competi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 genera un nuevo mercado, que es la t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nsacción de inteligencia, servicios, I+D+I; dentro de un contexto de exportación de tercer nivel = EXPORTACION DE DISEÑ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523880"/>
            <a:ext cx="8839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FORMAS EN LAS QUE LOS SERVICIOS CONTRIBUYEN A LA GLOBALIZACIÓN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520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9140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523880"/>
            <a:ext cx="8839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FORMAS EN LAS QUE LOS SERVICIOS CONTRIBUYEN A LA GLOBALIZACIÓN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520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914400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1523880"/>
            <a:ext cx="8839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FORMAS EN LAS QUE LOS SERVICIOS CONTRIBUYEN A LA GLOBALIZACIÓN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52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0" y="2670120"/>
            <a:ext cx="914400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Sector Servicios y su Impacto en la Economia Chilena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política exterio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e Chile se fundamenta en la plena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integración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e su economí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 la economía mundial.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lograr dicho propósito se ha considerado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undamental, la liberalización internacional de los servicios,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 fin de contar con mercados externos más abiertos para que los proveedores nacionales ingresen en condiciones de competenc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este modo el país puede generar empleo y riqueza, así como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eneficiarse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de servicios importados eficientes y de más bajo co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ese sentido, Chile ha promovido la liberalización de los servicios utilizando básicamente tres vías complementarias entre sí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beralización unilateral del sector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beralización multilateral en el marco del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GATS (General Agreement on Trade in Servi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beralización del sector a través de Acuerdos de integración en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hile es un gran impulsor de la liberalización del comercio internacional de servicios; ha suscrito Acuerdos con los países de América del Norte, Centroamérica, Oceanía, los quince de la Unión Europea y con dos países del Asia, restándole el mercado natural que es América del Sur (pues Chile no pertenece a MERCOSUR y participa incidentalmente en UNASU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CHILE Y EL SECTOR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tor Servicios, ha experimentado un gran dinamismo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l cual ha sido reforzado por el rápid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arrollo de las tecnologías de la información, las telecomunicaciones y la emergencia del comercio electró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exportaciones de servicios chilenos no financieros experimentaron una expansión media anual del 8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estima que las cifras reales son bastante superiores, ya que muchas operaciones no se registran o no consideran la totalidad de las exportaciones de Servicios, bajo sus diferentes modal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CHILE Y EL SECTOR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política exterior Chilena reconoce la importancia y competitividad internacional del sector Servicios, impulsa su liberalización internacional en diversos TLC’s suscri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e esfuerzo por abrir mercados externos es muy valioso, ya que facilita el intercambio internacional de estos servicios al aplicar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ncipio de trato nacional en materia de licencias profesionales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libre tránsito de personas de negocios, garantizando visas temporales automáticas a ciertos profesionales y ciertos cargos ejecutivos, entre ot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Chile realiza el reconocimiento de la creciente importancia de este sector y desde marzo de 2004 crea el Departamento de Servicios dentro de su estructura organiz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globaliz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restación internacional de servicios de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globalización del serv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xportación de servicios y el derecho tribut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portar Servicios es u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portun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participar en una de las industri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 mayor potencialidad y crecimiento en el mercado inter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Exportaciones de Servici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requieren de un esfuerzo diferente ya que se trata de un intangible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simismo, deben tenerse en cuenta aspectos que puedan afectar la exportación, como por ejemplo, los aspectos regulatorios y normativos internos de cada país (tanto en el origne como en el destino de la prest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SII y Aduanas, existe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ceso Exportado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ara cada una de las modalidades de exportación reconocidas internacionalmente, así como los Instrumentos de Apoyo que instituciones públicas ofrecen al exportador en nuestro paí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Acuerdo General de Comercio de Servicios (AGCS) define cuatro modalidades de Exportación, esta es una de las características que marca diferencia entre el Comercio de Servicios y el de Bi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o 1: Comercio Transfronteri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o 2: Movimiento del Consum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o 3: Presencia Come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o 4: Movimiento del Proveed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be tener presente, que hasta ahora, el Servicio Nacional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uan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hilen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fica como Exportación de Servicios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quellas transacciones realizadas dentro de las Instrucciones d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do 1: Comercio Transfronteri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o 1: Comercio Transfronterizo: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Un Servicio cruza la frontera (físicamente o virtualmente) del país donde es residente el exportador al país donde el importador es resid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FICACIÓN DE UN SERVICIO COMO EXPORTACIÓN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que un servicio sea calificado como exportación, el Servicio de Aduanas exigirá el cumplimiento de los siguientes requisi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) El Servicio deberá ser realizado en Chile y prestado a personas sin domicilio ni residencia en el paí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) El servicio debe ser utilizado exclusivamente en el extranjero, con excepción del servicio de transporte interno que se preste a mercancías en tránsito por el paí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) El servicio debe ser susceptible de verificación en su existencia real y en su va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) El prestador de servicio deberá desarrollar la actividad pertinente en Chile, manteniendo domicilio o residencia en el país, o a través de una sociedad acogida a las normas del articulo 41 D de la ley sobre impuesto a la Rent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rvicios Calificados como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fícanse como exportación, de conformidad con lo dispuesto en el Nº 16 de la letra E del artículo 12 del DL Nº 825, de 1974, los servicios que enumera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Listado de Servicios Calificados como Exportación”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l cual se entiende que forma parte integrante de la mis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s servicios no requerirán de nueva calificación, sin perjuicio del necesario cumplimiento de los requisitos estableci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rvicios Calificados como Expor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VESTIGACIONES Y ESTU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VESTIGACIONES DE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SES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ULT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SEÑO,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rquitectura e Ingenier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rganización, Utilización y Optimización de Recursos Humanos y de Inver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araciones e instalaciones nav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nsporte de carga de mercancías en tránsito o análisis de pureza, calidad, rendimiento, variedades y producción de semil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ipuleo de carga, estiba, cambios de embalaje, porteo, almacenaje, romaneo, etc., de carga de expor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nsporte de carga internacional terrestre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rvicios Calificados como Expor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partir del 17/11/2004 a través de Oficio Circular de la Dirección Nacional de Aduanas Nº283, se establece que los servicios prestados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ducción de largometrajes, películas, spots publici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s computacionales (softwar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calificados como exportación de servicios, previo cumplimiento de las normas y requisitos contenidos en la Resolución Nº 2511 de la Dirección de Adua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O EXPOR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a exportación de servicios y los asun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2208240"/>
            <a:ext cx="2632320" cy="1521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aso 0: 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Realizar los trámites de Iniciación de Actividades de Exportación ante el Servicio de   Impuestos Internos (S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67000" y="2208240"/>
            <a:ext cx="2632320" cy="1521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aso 1: 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etición de Calificación de Exportador de Servicios, en el Servicio Nacional de Aduanas para servicios no calificados previ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57960" y="2562480"/>
            <a:ext cx="2565360" cy="812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aso 2: 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Materialización del Recono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52760" y="4762800"/>
            <a:ext cx="2527200" cy="812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aso 3: 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Materialización del Envío al exterior del Serv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38680" y="4654080"/>
            <a:ext cx="2584440" cy="1048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aso 4: 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roceso bancario de Retornos y Anticipos de Compr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36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License Plate"/>
              </a:rPr>
              <a:t>CONSULTAS</a:t>
            </a:r>
            <a:br>
              <a:rPr sz="11700"/>
            </a:br>
            <a:r>
              <a:rPr b="1" lang="en-US" sz="11700" spc="-1" strike="noStrike">
                <a:solidFill>
                  <a:srgbClr val="000000"/>
                </a:solidFill>
                <a:latin typeface="License Plate"/>
              </a:rPr>
              <a:t>Y DUDA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término consultor es genérico y puede aplicarse 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ualquier persona u organización que facilite asesoramient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 los responsables de adoptar dec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expresion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nsultor gerencial” o “consultor empresarial”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ñalan el sector de intervención del consultor, que es la asistencia a empresarios,gerentes y otros decisores en las empresas, tanto del sector público como priv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clientes que buscan asesoramiento empresarial pueden elegir entre u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ran diversidad de servicios ofrecid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or consultores que muestra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ormes diferenci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cuanto a sus antecedentes, experiencias, costos, competencias, estilo de trabajo, condiciones de intervención, calidad de servicio y normas profes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Consultoría de diseño es e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rvicio presta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or una persona, personas independientes o empresas calificadas en la identificación e investigación de problemas relacionados c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unicación, PDP, estrategia, marketing, 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media desig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,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finición de productos y proce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recomendación de medidas apropiadas para su s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estación de asistencia en la aplicación de dichas recomend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o indica que la consultoría de diseño, es un servicio al cual los ejecutivos de empresas (los clientes) pueden recurrir si sienten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cesidad de ayuda en la solución de problema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trabajo del consultor de diseño, empieza al surgir algu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tuación juzgada insatisfactoria y susceptible de ser mejorad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y termina, idealmente, en una situación que se h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ducido un cambio que constituye una mejo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ar un servicio o, diseñar los procesos de prestación de servicio, es una actividad de diseño del producto contenido en la Norma ISO 9001:2008 (7.3) cuyo resultado no es un producto físico, sino los procedimientos a aplicar para prestar el servic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) planificar los procesos de prestación del servicio en base a los requisitos especificad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) establecer los cauces apropiados de comunicación con los clientes, para identificar y satisfacer sus requisitos de calida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) asegurar que los productos comprados y los servicios contratados, cumplen con los requisitos de calidad exigidos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) controlar y asegurar la capacidad continuada de los procesos de prestación del servicio y de la calidad final de estos servic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ffshoring es Subcontratación inter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a subcontratación de procesos de negocios de un país a otro, usualmente en busca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s más bajos o mano de ob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 inclu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s como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nufa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novación o investigación y desarrollo (I+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de un punto de vista de la propiedad, existen dos tipos dif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localización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el proceso por el que bienes 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rvicios proceden de una filia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una misma empresa, localizada en un país distinto al de la casa matriz. En definitiva existe una operación en el exterior, que pertenece a la misma empresa, lo que le da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ayor nivel de contr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tratación externa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aquella situación en la que los bienes 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rvicios provienen de una empresa independiente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ocalizada en un país distinto al de la empresa original. En definitiva existe u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peración en el exterior, que además se terceriza o externali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de un punto de vista del tipo de proceso de negoc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rvicios: Prestación de servicios desde el extranjer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como centros de llamados, servicio técnico o procesos administrativos. (India, Irlanda, países de europa del Este, paises del caribe y latam). Diseño y producción de website, Media y FX, por ejemp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ufactura: Relocaliz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e fábricas y centro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 Países con una mano de obra abundante y de bajo costo son los destinos preferidos (India, China, México, Brasil y emergentemente Sudafr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vestigación y desarrollo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onocido com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&amp;D offshorin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representa l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localización de actividades de alto valor como son la investigación, el desarrollo de productos, ingeniería y dise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License Plate"/>
              </a:rPr>
              <a:t>LegislaciOn y consultoria profes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de un punto de vista de la dista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ffshoring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ugiere u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localización a un país distante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jemplo, Estados Unidos e India. Normalmente se obtienen menores costos pero existen diferencias culturales, de lenguaje y zonas horarias. Otro ejemplo Latam y China y Brasil y Af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earshoring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un término usado para el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ffshoring cuya locación no es lejana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jemplo, Estados Unidos y México, o Estados Unidos y Canadá. El nearshoring tiene la ventaja de obtener bajos costos, pero compartiendo aspectos culturales y usos horarios. Otro ejemplo es Chile y Latam, Chile y AP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762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restación internacional de servicios de 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1T14:39:19Z</dcterms:created>
  <dc:creator>Félix Maldonado</dc:creator>
  <dc:description/>
  <dc:language>en-US</dc:language>
  <cp:lastModifiedBy>Félix Maldonado</cp:lastModifiedBy>
  <dcterms:modified xsi:type="dcterms:W3CDTF">2013-12-03T09:57:19Z</dcterms:modified>
  <cp:revision>4</cp:revision>
  <dc:subject/>
  <dc:title>LEGISLACION Y CONSULTORIA PROFESIONAL  EL DERECHO DE AUTOR NACIONAL E INTERNACIONAL</dc:title>
</cp:coreProperties>
</file>