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4F4-4BAA-41E6-9519-C18A5689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DC6-24ED-4CC1-AD7E-029DBE58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132-1368-47F8-A335-3D56C5D1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C09-0C7D-4AA5-A9E6-427FDD17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130-BAEB-490D-A318-67B2EF2D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36F-FB46-4D4B-9347-4ABA698D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AD4-B667-4681-B581-A13BA3A8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012-D1A2-420E-AEB9-73B34E2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603A-F19A-4B35-BBA3-7D70A1EE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A69-7C8D-45FF-A53A-7644557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0BD-8B59-46ED-99D1-9DDBA15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84F-0563-423E-9DE2-7FA166AD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4382-F11C-45B4-B127-F6E89D46DAF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image" Target="../media/image5.pct"/><Relationship Id="rId4" Type="http://schemas.openxmlformats.org/officeDocument/2006/relationships/image" Target="../media/image5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200160"/>
            <a:ext cx="7772400" cy="536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License Plate"/>
              </a:rPr>
              <a:t>CC-EL DERECHO Y LA ACADEM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66520" y="1676520"/>
            <a:ext cx="61722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Sin obra derivada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 No se pueden realizar obras deriv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5909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40384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4"/>
          <a:srcRect l="1924230" t="1069026" r="748376" b="1496669"/>
          <a:stretch/>
        </p:blipFill>
        <p:spPr>
          <a:xfrm>
            <a:off x="1066680" y="403848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4" name="" descr=""/>
          <p:cNvPicPr/>
          <p:nvPr/>
        </p:nvPicPr>
        <p:blipFill>
          <a:blip r:embed="rId5"/>
          <a:srcRect l="427644" t="1069026" r="2138135" b="1496669"/>
          <a:stretch/>
        </p:blipFill>
        <p:spPr>
          <a:xfrm>
            <a:off x="15228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5" name="" descr=""/>
          <p:cNvPicPr/>
          <p:nvPr/>
        </p:nvPicPr>
        <p:blipFill>
          <a:blip r:embed="rId6"/>
          <a:srcRect l="1924230" t="1069026" r="748376" b="1496669"/>
          <a:stretch/>
        </p:blipFill>
        <p:spPr>
          <a:xfrm>
            <a:off x="1066680" y="5791320"/>
            <a:ext cx="60984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905120" y="579132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181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6880" y="1676520"/>
            <a:ext cx="64771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combinaciones posibles de Licencias CC son la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No se puede obtener ningún beneficio comer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No comercial - Compartir igu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l material creado por un artista puede ser distribuido, copiado y exhibido por terceros si se muestra en los créditos. No se puede obtener ningún beneficio comercial y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ocimiento - Compartir igu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 material creado por un artista puede ser distribuido, copiado y exhibido por terceros si se muestra en los créditos. Las obras derivadas tienen que estar bajo los mismos términos de licencia que el trabajo orig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427644" t="1069026" r="2138135" b="1496669"/>
          <a:stretch/>
        </p:blipFill>
        <p:spPr>
          <a:xfrm>
            <a:off x="1522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3" name="" descr=""/>
          <p:cNvPicPr/>
          <p:nvPr/>
        </p:nvPicPr>
        <p:blipFill>
          <a:blip r:embed="rId3"/>
          <a:srcRect l="427644" t="1069026" r="2138135" b="1496669"/>
          <a:stretch/>
        </p:blipFill>
        <p:spPr>
          <a:xfrm>
            <a:off x="1522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4"/>
          <a:srcRect l="427644" t="1069026" r="2138135" b="1496669"/>
          <a:stretch/>
        </p:blipFill>
        <p:spPr>
          <a:xfrm>
            <a:off x="1522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5" name="" descr=""/>
          <p:cNvPicPr/>
          <p:nvPr/>
        </p:nvPicPr>
        <p:blipFill>
          <a:blip r:embed="rId5"/>
          <a:srcRect l="1817402" t="2138135" r="748376" b="427560"/>
          <a:stretch/>
        </p:blipFill>
        <p:spPr>
          <a:xfrm>
            <a:off x="1066680" y="22096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6"/>
          <a:srcRect l="427644" t="2138135" r="2138135" b="427560"/>
          <a:stretch/>
        </p:blipFill>
        <p:spPr>
          <a:xfrm>
            <a:off x="190512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7"/>
          <a:srcRect l="1817402" t="2138135" r="748376" b="427560"/>
          <a:stretch/>
        </p:blipFill>
        <p:spPr>
          <a:xfrm>
            <a:off x="1066680" y="365760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8"/>
          <a:srcRect l="427644" t="2138135" r="2138135" b="427560"/>
          <a:stretch/>
        </p:blipFill>
        <p:spPr>
          <a:xfrm>
            <a:off x="1066680" y="5410080"/>
            <a:ext cx="685800" cy="685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autor elige la licencia que desea adoptar, y al publicarla en Internet, la identifica con el símbolo otorgado por CC y adjunta la licencia. La licencia estará expresada en tres for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mon Deeds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la explicación escrita e iconográfica de la licencia a nivel “human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egal Code: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también a nivel humano, es la lectura jurídica de la licencia (código leg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gital Code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 el código a nivel tecnológico que pueden leer el ordenador y los buscadores, pudiendo identificar que la obra está licenciada y sus condiciones de 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que eliges tu licencia, tienes que incluir el botón Creative Commons “algunos derechos reservados” en tu sitio. Los pasos para establecer tu Licencia son muy senci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NTAJAS Y DESVENTAJAS DE C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sta hace unos añ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opiedad intelectual se defendía con el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mbolizado por ©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ignifica “todos los derechos reserva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chas veces los autores no quieren proteger la inform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sta el punto de que nadie pueda utilizarla para obras posteri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busca, más bien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pueda usar esa información de forma amplia y honest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sin perder el derecho de propiedad sobre el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cisamente, estas licencias CC surgen como respuesta a esta necesidad de los autores y cre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reative Commons ofrece a los creadores la posibilidad de decir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 “Some Rights Reserved”,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que traducido al español significaría “Algunos Derechos Reservado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ventaja de este tipo de licencias consiste en que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autor se anticipa a posteriores solicitudes y otorga su permiso a la explotación de sus derechos por tercero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potenciales usuarios) bajo unas determinadas condiciones (Crego P., Jarque P. y Webster S., 200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principal ventaja de las licencias Creative Commons para los usuarios es que les </a:t>
            </a:r>
            <a:r>
              <a:rPr b="1" lang="es-ES_tradnl" sz="1400" spc="-1" strike="noStrike">
                <a:solidFill>
                  <a:srgbClr val="000000"/>
                </a:solidFill>
                <a:latin typeface="Arial Black"/>
              </a:rPr>
              <a:t>ofrecen un permiso previo para que otros puedan compartir, modificar o lucrar con el contenido creado por ellos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a manera, no es necesario solicitar una autorización al autor del mate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osibilitan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olaboración libre con todas las personas y procesos de creación compart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simismo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queda excluida la posibilidad de obtener un permiso expreso del aut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ara realizar actividades no permitidas por la licencia específica (Grupo de investigación Copia/Sur, 200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ficio en los motores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está nada claro que usar licencias CC en blogs logre para éstos mejores posiciones en los buscadores, pero sí es cierto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ar estas licencias meten de lleno nuestros contenidos en los motores de búsqueda orientados a licencias 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rincipal ventaja es que cada vez más la gente busca contenid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no sólo para disfrutar pasivamente con ellos, sino para usarlos a su vez de forma activa. El hecho se tener contenidos que son usados y citados en otras páginas web se favorece nuestra posterior indexación en busc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usuario de Flickr se observa también que las imágenes con licencia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C aparecen con mayor frecuencia en las consultas API a buscadore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o representa una visibilidad mayor de nuestra creación y por ende de nosotros mismos como cre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Creative Commons ha promovido el estándar W3C ccREL que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vorece la indexación semántic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los trabajos así regist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entajas no tan conoc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probabilidades de ser ci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air us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permite a terceros usar citando nuestros contenidos en los países anglosajones. De igual maner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el derecho de autor continental existe el derecho de cit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i bien en las últimas modificaciones legislativas está casi por completo eliminado al menos en España con lo que se observa una clara tendencia a ser completamente eliminado como posible práctica gratuita.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 existir límites complejos de entender, mucha gente no se siente cómoda citando nada que está bajo “todos los derechos reservado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citar contenidos con licencia Creative Commons,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si la única manera posible de usar este reducido derecho sin tener que pagar o pedir permiso expres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la mayor parte de los casos ya que de hecho lo que hacen estas licencias es por defecto dar la autorización del titular de las obras a que éstas sean usadas de nuevo citando siempre al autor 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ada vez más citas que aparezcan en Internet serán de contenidos con este tipo de lic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0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queda muy cla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uáles son los beneficios para los cre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s respuesta alternativa al copyright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a que se sustenta en él para delimitar los derechos que pueden, o no, tener terceros sobre la obra cre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C aú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idera los bienes culturales como mercancía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son necesarias para favorecer una producción creativa, situación que excluye obras producidas por culturas ajenas a este concepto, como algunas asiáticas, africanas e indíge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empr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y que asegurarse si el trabajo está bajo una licenc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 commons al ser us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ventajas (resum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tiene contro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licencias no están en todos países,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lo que hay que adaptar la obra a la jurisdicción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asegura que en todos los países se van a respetar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os derechos, pues depende de la legislación al respecto en un determinado país y de la licencia seleccio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el plagio de la obra se da en un país donde no hay leyes al respecto o las leyes de creative commons no están vigentes,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se puede hacer nada para evi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8320" y="1320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ative Commons da, en definitiva,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seguridad jurídica a un uso común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garantiza el respeto, al menos da las herramientas para ello, de los derechos que cada autor quiera reservar de su ob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imis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 la colabo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la creación de cultura” (Sagarra, 2005: párr.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importante tener presente, tal como afirma Vercelli (2004:157), que la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“licencias CC en ningún caso significan la entrega o cesión completa de los derechos de auto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29200"/>
            <a:ext cx="236232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23720" y="5105160"/>
            <a:ext cx="571500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lvl="1" marL="735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La legislación como red social, el inútil caso de Creative Co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81680" y="3048120"/>
            <a:ext cx="1905120" cy="187632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2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igual que la licencia de GPL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General_Public_License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solo algunos derechos y algunas obligaciones quedan ac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CC significan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serva de facultades y el otorgamiento a los usuarios finales de algunos derechos bajo ciertas condiciones específicas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todo lo que las licencias no habilitan,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s usuarios deberán solicitar permiso por escrito al autor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diferentes licencias ayudan a encontrar las preferencias para un mejor intercambio de las obras bajo estándares comu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no mencionan leyes, estatutos de ningún país en particul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 contenidos de ninguna clase de cláusula de opción legal específica y las mismas son irrevocables y su validez univer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nivel prác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dría decirse que el uso de este tipo de licencias en cualquier publicación abierta, por ejemplo un portal o cualquier plataforma de Internet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implica libertad total de uso de sus conten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ún la experiencia de la Universidad Carlos III de Madrid, la publicación de un material con pie de licencias C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gnifica la autorización para los usos especificados en las misma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siempre van más allá de lo permitido por la ley (Crego, Jarque, Webster, 200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a ONU, el uso de Creative Commons tendría dos beneficio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iría que los académicos y los equipos de producción responsables de la creación de contenidos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artan y distribuyan sus obras por medio de Internet, estableciendo los derechos y deberes que tendrían los usu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otro lado, el conocimiento de estas licencias, sus alcances y limitaciones l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itirían aprovechar de mejor forma todos los recursos que se publican con este tipo de licencia, considerando siempre los deberes y derechos inherentes a su 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PREGUNTAR PARA A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9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mas y pregun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La Universidad de Chile y la propiedad del resultado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s el estudiante dueño de los derechos de autoría del material creado o articulado dentro de una actividad académic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existe algún tipo de estratificación de nuestras facultades en la Universidad de Ch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dónde acudo para verificar es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contradicción? (biblioteca, cybertesis, tesis, proyecto de tít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¿cuál es la importancia de la confidencialidad de la invención para proteger el requisito de nove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TRABAJO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56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ALICE UNA PUBLICACION VIRTUAL ACOGIDA A LAS LICENCIA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crear un blog, una website, puede publicar en un sitio ya instalado en la re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publicar escritos, fotos, diseño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ublicación debe estar realizada al 17 de diciembre de 2013 y durante la sesión confirmaremos (on-line) que está real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ted debe publicar en material alumnos el link correspondiente, hasta las 23.59 del día lunes 9 de diciembre de 20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(CC) es una corpora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in fin de lucr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orgar a un autor,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der de decidir los límites de uso y explo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u trabajo en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tive Commons nació en 2002 en Estados Unidos, como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yecto de licencias para trabajos artístic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no limitara por completo el uso o reproducción de la o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co tiempo se convirtió en un proyecto internacional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legando a España y al mundo hispano, en 2003 de la mano de la Universidad de Barcelona, que ofició en la adaptación de las licencias al españ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 importante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las licencias de CC no van contra el copyright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no que buscan una forma de adaptarlo a los intereses del autor,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sándose en el concepto de propiedad intelec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 decir, no interfiere -pero tampoco tiene derecho- sobre las legislacionales nacionales del au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 la com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as las obras creativas quedan automáticamente bajo la protección de los derechos de copia, y mucha gente prefiere una alternativa que le permita que su obra esté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ponible para usos creativos y un beneficio simbiót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 la comun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ayudan a mantener el derecho de autor de una obra, a la vez que permiten ciertas excepciones bajo ciertas condicio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resumen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s licencias buscan promocionar la ciencia y las artes aplicad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yudando a los autores a ajustar sus derechos de forma precisa para que se adapte a sus prefer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o no asegura plenos derechos globales sobre los conten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licencias de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C están inspiradas en la GNU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General Public License) que se aplica al software, y se orientan a obras educativas, películas, literatura, música, fotografía y demás trabajos cre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as las Licencias incluyen la condición de mención o reconocimiento del autor, y van variando en los permisos de modificación o distribución según la preferencia del au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utor opta por los tipos de “libertad” para la extensión de su 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7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esta manera,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un estudiante que escribe por hobby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uede extender sus ideas por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diseñadora puede ganar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utación distribuyendo sus trabajos por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músico puede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artir muestras de sus canciones para interesar a los internautas en sus trabajos totalmente protegidos;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los ejemplos no tienen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or qué es necesario buscar alternativas al Copyr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dea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pyright se generó para medios físicos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 modo que era posible distinguir el acto privado de usar una obra, y el público de explotarl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rechos nos impedían distribuir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un libro, pero no leerlo en la casa de un familiar o ami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Los medios digitales, en cambio, no pueden definirse con la misma clarid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uso y la reproducción de un archivo pueden ser la misma cosa, la infracción y lo legal son cuestionables,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a obra digital demasiado protegida, termina siendo perjudic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Black"/>
              </a:rPr>
              <a:t>Una licencia CC autoriza el uso de una obra digital sin dejar de proteger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icense Plate"/>
              </a:rPr>
              <a:t>DERECHOS EN LA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4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licencias de CC se basan en 4 condiciones que pueden combinarse en 6 tipos de licencias diferentes. Esta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onocimiento (Attrib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comercial (Non 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in Obra Derivada (No derivate Wo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artir Igual (Share a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685800"/>
            <a:ext cx="8534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Temas y pregun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0000"/>
                </a:solidFill>
                <a:latin typeface="Arial"/>
              </a:rPr>
              <a:t>La legislación como red social, el inútil caso de Creative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1:02Z</dcterms:modified>
  <cp:revision>12</cp:revision>
  <dc:subject/>
  <dc:title>LEGISLACION Y CONSULTORIA PROFESIONAL  EL DERECHO DE AUTOR NACIONAL E INTERNACIONAL</dc:title>
</cp:coreProperties>
</file>