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363-EC7D-4A30-993F-82BBDE02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88D-BBCE-4DCC-AA2B-5C16EC3B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5EE-A108-4BEB-90EA-A46155DF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EC5-D12E-44D9-BB40-618BA4F6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878-83B8-4247-9F95-F7C6F7BC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BF2-273F-405C-AC0E-04AD4106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2DE-9BF7-4157-A308-D71C1228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448-5BD5-4E72-ABEB-4D2A6229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7D8-9C53-4A28-92BA-E4DE10FB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097-A55F-4F7E-AC56-AB044527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53D-A7C9-4BF7-B5E9-B24A219F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1FA-873A-499B-B358-0F9CE11B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9936-4219-481F-AF4F-C102824A3452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HERRAMIENTAS DE ANAL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Juan Carlos Le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ANALISIS F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1258920" y="1628640"/>
            <a:ext cx="6480000" cy="3889440"/>
            <a:chOff x="1258920" y="1628640"/>
            <a:chExt cx="6480000" cy="3889440"/>
          </a:xfrm>
        </p:grpSpPr>
        <p:sp>
          <p:nvSpPr>
            <p:cNvPr id="45" name="Rectangle 7"/>
            <p:cNvSpPr/>
            <p:nvPr/>
          </p:nvSpPr>
          <p:spPr>
            <a:xfrm>
              <a:off x="1258920" y="1628640"/>
              <a:ext cx="6480000" cy="388764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8"/>
            <p:cNvSpPr/>
            <p:nvPr/>
          </p:nvSpPr>
          <p:spPr>
            <a:xfrm>
              <a:off x="4498920" y="1628640"/>
              <a:ext cx="0" cy="38894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9"/>
            <p:cNvSpPr/>
            <p:nvPr/>
          </p:nvSpPr>
          <p:spPr>
            <a:xfrm>
              <a:off x="1258920" y="3573360"/>
              <a:ext cx="64800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5366160" y="17733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404360" y="177336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1405440" y="3789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087240" y="378936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JECUCION DEL ANA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332000" y="1916280"/>
          <a:ext cx="6732360" cy="4336920"/>
        </p:xfrm>
        <a:graphic>
          <a:graphicData uri="http://schemas.openxmlformats.org/drawingml/2006/table">
            <a:tbl>
              <a:tblPr/>
              <a:tblGrid>
                <a:gridCol w="420480"/>
                <a:gridCol w="2946600"/>
                <a:gridCol w="412560"/>
                <a:gridCol w="2952720"/>
              </a:tblGrid>
              <a:tr h="103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Z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LID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144"/>
          <p:cNvSpPr/>
          <p:nvPr/>
        </p:nvSpPr>
        <p:spPr>
          <a:xfrm>
            <a:off x="1042200" y="1052640"/>
            <a:ext cx="76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ITUACIÓN INTERNA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Productos, Canales de distribucion, Client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rganización comercial, Posicionamiento,  Publicidad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JECUCION DEL ANA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87280" y="1916280"/>
          <a:ext cx="6732720" cy="4336920"/>
        </p:xfrm>
        <a:graphic>
          <a:graphicData uri="http://schemas.openxmlformats.org/drawingml/2006/table">
            <a:tbl>
              <a:tblPr/>
              <a:tblGrid>
                <a:gridCol w="420840"/>
                <a:gridCol w="2946240"/>
                <a:gridCol w="412920"/>
                <a:gridCol w="2952720"/>
              </a:tblGrid>
              <a:tr h="103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RTUNID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NAZ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40"/>
          <p:cNvSpPr/>
          <p:nvPr/>
        </p:nvSpPr>
        <p:spPr>
          <a:xfrm>
            <a:off x="539640" y="1052640"/>
            <a:ext cx="85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ITUACIÓN EXTERNA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Mercado, Competencia, Situación Social, Económi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olítica, Cultural, Legal, Tecnológic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3640" y="692280"/>
            <a:ext cx="475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MATRIZ BC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 rot="16200000">
            <a:off x="-987120" y="340344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TASA DE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700360" y="5950080"/>
            <a:ext cx="36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ARTICIPACION DE MERCAD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30"/>
          <p:cNvGrpSpPr/>
          <p:nvPr/>
        </p:nvGrpSpPr>
        <p:grpSpPr>
          <a:xfrm>
            <a:off x="1258920" y="1628640"/>
            <a:ext cx="6480000" cy="3889440"/>
            <a:chOff x="1258920" y="1628640"/>
            <a:chExt cx="6480000" cy="3889440"/>
          </a:xfrm>
        </p:grpSpPr>
        <p:grpSp>
          <p:nvGrpSpPr>
            <p:cNvPr id="62" name="Group 8"/>
            <p:cNvGrpSpPr/>
            <p:nvPr/>
          </p:nvGrpSpPr>
          <p:grpSpPr>
            <a:xfrm>
              <a:off x="1258920" y="1628640"/>
              <a:ext cx="6480000" cy="3889440"/>
              <a:chOff x="1258920" y="1628640"/>
              <a:chExt cx="6480000" cy="3889440"/>
            </a:xfrm>
          </p:grpSpPr>
          <p:sp>
            <p:nvSpPr>
              <p:cNvPr id="63" name="Rectangle 4"/>
              <p:cNvSpPr/>
              <p:nvPr/>
            </p:nvSpPr>
            <p:spPr>
              <a:xfrm>
                <a:off x="1258920" y="1628640"/>
                <a:ext cx="6480000" cy="3887640"/>
              </a:xfrm>
              <a:prstGeom prst="rect">
                <a:avLst/>
              </a:prstGeom>
              <a:solidFill>
                <a:srgbClr val="bbe0e3"/>
              </a:solidFill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6"/>
              <p:cNvSpPr/>
              <p:nvPr/>
            </p:nvSpPr>
            <p:spPr>
              <a:xfrm>
                <a:off x="4498920" y="1628640"/>
                <a:ext cx="0" cy="388944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7"/>
              <p:cNvSpPr/>
              <p:nvPr/>
            </p:nvSpPr>
            <p:spPr>
              <a:xfrm>
                <a:off x="1258920" y="3573360"/>
                <a:ext cx="648000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 Box 11"/>
            <p:cNvSpPr/>
            <p:nvPr/>
          </p:nvSpPr>
          <p:spPr>
            <a:xfrm>
              <a:off x="6733800" y="177336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ZONA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2"/>
            <p:cNvSpPr/>
            <p:nvPr/>
          </p:nvSpPr>
          <p:spPr>
            <a:xfrm>
              <a:off x="1404000" y="177336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ZONA 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3"/>
            <p:cNvSpPr/>
            <p:nvPr/>
          </p:nvSpPr>
          <p:spPr>
            <a:xfrm>
              <a:off x="1404000" y="3789360"/>
              <a:ext cx="10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ZONA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6517800" y="378936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ZONA 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5724360" y="2997360"/>
              <a:ext cx="289080" cy="288720"/>
            </a:xfrm>
            <a:prstGeom prst="ellipse">
              <a:avLst/>
            </a:prstGeom>
            <a:gradFill rotWithShape="0">
              <a:gsLst>
                <a:gs pos="0">
                  <a:srgbClr val="ec8f28"/>
                </a:gs>
                <a:gs pos="100000">
                  <a:srgbClr val="6d42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4788000" y="2421000"/>
              <a:ext cx="576000" cy="576360"/>
            </a:xfrm>
            <a:prstGeom prst="ellipse">
              <a:avLst/>
            </a:prstGeom>
            <a:gradFill rotWithShape="0">
              <a:gsLst>
                <a:gs pos="0">
                  <a:srgbClr val="ec8f28"/>
                </a:gs>
                <a:gs pos="100000">
                  <a:srgbClr val="6d42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3348000" y="1989000"/>
              <a:ext cx="936720" cy="863640"/>
            </a:xfrm>
            <a:prstGeom prst="ellipse">
              <a:avLst/>
            </a:prstGeom>
            <a:gradFill rotWithShape="0">
              <a:gsLst>
                <a:gs pos="0">
                  <a:srgbClr val="ec8f28"/>
                </a:gs>
                <a:gs pos="100000">
                  <a:srgbClr val="6d42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1403280" y="4221000"/>
              <a:ext cx="1079640" cy="1079640"/>
            </a:xfrm>
            <a:prstGeom prst="ellipse">
              <a:avLst/>
            </a:prstGeom>
            <a:gradFill rotWithShape="0">
              <a:gsLst>
                <a:gs pos="0">
                  <a:srgbClr val="ec8f28"/>
                </a:gs>
                <a:gs pos="100000">
                  <a:srgbClr val="6d42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6659640" y="4724280"/>
              <a:ext cx="431640" cy="432000"/>
            </a:xfrm>
            <a:prstGeom prst="ellipse">
              <a:avLst/>
            </a:prstGeom>
            <a:gradFill rotWithShape="0">
              <a:gsLst>
                <a:gs pos="0">
                  <a:srgbClr val="ec8f28"/>
                </a:gs>
                <a:gs pos="100000">
                  <a:srgbClr val="6d421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21"/>
          <p:cNvSpPr/>
          <p:nvPr/>
        </p:nvSpPr>
        <p:spPr>
          <a:xfrm>
            <a:off x="6446520" y="3213000"/>
            <a:ext cx="12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oducto Ni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2987640" y="321300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oducto Estr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2625480" y="515772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oducto Vaca Lec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6156360" y="515772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oducto Estr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5"/>
          <p:cNvSpPr/>
          <p:nvPr/>
        </p:nvSpPr>
        <p:spPr>
          <a:xfrm rot="16200000">
            <a:off x="524880" y="481320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B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6"/>
          <p:cNvSpPr/>
          <p:nvPr/>
        </p:nvSpPr>
        <p:spPr>
          <a:xfrm rot="16200000">
            <a:off x="526320" y="207936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A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7215840" y="558972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B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1189440" y="558972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A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MATRIZ RM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916280"/>
          <a:ext cx="5688000" cy="3528720"/>
        </p:xfrm>
        <a:graphic>
          <a:graphicData uri="http://schemas.openxmlformats.org/drawingml/2006/table">
            <a:tbl>
              <a:tblPr/>
              <a:tblGrid>
                <a:gridCol w="1417680"/>
                <a:gridCol w="1432080"/>
                <a:gridCol w="2838240"/>
              </a:tblGrid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4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ranco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ed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illa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le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ir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calar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rar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merarse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tene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sión absoluta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estructurar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ecuar necesidades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ar mejorando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ber es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MATRIZ RM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rmg"/>
          <p:cNvPicPr/>
          <p:nvPr/>
        </p:nvPicPr>
        <p:blipFill>
          <a:blip r:embed="rId1">
            <a:alphaModFix amt="25000"/>
          </a:blip>
          <a:stretch/>
        </p:blipFill>
        <p:spPr>
          <a:xfrm>
            <a:off x="2195640" y="1557360"/>
            <a:ext cx="4873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3:27:11Z</dcterms:created>
  <dc:creator>Juan Carlos Lepe</dc:creator>
  <dc:description/>
  <dc:language>en-US</dc:language>
  <cp:lastModifiedBy>JCLEPE</cp:lastModifiedBy>
  <dcterms:modified xsi:type="dcterms:W3CDTF">2012-08-14T16:29:51Z</dcterms:modified>
  <cp:revision>5</cp:revision>
  <dc:subject/>
  <dc:title>HERRA MIENTAS DE ANALISIS</dc:title>
</cp:coreProperties>
</file>