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AEE-4E97-47BE-848B-1E5A6AD4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69E-0378-4A77-A1C8-04491CEB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7B3-F7D8-4FE3-A80E-3ADA4FA2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17D-D9C9-4A6E-A5AD-3A626844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790-A0B7-463B-B94E-282EC407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24B-57AA-44A0-9297-BA6BBD7A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87C-C3B2-41D9-855B-0FDAA052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E9C-659E-4329-A215-0199573E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33D-34AB-442B-90D6-0291FDFD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162-6798-4C70-AA02-969F9DE8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D49-B694-4827-BDBF-6B0DA87E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F81-5CEA-455B-A8E4-8C2E753D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6EFB-E99A-4D55-B170-1A5A1D53D14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HERRAMIENTAS DE ANAL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uan Carlos Le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ANALISIS F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1258920" y="1628640"/>
            <a:ext cx="6480000" cy="3889440"/>
            <a:chOff x="1258920" y="1628640"/>
            <a:chExt cx="6480000" cy="3889440"/>
          </a:xfrm>
        </p:grpSpPr>
        <p:sp>
          <p:nvSpPr>
            <p:cNvPr id="45" name="Rectangle 7"/>
            <p:cNvSpPr/>
            <p:nvPr/>
          </p:nvSpPr>
          <p:spPr>
            <a:xfrm>
              <a:off x="1258920" y="1628640"/>
              <a:ext cx="6480000" cy="3887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8"/>
            <p:cNvSpPr/>
            <p:nvPr/>
          </p:nvSpPr>
          <p:spPr>
            <a:xfrm>
              <a:off x="4498920" y="1628640"/>
              <a:ext cx="0" cy="38894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9"/>
            <p:cNvSpPr/>
            <p:nvPr/>
          </p:nvSpPr>
          <p:spPr>
            <a:xfrm>
              <a:off x="1258920" y="3573360"/>
              <a:ext cx="64800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5366160" y="17733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404360" y="177336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405440" y="3789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087240" y="378936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JECUCION DEL ANA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32000" y="1916280"/>
          <a:ext cx="6732360" cy="4336920"/>
        </p:xfrm>
        <a:graphic>
          <a:graphicData uri="http://schemas.openxmlformats.org/drawingml/2006/table">
            <a:tbl>
              <a:tblPr/>
              <a:tblGrid>
                <a:gridCol w="420480"/>
                <a:gridCol w="2946600"/>
                <a:gridCol w="412560"/>
                <a:gridCol w="2952720"/>
              </a:tblGrid>
              <a:tr h="103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Z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LID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144"/>
          <p:cNvSpPr/>
          <p:nvPr/>
        </p:nvSpPr>
        <p:spPr>
          <a:xfrm>
            <a:off x="1042200" y="1052640"/>
            <a:ext cx="76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ITUACIÓN INTERN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Productos, Canales de distribucion, Client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rganización comercial, Posicionamiento,  Publicida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JECUCION DEL ANA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87280" y="1916280"/>
          <a:ext cx="6732720" cy="4336920"/>
        </p:xfrm>
        <a:graphic>
          <a:graphicData uri="http://schemas.openxmlformats.org/drawingml/2006/table">
            <a:tbl>
              <a:tblPr/>
              <a:tblGrid>
                <a:gridCol w="420840"/>
                <a:gridCol w="2946240"/>
                <a:gridCol w="412920"/>
                <a:gridCol w="2952720"/>
              </a:tblGrid>
              <a:tr h="103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RTUNID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AZ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40"/>
          <p:cNvSpPr/>
          <p:nvPr/>
        </p:nvSpPr>
        <p:spPr>
          <a:xfrm>
            <a:off x="539640" y="1052640"/>
            <a:ext cx="85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ITUACIÓN EXTERN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Mercado, Competencia, Situación Social, Económ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lítica, Cultural, Legal, Tecnológic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3640" y="692280"/>
            <a:ext cx="475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MATRIZ BC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 rot="16200000">
            <a:off x="-987120" y="340344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ASA DE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700360" y="5950080"/>
            <a:ext cx="36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ARTICIPACION DE MERCAD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30"/>
          <p:cNvGrpSpPr/>
          <p:nvPr/>
        </p:nvGrpSpPr>
        <p:grpSpPr>
          <a:xfrm>
            <a:off x="1258920" y="1628640"/>
            <a:ext cx="6480000" cy="3889440"/>
            <a:chOff x="1258920" y="1628640"/>
            <a:chExt cx="6480000" cy="3889440"/>
          </a:xfrm>
        </p:grpSpPr>
        <p:grpSp>
          <p:nvGrpSpPr>
            <p:cNvPr id="62" name="Group 8"/>
            <p:cNvGrpSpPr/>
            <p:nvPr/>
          </p:nvGrpSpPr>
          <p:grpSpPr>
            <a:xfrm>
              <a:off x="1258920" y="1628640"/>
              <a:ext cx="6480000" cy="3889440"/>
              <a:chOff x="1258920" y="1628640"/>
              <a:chExt cx="6480000" cy="388944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1258920" y="1628640"/>
                <a:ext cx="6480000" cy="388764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6"/>
              <p:cNvSpPr/>
              <p:nvPr/>
            </p:nvSpPr>
            <p:spPr>
              <a:xfrm>
                <a:off x="4498920" y="1628640"/>
                <a:ext cx="0" cy="38894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7"/>
              <p:cNvSpPr/>
              <p:nvPr/>
            </p:nvSpPr>
            <p:spPr>
              <a:xfrm>
                <a:off x="1258920" y="3573360"/>
                <a:ext cx="64800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 Box 11"/>
            <p:cNvSpPr/>
            <p:nvPr/>
          </p:nvSpPr>
          <p:spPr>
            <a:xfrm>
              <a:off x="6733800" y="177336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ZONA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2"/>
            <p:cNvSpPr/>
            <p:nvPr/>
          </p:nvSpPr>
          <p:spPr>
            <a:xfrm>
              <a:off x="1404000" y="177336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ZONA 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3"/>
            <p:cNvSpPr/>
            <p:nvPr/>
          </p:nvSpPr>
          <p:spPr>
            <a:xfrm>
              <a:off x="1404000" y="378936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ZONA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6517800" y="378936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ZONA 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5724360" y="2997360"/>
              <a:ext cx="289080" cy="288720"/>
            </a:xfrm>
            <a:prstGeom prst="ellipse">
              <a:avLst/>
            </a:prstGeom>
            <a:gradFill rotWithShape="0">
              <a:gsLst>
                <a:gs pos="0">
                  <a:srgbClr val="ec8f28"/>
                </a:gs>
                <a:gs pos="100000">
                  <a:srgbClr val="6d42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4788000" y="242100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ec8f28"/>
                </a:gs>
                <a:gs pos="100000">
                  <a:srgbClr val="6d42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3348000" y="1989000"/>
              <a:ext cx="936720" cy="863640"/>
            </a:xfrm>
            <a:prstGeom prst="ellipse">
              <a:avLst/>
            </a:prstGeom>
            <a:gradFill rotWithShape="0">
              <a:gsLst>
                <a:gs pos="0">
                  <a:srgbClr val="ec8f28"/>
                </a:gs>
                <a:gs pos="100000">
                  <a:srgbClr val="6d42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1403280" y="4221000"/>
              <a:ext cx="1079640" cy="1079640"/>
            </a:xfrm>
            <a:prstGeom prst="ellipse">
              <a:avLst/>
            </a:prstGeom>
            <a:gradFill rotWithShape="0">
              <a:gsLst>
                <a:gs pos="0">
                  <a:srgbClr val="ec8f28"/>
                </a:gs>
                <a:gs pos="100000">
                  <a:srgbClr val="6d42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6659640" y="4724280"/>
              <a:ext cx="431640" cy="432000"/>
            </a:xfrm>
            <a:prstGeom prst="ellipse">
              <a:avLst/>
            </a:prstGeom>
            <a:gradFill rotWithShape="0">
              <a:gsLst>
                <a:gs pos="0">
                  <a:srgbClr val="ec8f28"/>
                </a:gs>
                <a:gs pos="100000">
                  <a:srgbClr val="6d42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1"/>
          <p:cNvSpPr/>
          <p:nvPr/>
        </p:nvSpPr>
        <p:spPr>
          <a:xfrm>
            <a:off x="6446520" y="3213000"/>
            <a:ext cx="12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oducto Ni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2987640" y="321300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oducto Est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2625480" y="515772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oducto Vaca Lec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6156360" y="515772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oducto Est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 rot="16200000">
            <a:off x="524880" y="481320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B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 rot="16200000">
            <a:off x="526320" y="207936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A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7215840" y="558972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B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1189440" y="55897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A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ATRIZ RM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916280"/>
          <a:ext cx="5688000" cy="3528720"/>
        </p:xfrm>
        <a:graphic>
          <a:graphicData uri="http://schemas.openxmlformats.org/drawingml/2006/table">
            <a:tbl>
              <a:tblPr/>
              <a:tblGrid>
                <a:gridCol w="1417680"/>
                <a:gridCol w="1432080"/>
                <a:gridCol w="2838240"/>
              </a:tblGrid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4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ranco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ed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illa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le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ir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calar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rar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merarse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ten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sión absoluta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estructurar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ecuar necesidades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ar mejorando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ber es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MATRIZ RM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mg"/>
          <p:cNvPicPr/>
          <p:nvPr/>
        </p:nvPicPr>
        <p:blipFill>
          <a:blip r:embed="rId1">
            <a:alphaModFix amt="25000"/>
          </a:blip>
          <a:stretch/>
        </p:blipFill>
        <p:spPr>
          <a:xfrm>
            <a:off x="2195640" y="1557360"/>
            <a:ext cx="4873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3:27:11Z</dcterms:created>
  <dc:creator>Juan Carlos Lepe</dc:creator>
  <dc:description/>
  <dc:language>en-US</dc:language>
  <cp:lastModifiedBy>JCLEPE</cp:lastModifiedBy>
  <dcterms:modified xsi:type="dcterms:W3CDTF">2012-08-14T16:29:51Z</dcterms:modified>
  <cp:revision>5</cp:revision>
  <dc:subject/>
  <dc:title>HERRA MIENTAS DE ANALISIS</dc:title>
</cp:coreProperties>
</file>