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B7F3-AC9C-4D71-86E7-39F915E62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C6F2-E1DC-413F-92C9-F1FE216DEB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D734-066B-4C25-979F-1AF9B0890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6C0D-D9F3-4F93-8B33-2B6C23815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4040" cy="3722760"/>
          </a:xfrm>
          <a:prstGeom prst="rect">
            <a:avLst/>
          </a:prstGeom>
          <a:ln w="0">
            <a:noFill/>
          </a:ln>
        </p:spPr>
      </p:sp>
      <p:sp>
        <p:nvSpPr>
          <p:cNvPr id="16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sistemas fiscales intergubernamentales, en terminos estilizados, suelen tener los siguientes elementos, que se relacionan con las preguntas basicas que suelen hacerse para evaluar el funcionamiento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uiendo las preguntas basicas que plantea Richard 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provee cada bien o servicio? Asignacion de ga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recauda cada impuesto? Asignacion de l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vertical resultante? Transferencias entre niveles de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horizontal? Transferencias compensa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en el ultimo tiempo se le ha agregado la pregunta de como debe financiarse la brecha resultante? Es adecuado el acceso al financiamiento por parte de los gobiernos sub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3720-9D04-4BC8-88A5-64A203185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852480" y="744480"/>
            <a:ext cx="4964040" cy="3722760"/>
          </a:xfrm>
          <a:prstGeom prst="rect">
            <a:avLst/>
          </a:prstGeom>
          <a:ln w="0">
            <a:noFill/>
          </a:ln>
        </p:spPr>
      </p:sp>
      <p:sp>
        <p:nvSpPr>
          <p:cNvPr id="1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C463-CAA0-482C-B34B-049BBF4F5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852480" y="744480"/>
            <a:ext cx="4964040" cy="3722760"/>
          </a:xfrm>
          <a:prstGeom prst="rect">
            <a:avLst/>
          </a:prstGeom>
          <a:ln w="0">
            <a:noFill/>
          </a:ln>
        </p:spPr>
      </p:sp>
      <p:sp>
        <p:nvSpPr>
          <p:cNvPr id="1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B280-3864-4CE3-B1D5-3EBFB7080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7F2F-8119-43CD-8656-9869DB979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2480" y="744480"/>
            <a:ext cx="4964040" cy="3722760"/>
          </a:xfrm>
          <a:prstGeom prst="rect">
            <a:avLst/>
          </a:prstGeom>
          <a:ln w="0">
            <a:noFill/>
          </a:ln>
        </p:spPr>
      </p:sp>
      <p:sp>
        <p:nvSpPr>
          <p:cNvPr id="1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1B9E-C2D4-432C-BA02-196D8A3CE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2480" y="744480"/>
            <a:ext cx="4964040" cy="3722760"/>
          </a:xfrm>
          <a:prstGeom prst="rect">
            <a:avLst/>
          </a:prstGeom>
          <a:ln w="0">
            <a:noFill/>
          </a:ln>
        </p:spPr>
      </p:sp>
      <p:sp>
        <p:nvSpPr>
          <p:cNvPr id="1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91BE-0B6A-4B06-BB64-6AD669203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2480" y="744480"/>
            <a:ext cx="4964040" cy="3722760"/>
          </a:xfrm>
          <a:prstGeom prst="rect">
            <a:avLst/>
          </a:prstGeom>
          <a:ln w="0">
            <a:noFill/>
          </a:ln>
        </p:spPr>
      </p:sp>
      <p:sp>
        <p:nvSpPr>
          <p:cNvPr id="1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A7D8-6820-459D-87EF-F6673AC54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2480" y="744480"/>
            <a:ext cx="4964040" cy="3722760"/>
          </a:xfrm>
          <a:prstGeom prst="rect">
            <a:avLst/>
          </a:prstGeom>
          <a:ln w="0">
            <a:noFill/>
          </a:ln>
        </p:spPr>
      </p:sp>
      <p:sp>
        <p:nvSpPr>
          <p:cNvPr id="16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B061-CD8F-4B72-BB5D-3EBE72DE1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2480" y="744480"/>
            <a:ext cx="4964040" cy="3722760"/>
          </a:xfrm>
          <a:prstGeom prst="rect">
            <a:avLst/>
          </a:prstGeom>
          <a:ln w="0">
            <a:noFill/>
          </a:ln>
        </p:spPr>
      </p:sp>
      <p:sp>
        <p:nvSpPr>
          <p:cNvPr id="1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97F8-1EA8-4CD0-AF53-57644E214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ADFFF-E754-4A77-BA6A-26CE9181B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8808-FD6D-4BC8-987D-F332300E6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1D473-75B5-4819-A24C-6BB8DF90A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253D0-9A27-41DD-8778-DFAF821D5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68DAF-A609-4D57-9F75-B83FA8B3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3F162-7AB1-475B-B044-5BD266C43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EF73-9E8C-4E24-8B02-5145CD78F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5C146-32A3-4639-8561-8EFF5EF56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C79C-F3A5-4A79-8B1C-8648349AA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F77B-8AC8-431C-971E-0CA239FC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7A20E-BF86-4C2A-8456-A6A5574C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9D2E-FFDA-4942-9D80-46E7A7575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0605-FF6F-469C-B19F-08792CDD5F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D051-4A08-4AFD-97EC-5519C8287E8C}"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 name="PlaceHolder 1"/>
          <p:cNvSpPr>
            <a:spLocks noGrp="1"/>
          </p:cNvSpPr>
          <p:nvPr>
            <p:ph type="title"/>
          </p:nvPr>
        </p:nvSpPr>
        <p:spPr>
          <a:xfrm>
            <a:off x="151920" y="312408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NALISIS REGIONAL Y PROCESO DECISORIO: INSUMOS Y PRODUCTOS </a:t>
            </a:r>
            <a:r>
              <a:rPr b="1" lang="en-US" sz="2400" spc="-1" strike="noStrike">
                <a:solidFill>
                  <a:srgbClr val="ffcc00"/>
                </a:solidFill>
                <a:latin typeface="Tahoma"/>
              </a:rPr>
              <a:t> </a:t>
            </a:r>
            <a:endParaRPr b="0" lang="en-US" sz="2400" spc="-1" strike="noStrike">
              <a:solidFill>
                <a:srgbClr val="000000"/>
              </a:solidFill>
              <a:latin typeface="Calibri"/>
            </a:endParaRPr>
          </a:p>
        </p:txBody>
      </p:sp>
      <p:sp>
        <p:nvSpPr>
          <p:cNvPr id="50" name="Text Box 4"/>
          <p:cNvSpPr/>
          <p:nvPr/>
        </p:nvSpPr>
        <p:spPr>
          <a:xfrm>
            <a:off x="6477120" y="5181480"/>
            <a:ext cx="23619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uis  Lir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rPr>
              <a:t>luislira@uchilefau.cl</a:t>
            </a:r>
            <a:endParaRPr b="0" lang="en-US" sz="1600" spc="-1" strike="noStrike">
              <a:solidFill>
                <a:srgbClr val="000000"/>
              </a:solidFill>
              <a:latin typeface="Times New Roman"/>
            </a:endParaRPr>
          </a:p>
        </p:txBody>
      </p:sp>
      <p:pic>
        <p:nvPicPr>
          <p:cNvPr id="51" name="Picture 13" descr=""/>
          <p:cNvPicPr/>
          <p:nvPr/>
        </p:nvPicPr>
        <p:blipFill>
          <a:blip r:embed="rId1"/>
          <a:stretch/>
        </p:blipFill>
        <p:spPr>
          <a:xfrm>
            <a:off x="762120" y="380880"/>
            <a:ext cx="1143000" cy="2462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OMUNA AUTONOMA DE 1891</a:t>
            </a:r>
            <a:endParaRPr b="0" lang="en-US" sz="3600" spc="-1" strike="noStrike">
              <a:solidFill>
                <a:srgbClr val="000000"/>
              </a:solidFill>
              <a:latin typeface="Calibri"/>
            </a:endParaRPr>
          </a:p>
        </p:txBody>
      </p:sp>
      <p:sp>
        <p:nvSpPr>
          <p:cNvPr id="68" name=""/>
          <p:cNvSpPr txBox="1"/>
          <p:nvPr/>
        </p:nvSpPr>
        <p:spPr>
          <a:xfrm>
            <a:off x="250920" y="1052280"/>
            <a:ext cx="8664480" cy="5043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Ley de Organización y Atribuciones de las Municipalidades, más conocida como Ley de Comuna Autónoma, fue una norma legal chilena, aprobada el 22 de diciembre de 1891 en el gobierno del Presidente Jorge Montt y publicada en Diario Oficial el 24 de diciembre del mismo año, que otorgaba considerables cuotas de autonomía a las municipalidades, entregándole además, el manejo de las elecciones políticas. También regulaba las funciones que debían desempeñar las nuevas municipali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norma establecía el número de </a:t>
            </a:r>
            <a:r>
              <a:rPr b="0" i="1" lang="es-CL" sz="1800" spc="-1" strike="noStrike" u="sng">
                <a:solidFill>
                  <a:srgbClr val="000000"/>
                </a:solidFill>
                <a:uFillTx/>
                <a:latin typeface="Calibri"/>
              </a:rPr>
              <a:t>municipales</a:t>
            </a:r>
            <a:r>
              <a:rPr b="0" lang="es-CL" sz="1800" spc="-1" strike="noStrike">
                <a:solidFill>
                  <a:srgbClr val="000000"/>
                </a:solidFill>
                <a:latin typeface="Calibri"/>
              </a:rPr>
              <a:t> que se debía elegir, y que correspondía a 9, de los cuáles existían tres que eran los alcaldes, y el resto regidores. Existían además regidores supernumerarios, que cuando las poblaciones superarán los 20.000 habitantes, se elige uno más por cada 10.000 habitantes. Para el caso de Santiago y Valparaíso, el Presidente debía dividir la población en diez y cinco circunscripciones, respectivamente. Cada circunscripción elegiría tres municipales, y cada Municipalidad estaría compuesta por la totalidad de los </a:t>
            </a:r>
            <a:r>
              <a:rPr b="0" i="1" lang="es-CL" sz="1800" spc="-1" strike="noStrike" u="sng">
                <a:solidFill>
                  <a:srgbClr val="000000"/>
                </a:solidFill>
                <a:uFillTx/>
                <a:latin typeface="Calibri"/>
              </a:rPr>
              <a:t>municipales</a:t>
            </a:r>
            <a:r>
              <a:rPr b="0" lang="es-CL" sz="1800" spc="-1" strike="noStrike">
                <a:solidFill>
                  <a:srgbClr val="000000"/>
                </a:solidFill>
                <a:latin typeface="Calibri"/>
              </a:rPr>
              <a:t> elegidos en cada circunscripción. Los tres municipales de cada circunscripción conformaban una junta local, y realizarían las labores confiadas por la Municipalidad, y presidirían la asamblea de electo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87200"/>
            <a:ext cx="8964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TERMINO DEL PARLAMENTARISMO </a:t>
            </a:r>
            <a:endParaRPr b="0" lang="en-US" sz="4000" spc="-1" strike="noStrike">
              <a:solidFill>
                <a:srgbClr val="000000"/>
              </a:solidFill>
              <a:latin typeface="Calibri"/>
            </a:endParaRPr>
          </a:p>
        </p:txBody>
      </p:sp>
      <p:sp>
        <p:nvSpPr>
          <p:cNvPr id="70" name=""/>
          <p:cNvSpPr txBox="1"/>
          <p:nvPr/>
        </p:nvSpPr>
        <p:spPr>
          <a:xfrm>
            <a:off x="0" y="1125360"/>
            <a:ext cx="8964720" cy="48261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lpe de Estado de 1924, implicó la clausura del Congreso, y la promulgación de la Constitución de 1925, que estableció un régimen presidencial.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esidente Arturo Alessandri conforma una comisión consultiva para una nueva constitución presidencialista.  Se deroga la lay de la comuna autónoma y se disolvieron todos los municipios relevantes del país designado en su lugar a Intendentes y regidores</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ICIO DE LA LA DESCENTRALIZACION ADMINISTRATIVA</a:t>
            </a:r>
            <a:endParaRPr b="0" lang="en-US" sz="3600" spc="-1" strike="noStrike">
              <a:solidFill>
                <a:srgbClr val="000000"/>
              </a:solidFill>
              <a:latin typeface="Calibri"/>
            </a:endParaRPr>
          </a:p>
        </p:txBody>
      </p:sp>
      <p:sp>
        <p:nvSpPr>
          <p:cNvPr id="72" name=""/>
          <p:cNvSpPr txBox="1"/>
          <p:nvPr/>
        </p:nvSpPr>
        <p:spPr>
          <a:xfrm>
            <a:off x="-360" y="1341000"/>
            <a:ext cx="891540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1925 y hasta 1973  se produce un vuelco respecto de los intentos de descentralización política, la cual había sido propiciada por demandas de movimientos federalistas que nacían en la provincias y que en la mayoría de los casos tuvieron salidas violentas. A partir de este año comienza el periodo de modernización administrativa que se inicia desde el Estado. Ello se explica en una alta medida por el ascenso de las clases medias que comienzan a disputar el poder a los aristócratas que habían gobernado el país desde su independ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objetivo es tanto la descentralización como el desarrollo económico del país bajo los esquemas de la planificación nacional, sectorial y regional.</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88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HITOS DESTACABLES DEL PERIODO 1925-1973</a:t>
            </a:r>
            <a:endParaRPr b="0" lang="en-US" sz="3600" spc="-1" strike="noStrike">
              <a:solidFill>
                <a:srgbClr val="000000"/>
              </a:solidFill>
              <a:latin typeface="Calibri"/>
            </a:endParaRPr>
          </a:p>
        </p:txBody>
      </p:sp>
      <p:sp>
        <p:nvSpPr>
          <p:cNvPr id="74" name=""/>
          <p:cNvSpPr txBox="1"/>
          <p:nvPr/>
        </p:nvSpPr>
        <p:spPr>
          <a:xfrm>
            <a:off x="-360" y="1981080"/>
            <a:ext cx="8915400" cy="46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CORF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ODEPLAN y la división del país en once regiones y una zona metropolit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urgimiento de la planific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surgimiento de la planificación regional y urb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gobiernos de Frei Montal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50560"/>
            <a:ext cx="896472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ALGUNAS CAUSAS DEL CENTRALISMO CHILENO</a:t>
            </a:r>
            <a:endParaRPr b="0" lang="en-US" sz="3600" spc="-1" strike="noStrike">
              <a:solidFill>
                <a:srgbClr val="000000"/>
              </a:solidFill>
              <a:latin typeface="Calibri"/>
            </a:endParaRPr>
          </a:p>
        </p:txBody>
      </p:sp>
      <p:sp>
        <p:nvSpPr>
          <p:cNvPr id="76" name=""/>
          <p:cNvSpPr txBox="1"/>
          <p:nvPr/>
        </p:nvSpPr>
        <p:spPr>
          <a:xfrm>
            <a:off x="250920" y="1773360"/>
            <a:ext cx="8664480" cy="4751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l feudalismo.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edominio de la Iglesia Católica.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 la revolución industrial.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eso de la legalidad y burocracia española que continuó luego de la independenci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nfianza hacia la democracia del Simón Bolívar y los libertador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ovimientos federalista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Tarapacá ( peruana) y Antofagasta (boliviana) como resultado de la Guerra del Pacifico  1879-1881</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La Araucanía proceso que se inicia con Cornelio Saavedra en 1857 y termina con la fundación de Temuco en 188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RACIONALIZADOR DE LA DESCENTRALIZACION </a:t>
            </a:r>
            <a:endParaRPr b="0" lang="en-US" sz="3600" spc="-1" strike="noStrike">
              <a:solidFill>
                <a:srgbClr val="000000"/>
              </a:solidFill>
              <a:latin typeface="Calibri"/>
            </a:endParaRPr>
          </a:p>
        </p:txBody>
      </p:sp>
      <p:sp>
        <p:nvSpPr>
          <p:cNvPr id="78" name=""/>
          <p:cNvSpPr txBox="1"/>
          <p:nvPr/>
        </p:nvSpPr>
        <p:spPr>
          <a:xfrm>
            <a:off x="178920" y="1052640"/>
            <a:ext cx="8736120" cy="5805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stado-nación centralizado entra en crisis al mismo tiempo, tanto en los países desarrollados como subdesarrollados, lo que ha motivado la búsqueda de nuevas formas de legitimación, que apuntan a su reconstrucción. La descentralización aparece como una forma de modernización del Estado.  .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nfoque racionalizador de la gestión del Estado, surge como respuesta a los caciquismos, los particularismos y los clientelismos que lesionan la búsqueda de la igualdad como sinónimo del Bien Común. En particular, este enfoque surge como respuesta a la actuación de grupos no estatales: los grupos económicos y la Iglesia. El Estado-nación --construido en la lógica weberiana, impersonal, neutral y racional-- se expresa en la construcción de una administración estatal supuestamente con las mismas características. En este tipo de Estado, los partidos políticos juegan un rol fundamental ya que difunden programas e ideas que también tienden a la igualdad en todo el país.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a crisis del Estado-nación ha motivado, la implementación de un nuevo contrato social entre el Estado y un conjunto de organizaciones que buscan dar un nuevo impulso a la acción estatal. Este enfoque racionalizador --prevaleciente en Europa en la década de los sesenta y de los setenta-- es el enfoque predominante hoy día en América Latina. En este contexto, no sólo el Estado nacional se relegitima, los partidos políticos también intentan hacerlo y buscan nuevas formas de mediación entre la sociedad civil y el Estado.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92160"/>
            <a:ext cx="91440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PARTICIPATIVO DE LA DESCENTRALIZACION </a:t>
            </a:r>
            <a:endParaRPr b="0" lang="en-US" sz="3600" spc="-1" strike="noStrike">
              <a:solidFill>
                <a:srgbClr val="000000"/>
              </a:solidFill>
              <a:latin typeface="Calibri"/>
            </a:endParaRPr>
          </a:p>
        </p:txBody>
      </p:sp>
      <p:sp>
        <p:nvSpPr>
          <p:cNvPr id="80" name=""/>
          <p:cNvSpPr txBox="1"/>
          <p:nvPr/>
        </p:nvSpPr>
        <p:spPr>
          <a:xfrm>
            <a:off x="250920" y="1412640"/>
            <a:ext cx="8664480" cy="5445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nfoque participativo, en contraposición al racionalizador, busca responder eficazmente a los individuos que conforman un sistema social. Su idea-fuerza es la solidaridad y los problemas de la cotidianeidad. Con la descentralización se minimiza el rol de los partidos políticos --como únicos intermediadores entre la sociedad civil y el Estado-- y se prefiere el "desorden", provocado por una multitud de iniciativas que luego se tratar de "ordenar". En este enfoque, el municipio es la clave de la libertad ya que permite reducir la distancia entre gobernante y gobernados.</a:t>
            </a:r>
            <a:endParaRPr b="0" lang="en-US" sz="3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6028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ADMINISTRATIVA </a:t>
            </a:r>
            <a:endParaRPr b="0" lang="en-US" sz="4000" spc="-1" strike="noStrike">
              <a:solidFill>
                <a:srgbClr val="000000"/>
              </a:solidFill>
              <a:latin typeface="Calibri"/>
            </a:endParaRPr>
          </a:p>
        </p:txBody>
      </p:sp>
      <p:sp>
        <p:nvSpPr>
          <p:cNvPr id="82" name=""/>
          <p:cNvSpPr txBox="1"/>
          <p:nvPr/>
        </p:nvSpPr>
        <p:spPr>
          <a:xfrm>
            <a:off x="-360" y="1341000"/>
            <a:ext cx="8915400" cy="230364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uando el proceso de transferencia de poder político, recursos fiscales y administrativos desde el nivel nacional a los niveles subnacionales de gobierno se concentra mas en la transferencia de funciones administrativas. </a:t>
            </a:r>
            <a:endParaRPr b="0" lang="en-US" sz="3200" spc="-1" strike="noStrike">
              <a:solidFill>
                <a:srgbClr val="000000"/>
              </a:solidFill>
              <a:latin typeface="Calibri"/>
            </a:endParaRPr>
          </a:p>
        </p:txBody>
      </p:sp>
      <p:sp>
        <p:nvSpPr>
          <p:cNvPr id="83" name="1 Título"/>
          <p:cNvSpPr/>
          <p:nvPr/>
        </p:nvSpPr>
        <p:spPr>
          <a:xfrm>
            <a:off x="152280" y="3860640"/>
            <a:ext cx="9144000" cy="8748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POLITICA  </a:t>
            </a:r>
            <a:endParaRPr b="0" lang="en-US" sz="4000" spc="-1" strike="noStrike">
              <a:solidFill>
                <a:srgbClr val="000000"/>
              </a:solidFill>
              <a:latin typeface="Times New Roman"/>
            </a:endParaRPr>
          </a:p>
        </p:txBody>
      </p:sp>
      <p:sp>
        <p:nvSpPr>
          <p:cNvPr id="84" name="4 CuadroTexto"/>
          <p:cNvSpPr/>
          <p:nvPr/>
        </p:nvSpPr>
        <p:spPr>
          <a:xfrm>
            <a:off x="0" y="4869000"/>
            <a:ext cx="91440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proceso se concentra mas en la búsqueda de autonomía con perdida del poder político por parte del gobierno nacional</a:t>
            </a:r>
            <a:endParaRPr b="0" lang="en-US" sz="28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15920"/>
            <a:ext cx="7499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11488b"/>
                </a:solidFill>
                <a:latin typeface="Calibri"/>
              </a:rPr>
              <a:t>DESCENTRALIZACION FISCAL</a:t>
            </a:r>
            <a:endParaRPr b="0" lang="en-US" sz="4000" spc="-1" strike="noStrike">
              <a:solidFill>
                <a:srgbClr val="000000"/>
              </a:solidFill>
              <a:latin typeface="Calibri"/>
            </a:endParaRPr>
          </a:p>
        </p:txBody>
      </p:sp>
      <p:sp>
        <p:nvSpPr>
          <p:cNvPr id="86" name=""/>
          <p:cNvSpPr txBox="1"/>
          <p:nvPr/>
        </p:nvSpPr>
        <p:spPr>
          <a:xfrm>
            <a:off x="611280" y="836640"/>
            <a:ext cx="8424720" cy="6021360"/>
          </a:xfrm>
          <a:prstGeom prst="rect">
            <a:avLst/>
          </a:prstGeom>
          <a:noFill/>
          <a:ln w="0">
            <a:noFill/>
          </a:ln>
        </p:spPr>
        <p:txBody>
          <a:bodyPr anchor="t">
            <a:normAutofit fontScale="99000"/>
          </a:bodyPr>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de las finanzas públicas requiere como condición previa que el país sea dividido territorialmente en unidades inferiores o menores, cada una con sus correspondientes gobiernos regionales y/o locales y estrechamente relacionadas con la unidad superior o gobierno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fiscal ocurre cuando las competencias fiscales (ingresos y gastos públicos) se desplazan del nivel superior o central hacia el inferior o subnacional y constituye por lo general un proceso dirigido desde el nivel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ta manera se entendería que un país se está descentralizando cuando sus administraciones subnacionales o territoriales vienen gozando de un cúmulo de competencias significativo que requiere a su vez, de la  disponibilidad oportuna de ingresos y gastos fiscales intergubernamentales. </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11488b"/>
                </a:solidFill>
                <a:latin typeface="Calibri"/>
              </a:rPr>
              <a:t>FUNCIONES ECONOMICAS BASICAS DEL ESTADO</a:t>
            </a:r>
            <a:endParaRPr b="0" lang="en-US" sz="2800" spc="-1" strike="noStrike">
              <a:solidFill>
                <a:srgbClr val="000000"/>
              </a:solidFill>
              <a:latin typeface="Calibri"/>
            </a:endParaRPr>
          </a:p>
        </p:txBody>
      </p:sp>
      <p:sp>
        <p:nvSpPr>
          <p:cNvPr id="88" name=""/>
          <p:cNvSpPr txBox="1"/>
          <p:nvPr/>
        </p:nvSpPr>
        <p:spPr>
          <a:xfrm>
            <a:off x="684000" y="836280"/>
            <a:ext cx="8280360" cy="576108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Él Estado según Musgrave cuenta con tres funciones básicas: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bilización (política fiscal y monetaria),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stribución (redistribución del ingreso) y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signación (producción de bienes y servicios públicos). </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Oates  complementó lo establecido por Musgrave sobre las  funciones básicas, dejando las dos primeras como ejercicio preferente del nivel central y la “asignación” como una competencia  compartida entre los niveles de gobierno con objeto de disminuir el efecto de las fallas de mercado (déficit de información, economías de escala, externalidades).</a:t>
            </a:r>
            <a:endParaRPr b="0" lang="en-US" sz="27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2361960"/>
            <a:ext cx="7154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ENTRALIZACION Y DESARROLLO REGIONAL EN CHILE</a:t>
            </a:r>
            <a:endParaRPr b="0" lang="en-US" sz="3200" spc="-1" strike="noStrike">
              <a:solidFill>
                <a:srgbClr val="000000"/>
              </a:solidFill>
              <a:latin typeface="Calibri"/>
            </a:endParaRPr>
          </a:p>
        </p:txBody>
      </p:sp>
      <p:sp>
        <p:nvSpPr>
          <p:cNvPr id="53" name="PlaceHolder 2"/>
          <p:cNvSpPr>
            <a:spLocks noGrp="1"/>
          </p:cNvSpPr>
          <p:nvPr>
            <p:ph type="subTitle"/>
          </p:nvPr>
        </p:nvSpPr>
        <p:spPr>
          <a:xfrm>
            <a:off x="4191120" y="4571640"/>
            <a:ext cx="457200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is Lira Cossi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alico@vtr.net</a:t>
            </a: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488b"/>
                </a:solidFill>
                <a:latin typeface="Calibri"/>
                <a:ea typeface="Arial"/>
              </a:rPr>
              <a:t>ELEMENTOS DE LAS RELACIONES FISCALES INTERGUBERNAMENTALES</a:t>
            </a:r>
            <a:endParaRPr b="0" lang="en-US" sz="2700" spc="-1" strike="noStrike">
              <a:solidFill>
                <a:srgbClr val="000000"/>
              </a:solidFill>
              <a:latin typeface="Calibri"/>
            </a:endParaRPr>
          </a:p>
        </p:txBody>
      </p:sp>
      <p:grpSp>
        <p:nvGrpSpPr>
          <p:cNvPr id="90" name="Group 3"/>
          <p:cNvGrpSpPr/>
          <p:nvPr/>
        </p:nvGrpSpPr>
        <p:grpSpPr>
          <a:xfrm>
            <a:off x="1387440" y="1981080"/>
            <a:ext cx="6513480" cy="4525920"/>
            <a:chOff x="1387440" y="1981080"/>
            <a:chExt cx="6513480" cy="4525920"/>
          </a:xfrm>
        </p:grpSpPr>
        <p:sp>
          <p:nvSpPr>
            <p:cNvPr id="91" name="Oval 4"/>
            <p:cNvSpPr/>
            <p:nvPr/>
          </p:nvSpPr>
          <p:spPr>
            <a:xfrm>
              <a:off x="630072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5"/>
            <p:cNvSpPr/>
            <p:nvPr/>
          </p:nvSpPr>
          <p:spPr>
            <a:xfrm>
              <a:off x="3276720" y="5867280"/>
              <a:ext cx="2641320" cy="63972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a:off x="3203640" y="3276720"/>
              <a:ext cx="2511360" cy="15714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7"/>
            <p:cNvSpPr/>
            <p:nvPr/>
          </p:nvSpPr>
          <p:spPr>
            <a:xfrm>
              <a:off x="138744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8"/>
            <p:cNvGrpSpPr/>
            <p:nvPr/>
          </p:nvGrpSpPr>
          <p:grpSpPr>
            <a:xfrm>
              <a:off x="1752480" y="4876920"/>
              <a:ext cx="5562720" cy="685800"/>
              <a:chOff x="1752480" y="4876920"/>
              <a:chExt cx="5562720" cy="685800"/>
            </a:xfrm>
          </p:grpSpPr>
          <p:sp>
            <p:nvSpPr>
              <p:cNvPr id="96" name="Rectangle 9"/>
              <p:cNvSpPr/>
              <p:nvPr/>
            </p:nvSpPr>
            <p:spPr>
              <a:xfrm>
                <a:off x="17524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1</a:t>
                </a:r>
                <a:endParaRPr b="0" lang="en-US" sz="1800" spc="-1" strike="noStrike">
                  <a:solidFill>
                    <a:srgbClr val="000000"/>
                  </a:solidFill>
                  <a:latin typeface="Times New Roman"/>
                </a:endParaRPr>
              </a:p>
            </p:txBody>
          </p:sp>
          <p:sp>
            <p:nvSpPr>
              <p:cNvPr id="97" name="Rectangle 10"/>
              <p:cNvSpPr/>
              <p:nvPr/>
            </p:nvSpPr>
            <p:spPr>
              <a:xfrm>
                <a:off x="58672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3</a:t>
                </a:r>
                <a:endParaRPr b="0" lang="en-US" sz="1800" spc="-1" strike="noStrike">
                  <a:solidFill>
                    <a:srgbClr val="000000"/>
                  </a:solidFill>
                  <a:latin typeface="Times New Roman"/>
                </a:endParaRPr>
              </a:p>
            </p:txBody>
          </p:sp>
          <p:sp>
            <p:nvSpPr>
              <p:cNvPr id="98" name="Rectangle 11"/>
              <p:cNvSpPr/>
              <p:nvPr/>
            </p:nvSpPr>
            <p:spPr>
              <a:xfrm>
                <a:off x="38098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2</a:t>
                </a:r>
                <a:endParaRPr b="0" lang="en-US" sz="1800" spc="-1" strike="noStrike">
                  <a:solidFill>
                    <a:srgbClr val="000000"/>
                  </a:solidFill>
                  <a:latin typeface="Times New Roman"/>
                </a:endParaRPr>
              </a:p>
            </p:txBody>
          </p:sp>
        </p:grpSp>
        <p:sp>
          <p:nvSpPr>
            <p:cNvPr id="99" name="Line 12"/>
            <p:cNvSpPr/>
            <p:nvPr/>
          </p:nvSpPr>
          <p:spPr>
            <a:xfrm flipH="1">
              <a:off x="282708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a:off x="571500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4"/>
            <p:cNvSpPr/>
            <p:nvPr/>
          </p:nvSpPr>
          <p:spPr>
            <a:xfrm>
              <a:off x="1548720" y="310824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gastos</a:t>
              </a:r>
              <a:endParaRPr b="0" lang="en-US" sz="1800" spc="-1" strike="noStrike">
                <a:solidFill>
                  <a:srgbClr val="000000"/>
                </a:solidFill>
                <a:latin typeface="Times New Roman"/>
              </a:endParaRPr>
            </a:p>
          </p:txBody>
        </p:sp>
        <p:sp>
          <p:nvSpPr>
            <p:cNvPr id="102" name="Text Box 15"/>
            <p:cNvSpPr/>
            <p:nvPr/>
          </p:nvSpPr>
          <p:spPr>
            <a:xfrm>
              <a:off x="6373800" y="31082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ingresos</a:t>
              </a:r>
              <a:endParaRPr b="0" lang="en-US" sz="1800" spc="-1" strike="noStrike">
                <a:solidFill>
                  <a:srgbClr val="000000"/>
                </a:solidFill>
                <a:latin typeface="Times New Roman"/>
              </a:endParaRPr>
            </a:p>
          </p:txBody>
        </p:sp>
        <p:sp>
          <p:nvSpPr>
            <p:cNvPr id="103" name="Line 16"/>
            <p:cNvSpPr/>
            <p:nvPr/>
          </p:nvSpPr>
          <p:spPr>
            <a:xfrm>
              <a:off x="3886200" y="4267080"/>
              <a:ext cx="1295280" cy="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7"/>
            <p:cNvSpPr/>
            <p:nvPr/>
          </p:nvSpPr>
          <p:spPr>
            <a:xfrm>
              <a:off x="2987640" y="4357800"/>
              <a:ext cx="32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erencias compensatorias</a:t>
              </a:r>
              <a:endParaRPr b="0" lang="en-US" sz="1600" spc="-1" strike="noStrike">
                <a:solidFill>
                  <a:srgbClr val="000000"/>
                </a:solidFill>
                <a:latin typeface="Times New Roman"/>
              </a:endParaRPr>
            </a:p>
          </p:txBody>
        </p:sp>
        <p:grpSp>
          <p:nvGrpSpPr>
            <p:cNvPr id="105" name="Group 18"/>
            <p:cNvGrpSpPr/>
            <p:nvPr/>
          </p:nvGrpSpPr>
          <p:grpSpPr>
            <a:xfrm>
              <a:off x="2819520" y="1981080"/>
              <a:ext cx="3429000" cy="1371600"/>
              <a:chOff x="2819520" y="1981080"/>
              <a:chExt cx="3429000" cy="1371600"/>
            </a:xfrm>
          </p:grpSpPr>
          <p:sp>
            <p:nvSpPr>
              <p:cNvPr id="106" name="Rectangle 19"/>
              <p:cNvSpPr/>
              <p:nvPr/>
            </p:nvSpPr>
            <p:spPr>
              <a:xfrm>
                <a:off x="2819520" y="1981080"/>
                <a:ext cx="3429000" cy="74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obierno Central</a:t>
                </a:r>
                <a:endParaRPr b="0" lang="en-US" sz="1800" spc="-1" strike="noStrike">
                  <a:solidFill>
                    <a:srgbClr val="000000"/>
                  </a:solidFill>
                  <a:latin typeface="Times New Roman"/>
                </a:endParaRPr>
              </a:p>
            </p:txBody>
          </p:sp>
          <p:sp>
            <p:nvSpPr>
              <p:cNvPr id="107" name="Line 20"/>
              <p:cNvSpPr/>
              <p:nvPr/>
            </p:nvSpPr>
            <p:spPr>
              <a:xfrm>
                <a:off x="4572000" y="2854080"/>
                <a:ext cx="0" cy="4986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21"/>
            <p:cNvSpPr/>
            <p:nvPr/>
          </p:nvSpPr>
          <p:spPr>
            <a:xfrm>
              <a:off x="3354480" y="3429000"/>
              <a:ext cx="243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audación ingres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 transferencias</a:t>
              </a:r>
              <a:endParaRPr b="0" lang="en-US" sz="1800" spc="-1" strike="noStrike">
                <a:solidFill>
                  <a:srgbClr val="000000"/>
                </a:solidFill>
                <a:latin typeface="Times New Roman"/>
              </a:endParaRPr>
            </a:p>
          </p:txBody>
        </p:sp>
        <p:sp>
          <p:nvSpPr>
            <p:cNvPr id="109" name="Line 22"/>
            <p:cNvSpPr/>
            <p:nvPr/>
          </p:nvSpPr>
          <p:spPr>
            <a:xfrm>
              <a:off x="350532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3"/>
            <p:cNvSpPr/>
            <p:nvPr/>
          </p:nvSpPr>
          <p:spPr>
            <a:xfrm>
              <a:off x="563868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4"/>
            <p:cNvSpPr/>
            <p:nvPr/>
          </p:nvSpPr>
          <p:spPr>
            <a:xfrm>
              <a:off x="3142080" y="595008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so a financiamiento</a:t>
              </a:r>
              <a:endParaRPr b="0" lang="en-US" sz="1800" spc="-1" strike="noStrike">
                <a:solidFill>
                  <a:srgbClr val="000000"/>
                </a:solidFill>
                <a:latin typeface="Times New Roman"/>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1592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LTERNATIVAS PARA LA DESCENTRALIZACION FISCAL</a:t>
            </a:r>
            <a:endParaRPr b="0" lang="en-US" sz="2800" spc="-1" strike="noStrike">
              <a:solidFill>
                <a:srgbClr val="000000"/>
              </a:solidFill>
              <a:latin typeface="Calibri"/>
            </a:endParaRPr>
          </a:p>
        </p:txBody>
      </p:sp>
      <p:sp>
        <p:nvSpPr>
          <p:cNvPr id="113" name=""/>
          <p:cNvSpPr txBox="1"/>
          <p:nvPr/>
        </p:nvSpPr>
        <p:spPr>
          <a:xfrm>
            <a:off x="971280" y="836640"/>
            <a:ext cx="7962840" cy="6021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primera </a:t>
            </a:r>
            <a:r>
              <a:rPr b="0" lang="es-CL" sz="1700" spc="-1" strike="noStrike">
                <a:solidFill>
                  <a:srgbClr val="000000"/>
                </a:solidFill>
                <a:latin typeface="Calibri"/>
              </a:rPr>
              <a:t>está asociada a la idea central de promover procesos de descentralización en ambos agregados fiscales: gasto e ingreso público.  Consiste en dejar que el nivel subnacional (regional y local) decida libremente acerca del monto y la calidad del gasto público en que ha de incurrir y los ingresos que recaudará. Cada una de las jurisdicciones del nivel subnacional puede hacerlo, por así decirlo, en libre competencia con las otras jurisdicciones de su propio nivel y con el gobierno central. Si éste no está dispuesto a dejar cierto ámbito, por ejemplo, si agota todas las bases tributarias posibles y suministra todo tipo de servicios públicos, entonces el gobierno descentralizado quizá no encuentre margen para planificar sus propias actividad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segunda manera</a:t>
            </a:r>
            <a:r>
              <a:rPr b="0" lang="es-CL" sz="1700" spc="-1" strike="noStrike">
                <a:solidFill>
                  <a:srgbClr val="000000"/>
                </a:solidFill>
                <a:latin typeface="Calibri"/>
              </a:rPr>
              <a:t>, está ligada a mantener un cierto criterio restrictivo y/o limitado del dinamismo que pueden generar estos procesos y de cierta prevención para el manejo de los efectos no deseados que pueden generarse desde una perspectiva central o nacional. Por tanto ésta consiste en fijar límites estrictos entre los niveles de gobierno y dejar que las jurisdicciones de los niveles territoriales actúen como lo deseen, siempre que permanezcan dentro de esos límites. En materia de gastos, esa restricción significa que se permite a cada nivel de gobierno emplear el únicamente para fines que figuren dentro de sus propias atribucion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tercera manera , </a:t>
            </a:r>
            <a:r>
              <a:rPr b="0" lang="es-CL" sz="1700" spc="-1" strike="noStrike">
                <a:solidFill>
                  <a:srgbClr val="000000"/>
                </a:solidFill>
                <a:latin typeface="Calibri"/>
              </a:rPr>
              <a:t>quizás además de defender los esquemas centralistas de la gestión pública ve con buenos ojos una mayor centralidad del gasto público y del orden tributario, a través de una mayor restricción de las atribuciones de los gobiernos descentralizados en materia de gastos o ingresos fiscales.</a:t>
            </a:r>
            <a:endParaRPr b="0" lang="en-US" sz="17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RINCIPAL AGENTE</a:t>
            </a:r>
            <a:endParaRPr b="0" lang="en-US" sz="2800" spc="-1" strike="noStrike">
              <a:solidFill>
                <a:srgbClr val="000000"/>
              </a:solidFill>
              <a:latin typeface="Calibri"/>
            </a:endParaRPr>
          </a:p>
        </p:txBody>
      </p:sp>
      <p:sp>
        <p:nvSpPr>
          <p:cNvPr id="115" name=""/>
          <p:cNvSpPr txBox="1"/>
          <p:nvPr/>
        </p:nvSpPr>
        <p:spPr>
          <a:xfrm>
            <a:off x="971280" y="764640"/>
            <a:ext cx="7962840" cy="5543640"/>
          </a:xfrm>
          <a:prstGeom prst="rect">
            <a:avLst/>
          </a:prstGeom>
          <a:noFill/>
          <a:ln w="0">
            <a:noFill/>
          </a:ln>
        </p:spPr>
        <p:txBody>
          <a:bodyPr anchor="t">
            <a:normAutofit fontScale="96000"/>
          </a:bodyPr>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principal-agente”(a principal-agent model) en donde el nivel central del gobierno es el “principal”, tiene una amplia intervención y/o control sobre las decisiones de programas que son realizados por los gobiernos subnacionales o agentes”. </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simismo reconoce que la ejecución descentralizada, constituye una estrategia que promueve la eficiencia en la asignación y provisión de bienes públicos locales.  Como bien lo anotan algunos especialistas en este tema, “el problema de agencia” se reduce al diseño de incentivos e instrumentos que canalicen la iniciativa local en la dirección determinada por las prioridades gubernamentales del nivel central. En otros términos se delega la responsabilidad en el nivel nacional y los gobiernos subnacionales deben ser responsables ante dicho nivel.</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un modelo de “principal-agente” adquieren singular importancia el uso de las transferencias intergubernamentales como  instrumento para promover la orientación del gasto hacia determinados sectores y la ejecución efectiva de un programa del gasto público. Asimismo la estructura impositiva al igual que el acceso al endeudamiento deben estar por lo general en concordancia y/o consistencia con las políticas macroeconómicas. Este modelo tiende a presentarse en los países latinoamericanos con sistemas unitarios de gobierno, pese a los esfuerzos de una mayor autonomía local en materia de gastos e ingresos, que paralelamente vienen dándose en los procesos de reforma del Estado.  </a:t>
            </a:r>
            <a:endParaRPr b="0" lang="en-US" sz="1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UBLIC CHOICE</a:t>
            </a:r>
            <a:endParaRPr b="0" lang="en-US" sz="2800" spc="-1" strike="noStrike">
              <a:solidFill>
                <a:srgbClr val="000000"/>
              </a:solidFill>
              <a:latin typeface="Calibri"/>
            </a:endParaRPr>
          </a:p>
        </p:txBody>
      </p:sp>
      <p:sp>
        <p:nvSpPr>
          <p:cNvPr id="117" name=""/>
          <p:cNvSpPr txBox="1"/>
          <p:nvPr/>
        </p:nvSpPr>
        <p:spPr>
          <a:xfrm>
            <a:off x="971280" y="909360"/>
            <a:ext cx="7962840" cy="554364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de “escogimiento fiscal” local (local fiscal choice model), en donde se otorga un aumento significativo de competencias y/o responsabilidades en materia de gastos e ingresos a los gobiernos locales o subnacionales. Las  localidades obtienen buena parte de sus ingresos de sus propios contribuyentes.</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existencia de un mayor grado de autonomía en la toma de decisiones que afectan de manera directa la calidad de vida de una comunidad se fundamentan en un proceso de elecciones, en el cual se delega la responsabilidad al electorado. Un ejemplo de la aplicación de este modelo sería el de muchas localidades de los Estados Unidos y otros países, en que los contribuyentes y el mismo electorado expresan a través de consultas a la comunidad las distintas combinaciones y opciones de impuestos y propuestas de gasto público, que son objeto de la toma de decisiones y que deben ser resueltas bajo restricciones presupuestales. Lo anterior sin duda refuerza la transparencia presupuestal y el sentido de responsabilidad ante los ciudadanos (“accountability”).</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acuerdo a esta breve descripción, se esperaría que este modelo tendiese a presentarse en los países latinoamericanos con sistemas federales de gobierno que dentro del conjunto de estrategias de modernización del estado contiene explícitamente la del fortalecimiento de la autonomía de los gobiernos subnacionales.</a:t>
            </a:r>
            <a:endParaRPr b="0" lang="en-US" sz="1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88640"/>
            <a:ext cx="9144000" cy="936360"/>
          </a:xfrm>
          <a:prstGeom prst="rect">
            <a:avLst/>
          </a:prstGeom>
          <a:solidFill>
            <a:srgbClr val="ffffc9"/>
          </a:solidFill>
          <a:ln w="9360">
            <a:solidFill>
              <a:srgbClr val="00206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oliberalismo económico, autoritarismo político y desarrollo regional: 1973-1990</a:t>
            </a:r>
            <a:endParaRPr b="0" lang="en-US" sz="3200" spc="-1" strike="noStrike">
              <a:solidFill>
                <a:srgbClr val="000000"/>
              </a:solidFill>
              <a:latin typeface="Calibri"/>
            </a:endParaRPr>
          </a:p>
        </p:txBody>
      </p:sp>
      <p:sp>
        <p:nvSpPr>
          <p:cNvPr id="119" name=""/>
          <p:cNvSpPr txBox="1"/>
          <p:nvPr/>
        </p:nvSpPr>
        <p:spPr>
          <a:xfrm>
            <a:off x="108000" y="1267920"/>
            <a:ext cx="8964720" cy="5589720"/>
          </a:xfrm>
          <a:prstGeom prst="rect">
            <a:avLst/>
          </a:prstGeom>
          <a:noFill/>
          <a:ln w="0">
            <a:noFill/>
          </a:ln>
        </p:spPr>
        <p:txBody>
          <a:bodyPr anchor="t">
            <a:normAutofit fontScale="98000"/>
          </a:bodyPr>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73-1978: los DL 573 y 575 del 12 y 13 de julio de 1974, la apuesta a la región y al planeamiento regional. Desincentivos a la RM (impuestos de localización, primas o subsidios de indemnización y aumento  impuesto territorial). Estatuto de franquicias tributarias, para el sistema regional. Regionalización del sistema universitario.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78-1982: el viraje a la comuna, el Banco Integrado de Proyectos (BIP) como reemplazo del planeamiento regional,  la distinción entre el poder social y el poder político. El rol de la Secretaría de la Juventud en los municipios. El cambio en la matriz política  y cultural del país. La Constitución Política de 1980 y el neo presidencialismo del país.</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82-1988: la crisis de 1982, el desfinanciamiento municipal, la creación de la SUBDERE en 1985 en el MINTER; la transformación del FNDR en un Programa de Inversión Múltiple de Desarrollo Local y la atomización de la inversión regional.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88-1990: el “desmantelamiento” de la Constitución de 1980 y la tardía conformación de los COREDES y los CODECOS. El desconocimiento de lo realizado para bien o para mal. </a:t>
            </a:r>
            <a:endParaRPr b="0" lang="en-US" sz="1800" spc="-1" strike="noStrike">
              <a:solidFill>
                <a:srgbClr val="000000"/>
              </a:solidFill>
              <a:latin typeface="Calibri"/>
            </a:endParaRPr>
          </a:p>
          <a:p>
            <a:pPr algn="just">
              <a:lnSpc>
                <a:spcPct val="12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649080"/>
          </a:xfrm>
          <a:prstGeom prst="rect">
            <a:avLst/>
          </a:prstGeom>
          <a:solidFill>
            <a:srgbClr val="f6fcbc"/>
          </a:solidFill>
          <a:ln w="38160">
            <a:solidFill>
              <a:srgbClr val="0070c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emocratización y descentralización: el período 1990-1994</a:t>
            </a:r>
            <a:endParaRPr b="0" lang="en-US" sz="2800" spc="-1" strike="noStrike">
              <a:solidFill>
                <a:srgbClr val="000000"/>
              </a:solidFill>
              <a:latin typeface="Calibri"/>
            </a:endParaRPr>
          </a:p>
        </p:txBody>
      </p:sp>
      <p:sp>
        <p:nvSpPr>
          <p:cNvPr id="121" name="PlaceHolder 2"/>
          <p:cNvSpPr>
            <a:spLocks noGrp="1"/>
          </p:cNvSpPr>
          <p:nvPr>
            <p:ph/>
          </p:nvPr>
        </p:nvSpPr>
        <p:spPr>
          <a:xfrm>
            <a:off x="0" y="980640"/>
            <a:ext cx="9144000" cy="566100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triunfo del No en 1988 y las reformas constitucionales de 1989, el neopresidencialismo, </a:t>
            </a:r>
            <a:r>
              <a:rPr b="1" lang="en-US" sz="1800" spc="-1" strike="noStrike">
                <a:solidFill>
                  <a:srgbClr val="800000"/>
                </a:solidFill>
                <a:latin typeface="Calibri"/>
              </a:rPr>
              <a:t>la legitimación de la Constitución de 1980 y la democracia de los consensos.</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El temprano  itinerario de la descentralización: la democratización de las Juntas de Vecinos y otras organizaciones funcionales y territoriales; la propuesta de democratización de los municipios; la respuesta de la oposición y el Acuerdo Político de 1991.</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libri"/>
              </a:rPr>
              <a:t>El mensaje presidencial del 6 de enero de 1992 de la Ley 19.175 que crea los Gobiernos Regionales (GORES). La elección municipal de 1992 y la instalación de los GORES en 1993.</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La Ley de Plantas de Personal de los Gobiernos Regionales (proyecto de ley en segundo trámite constitucional en el Senado)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proceso de descentralización iniciado en 1990, es más el resultado del juego político que el resultado del conocimiento acumulado en el país.</a:t>
            </a:r>
            <a:endParaRPr b="0" lang="en-US" sz="18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2060"/>
                </a:solidFill>
                <a:latin typeface="Calibri"/>
              </a:rPr>
              <a:t>Liderazgo  del Ministerio del Interior (SUBDERE) y de los ministerios políticos conjuntamente con la Dirección de Presupuestos (DIPRES) del Ministerio de Hacienda. Enfasis en el proceso de inversión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rol del MIDEPLAN ex–ODEPLAN: La formulación de la Estrategias de Desarrollo Regional por las SERPLAC”s y la formulación de la política nacional de desarrollo regional por MIDEPLAN.</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152280"/>
            <a:ext cx="9144000" cy="685800"/>
          </a:xfrm>
          <a:prstGeom prst="rect">
            <a:avLst/>
          </a:prstGeom>
          <a:solidFill>
            <a:srgbClr val="ffffc9"/>
          </a:solidFill>
          <a:ln w="381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l período 1990-1994:  caracterización técnica </a:t>
            </a:r>
            <a:endParaRPr b="0" lang="en-US" sz="3200" spc="-1" strike="noStrike">
              <a:solidFill>
                <a:srgbClr val="000000"/>
              </a:solidFill>
              <a:latin typeface="Times New Roman"/>
            </a:endParaRPr>
          </a:p>
        </p:txBody>
      </p:sp>
      <p:sp>
        <p:nvSpPr>
          <p:cNvPr id="123" name="Rectangle 3"/>
          <p:cNvSpPr/>
          <p:nvPr/>
        </p:nvSpPr>
        <p:spPr>
          <a:xfrm>
            <a:off x="228600" y="1981080"/>
            <a:ext cx="8686800" cy="4572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108000" y="1052640"/>
            <a:ext cx="8991720" cy="5616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El Mensaje propuso entregar al Gobierno Regional la administración superior de cada región. Luego se optó por dividir la función de gobierno y la de administración: la primera en manos del Intendente como representante del Presidente y la segunda en el Gobierno Regional. </a:t>
            </a:r>
            <a:endParaRPr b="0" lang="en-US" sz="2400" spc="-1" strike="noStrike">
              <a:solidFill>
                <a:srgbClr val="000000"/>
              </a:solidFill>
              <a:latin typeface="Times New Roman"/>
            </a:endParaRPr>
          </a:p>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La personalidad jurídica se otorgó al Gobierno Regional y no a la Región,  el que cuenta con funciones y atribuciones generales, de fomento productivo, desarrollo social y cultural y ordenamiento del territorio</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No se modificó la división político-administrativa. El proceso se lo concibió como la combinación de deslocalización, desconcentración y descentraliz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 financiamiento se basó en transferencias del gobierno nacional hacia los gobiernos regionales: FNDR, ISARES y Convenios de Program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Proceso gradual y selectivo en la transferencia de competencias hacia los gobiernos regionales:  la verdadera política nacional de desarrollo regional</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ección indirecta por los concejales municipales de los consejeros regional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 calcmode="lin" valueType="num">
                                      <p:cBhvr additive="repl">
                                        <p:cTn id="1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4" end="4"/>
                                            </p:txEl>
                                          </p:spTgt>
                                        </p:tgtEl>
                                        <p:attrNameLst>
                                          <p:attrName>style.visibility</p:attrName>
                                        </p:attrNameLst>
                                      </p:cBhvr>
                                      <p:to>
                                        <p:strVal val="visible"/>
                                      </p:to>
                                    </p:set>
                                    <p:anim calcmode="lin" valueType="num">
                                      <p:cBhvr additive="repl">
                                        <p:cTn id="31"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 calcmode="lin" valueType="num">
                                      <p:cBhvr additive="repl">
                                        <p:cTn id="39" dur="10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2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24">
                                            <p:txEl>
                                              <p:pRg st="8" end="8"/>
                                            </p:txEl>
                                          </p:spTgt>
                                        </p:tgtEl>
                                        <p:attrNameLst>
                                          <p:attrName>style.visibility</p:attrName>
                                        </p:attrNameLst>
                                      </p:cBhvr>
                                      <p:to>
                                        <p:strVal val="visible"/>
                                      </p:to>
                                    </p:set>
                                    <p:anim calcmode="lin" valueType="num">
                                      <p:cBhvr additive="repl">
                                        <p:cTn id="47" dur="10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24">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24">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24">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24">
                                            <p:txEl>
                                              <p:pRg st="10" end="10"/>
                                            </p:txEl>
                                          </p:spTgt>
                                        </p:tgtEl>
                                        <p:attrNameLst>
                                          <p:attrName>style.visibility</p:attrName>
                                        </p:attrNameLst>
                                      </p:cBhvr>
                                      <p:to>
                                        <p:strVal val="visible"/>
                                      </p:to>
                                    </p:set>
                                    <p:anim calcmode="lin" valueType="num">
                                      <p:cBhvr additive="repl">
                                        <p:cTn id="55" dur="1000" fill="hold"/>
                                        <p:tgtEl>
                                          <p:spTgt spid="124">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4">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5920"/>
            <a:ext cx="9144000" cy="971640"/>
          </a:xfrm>
          <a:prstGeom prst="rect">
            <a:avLst/>
          </a:prstGeom>
          <a:solidFill>
            <a:srgbClr val="ffffc9"/>
          </a:solidFill>
          <a:ln w="93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l período 1994-2000: el aumento del 21 al 42% de la inversión pública ¿descentralizada?</a:t>
            </a:r>
            <a:endParaRPr b="0" lang="en-US" sz="3200" spc="-1" strike="noStrike">
              <a:solidFill>
                <a:srgbClr val="000000"/>
              </a:solidFill>
              <a:latin typeface="Times New Roman"/>
            </a:endParaRPr>
          </a:p>
        </p:txBody>
      </p:sp>
      <p:sp>
        <p:nvSpPr>
          <p:cNvPr id="126" name="Rectangle 3"/>
          <p:cNvSpPr/>
          <p:nvPr/>
        </p:nvSpPr>
        <p:spPr>
          <a:xfrm>
            <a:off x="0" y="1197000"/>
            <a:ext cx="9144000" cy="4703760"/>
          </a:xfrm>
          <a:prstGeom prst="rect">
            <a:avLst/>
          </a:prstGeom>
          <a:noFill/>
          <a:ln w="0">
            <a:noFill/>
          </a:ln>
        </p:spPr>
        <p:style>
          <a:lnRef idx="0"/>
          <a:fillRef idx="0"/>
          <a:effectRef idx="0"/>
          <a:fontRef idx="minor"/>
        </p:style>
        <p:txBody>
          <a:bodyPr lIns="92160" rIns="92160" tIns="46080" bIns="46080" anchor="t">
            <a:noAutofit/>
          </a:bodyPr>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de marzo de 1994 de aumentar la inversión pública de decisión regional del 21% al 42%. </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La ¿creación de los IRALE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promulgación de la Ley de plantas de personal de los GORES en 1995 y también en 1997 la de la Ley de Juntas de Vecinos ingresada al Congreso en 199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ormulación de las Estrategias de Desarrollo Regional 1994-200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crónica de una muerte anunciada: el anuncio presidencial de suprimir al MIDEPLAN.</a:t>
            </a: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l Chile descentralizado que queremos: la política nacional de descentralización y desarrollo regional impulsada por la SUBDERE y su modificación institucional por </a:t>
            </a:r>
            <a:r>
              <a:rPr b="0" lang="en-US" sz="2400" spc="-1" strike="noStrike">
                <a:solidFill>
                  <a:srgbClr val="000000"/>
                </a:solidFill>
                <a:latin typeface="Calibri"/>
              </a:rPr>
              <a:t>procesos como reemplazo de la preocupación por las regiones y los municipio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presidencial de revisión de la división politico-admininistrativa</a:t>
            </a:r>
            <a:r>
              <a:rPr b="0" lang="en-US" sz="2400" spc="-1" strike="noStrike">
                <a:solidFill>
                  <a:srgbClr val="000000"/>
                </a:solidFill>
                <a:latin typeface="Calibri"/>
              </a:rPr>
              <a:t>.</a:t>
            </a:r>
            <a:endParaRPr b="0" lang="en-US" sz="2400" spc="-1" strike="noStrike">
              <a:solidFill>
                <a:srgbClr val="000000"/>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fltVal val="0"/>
                                          </p:val>
                                        </p:tav>
                                        <p:tav tm="100000">
                                          <p:val>
                                            <p:strVal val="#ppt_w"/>
                                          </p:val>
                                        </p:tav>
                                      </p:tavLst>
                                    </p:anim>
                                    <p:anim calcmode="lin" valueType="num">
                                      <p:cBhvr additive="repl">
                                        <p:cTn id="66" dur="1000" fill="hold"/>
                                        <p:tgtEl>
                                          <p:spTgt spid="125"/>
                                        </p:tgtEl>
                                        <p:attrNameLst>
                                          <p:attrName>ppt_h</p:attrName>
                                        </p:attrNameLst>
                                      </p:cBhvr>
                                      <p:tavLst>
                                        <p:tav tm="0">
                                          <p:val>
                                            <p:fltVal val="0"/>
                                          </p:val>
                                        </p:tav>
                                        <p:tav tm="100000">
                                          <p:val>
                                            <p:strVal val="#ppt_h"/>
                                          </p:val>
                                        </p:tav>
                                      </p:tavLst>
                                    </p:anim>
                                    <p:anim calcmode="lin" valueType="num">
                                      <p:cBhvr additive="repl">
                                        <p:cTn id="6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repl">
                                        <p:cTn id="73"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26">
                                            <p:txEl>
                                              <p:pRg st="2" end="2"/>
                                            </p:txEl>
                                          </p:spTgt>
                                        </p:tgtEl>
                                        <p:attrNameLst>
                                          <p:attrName>style.visibility</p:attrName>
                                        </p:attrNameLst>
                                      </p:cBhvr>
                                      <p:to>
                                        <p:strVal val="visible"/>
                                      </p:to>
                                    </p:set>
                                    <p:anim calcmode="lin" valueType="num">
                                      <p:cBhvr additive="repl">
                                        <p:cTn id="8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6">
                                            <p:txEl>
                                              <p:pRg st="4" end="4"/>
                                            </p:txEl>
                                          </p:spTgt>
                                        </p:tgtEl>
                                        <p:attrNameLst>
                                          <p:attrName>style.visibility</p:attrName>
                                        </p:attrNameLst>
                                      </p:cBhvr>
                                      <p:to>
                                        <p:strVal val="visible"/>
                                      </p:to>
                                    </p:set>
                                    <p:anim calcmode="lin" valueType="num">
                                      <p:cBhvr additive="repl">
                                        <p:cTn id="89" dur="10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26">
                                            <p:txEl>
                                              <p:pRg st="6" end="6"/>
                                            </p:txEl>
                                          </p:spTgt>
                                        </p:tgtEl>
                                        <p:attrNameLst>
                                          <p:attrName>style.visibility</p:attrName>
                                        </p:attrNameLst>
                                      </p:cBhvr>
                                      <p:to>
                                        <p:strVal val="visible"/>
                                      </p:to>
                                    </p:set>
                                    <p:anim calcmode="lin" valueType="num">
                                      <p:cBhvr additive="repl">
                                        <p:cTn id="97" dur="10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6">
                                            <p:txEl>
                                              <p:pRg st="6" end="6"/>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26">
                                            <p:txEl>
                                              <p:pRg st="8" end="8"/>
                                            </p:txEl>
                                          </p:spTgt>
                                        </p:tgtEl>
                                        <p:attrNameLst>
                                          <p:attrName>style.visibility</p:attrName>
                                        </p:attrNameLst>
                                      </p:cBhvr>
                                      <p:to>
                                        <p:strVal val="visible"/>
                                      </p:to>
                                    </p:set>
                                    <p:anim calcmode="lin" valueType="num">
                                      <p:cBhvr additive="repl">
                                        <p:cTn id="105" dur="10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26">
                                            <p:txEl>
                                              <p:pRg st="8" end="8"/>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2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2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26">
                                            <p:txEl>
                                              <p:pRg st="10" end="10"/>
                                            </p:txEl>
                                          </p:spTgt>
                                        </p:tgtEl>
                                        <p:attrNameLst>
                                          <p:attrName>style.visibility</p:attrName>
                                        </p:attrNameLst>
                                      </p:cBhvr>
                                      <p:to>
                                        <p:strVal val="visible"/>
                                      </p:to>
                                    </p:set>
                                    <p:anim calcmode="lin" valueType="num">
                                      <p:cBhvr additive="repl">
                                        <p:cTn id="113" dur="1000" fill="hold"/>
                                        <p:tgtEl>
                                          <p:spTgt spid="126">
                                            <p:txEl>
                                              <p:pRg st="10" end="1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26">
                                            <p:txEl>
                                              <p:pRg st="10" end="1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2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2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26">
                                            <p:txEl>
                                              <p:pRg st="12" end="12"/>
                                            </p:txEl>
                                          </p:spTgt>
                                        </p:tgtEl>
                                        <p:attrNameLst>
                                          <p:attrName>style.visibility</p:attrName>
                                        </p:attrNameLst>
                                      </p:cBhvr>
                                      <p:to>
                                        <p:strVal val="visible"/>
                                      </p:to>
                                    </p:set>
                                    <p:anim calcmode="lin" valueType="num">
                                      <p:cBhvr additive="repl">
                                        <p:cTn id="121" dur="1000" fill="hold"/>
                                        <p:tgtEl>
                                          <p:spTgt spid="126">
                                            <p:txEl>
                                              <p:pRg st="12" end="12"/>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26">
                                            <p:txEl>
                                              <p:pRg st="12" end="12"/>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2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2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334800"/>
            <a:ext cx="9144000" cy="581400"/>
          </a:xfrm>
          <a:prstGeom prst="rect">
            <a:avLst/>
          </a:prstGeom>
          <a:solidFill>
            <a:srgbClr val="ffffc9"/>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EL PERÍODO 2000-2006:  REALIZACIONES </a:t>
            </a:r>
            <a:endParaRPr b="0" lang="en-US" sz="3200" spc="-1" strike="noStrike">
              <a:solidFill>
                <a:srgbClr val="000000"/>
              </a:solidFill>
              <a:latin typeface="Times New Roman"/>
            </a:endParaRPr>
          </a:p>
        </p:txBody>
      </p:sp>
      <p:sp>
        <p:nvSpPr>
          <p:cNvPr id="128" name="Text Box 3"/>
          <p:cNvSpPr/>
          <p:nvPr/>
        </p:nvSpPr>
        <p:spPr>
          <a:xfrm>
            <a:off x="142920" y="1197000"/>
            <a:ext cx="8821800" cy="53730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modificación del articulo 49 de la Constitución</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 creación de las regiones de  Arica Parinacota y de Los Ríos.</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agenda Regional de Inversiones (ARI)</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El Proyecto de Presupuesto Regional (PROPIR)</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TransSantiago y los fondos de compensación regional y las obras del Bicentenario en regiones </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s obras del Bicentenario</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Fondo de Innovación Regional de Asignación Regional (FIC/R)</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2060"/>
                </a:solidFill>
                <a:latin typeface="Calibri"/>
              </a:rPr>
              <a:t>El Fondo Nacional  de Desarrollo Regional como fondo de compensación regional y como fondo de desarrollo. Los resultados en la práctica</a:t>
            </a:r>
            <a:endParaRPr b="0" lang="en-US" sz="3000" spc="-1" strike="noStrike">
              <a:solidFill>
                <a:srgbClr val="000000"/>
              </a:solidFill>
              <a:latin typeface="Times New Roman"/>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 calcmode="lin" valueType="num">
                                      <p:cBhvr additive="repl">
                                        <p:cTn id="139"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repl">
                                        <p:cTn id="147"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28">
                                            <p:txEl>
                                              <p:pRg st="2" end="2"/>
                                            </p:txEl>
                                          </p:spTgt>
                                        </p:tgtEl>
                                        <p:attrNameLst>
                                          <p:attrName>style.visibility</p:attrName>
                                        </p:attrNameLst>
                                      </p:cBhvr>
                                      <p:to>
                                        <p:strVal val="visible"/>
                                      </p:to>
                                    </p:set>
                                    <p:anim calcmode="lin" valueType="num">
                                      <p:cBhvr additive="repl">
                                        <p:cTn id="155"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anim calcmode="lin" valueType="num">
                                      <p:cBhvr additive="repl">
                                        <p:cTn id="163"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28">
                                            <p:txEl>
                                              <p:pRg st="4" end="4"/>
                                            </p:txEl>
                                          </p:spTgt>
                                        </p:tgtEl>
                                        <p:attrNameLst>
                                          <p:attrName>style.visibility</p:attrName>
                                        </p:attrNameLst>
                                      </p:cBhvr>
                                      <p:to>
                                        <p:strVal val="visible"/>
                                      </p:to>
                                    </p:set>
                                    <p:anim calcmode="lin" valueType="num">
                                      <p:cBhvr additive="repl">
                                        <p:cTn id="171"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28">
                                            <p:txEl>
                                              <p:pRg st="5" end="5"/>
                                            </p:txEl>
                                          </p:spTgt>
                                        </p:tgtEl>
                                        <p:attrNameLst>
                                          <p:attrName>style.visibility</p:attrName>
                                        </p:attrNameLst>
                                      </p:cBhvr>
                                      <p:to>
                                        <p:strVal val="visible"/>
                                      </p:to>
                                    </p:set>
                                    <p:anim calcmode="lin" valueType="num">
                                      <p:cBhvr additive="repl">
                                        <p:cTn id="179"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28">
                                            <p:txEl>
                                              <p:pRg st="6" end="6"/>
                                            </p:txEl>
                                          </p:spTgt>
                                        </p:tgtEl>
                                        <p:attrNameLst>
                                          <p:attrName>style.visibility</p:attrName>
                                        </p:attrNameLst>
                                      </p:cBhvr>
                                      <p:to>
                                        <p:strVal val="visible"/>
                                      </p:to>
                                    </p:set>
                                    <p:anim calcmode="lin" valueType="num">
                                      <p:cBhvr additive="repl">
                                        <p:cTn id="187"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28">
                                            <p:txEl>
                                              <p:pRg st="7" end="7"/>
                                            </p:txEl>
                                          </p:spTgt>
                                        </p:tgtEl>
                                        <p:attrNameLst>
                                          <p:attrName>style.visibility</p:attrName>
                                        </p:attrNameLst>
                                      </p:cBhvr>
                                      <p:to>
                                        <p:strVal val="visible"/>
                                      </p:to>
                                    </p:set>
                                    <p:anim calcmode="lin" valueType="num">
                                      <p:cBhvr additive="repl">
                                        <p:cTn id="195" dur="10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28">
                                            <p:txEl>
                                              <p:pRg st="7" end="7"/>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2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2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981000"/>
            <a:ext cx="8929800" cy="581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Derogación del Número de Regiones:  “Queremos recuperar la dignidad  que nos da la identidad, recuperar la identidad del territorio”.  “No quiero que nadie se vuelva a referir a las regiones por un número. Nunca más se hablará de la Primera, la Quinta o la Duodécima. Nunca más tendremos que destinar largos minutos para explicar que la decimoquinta región en verdad es la primera”.</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Tahoma"/>
              </a:rPr>
              <a:t>Elección directa de Consejeros Regionales: “Los Consejeros Regionales durarán 4 años en su cargo y podrán ser reelegidos”.“Contempla la inhabilidad  para postular a otros cargos de elección popular al término del ejercicio por un lapso de 4 años, para que contemos con el  apoyo suficiente”. Indicación sustitutiva al Proyecto de Reforma Constitucional sobre Gobiernos Regionales que se encuentra en primer trámite en la Cámara de Diputados. </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Transferencia de Competencias propias de los Ministerios y los Servicios Públicos, así como de personal y recursos, a los Gobiernos Regionales, mediante Decretos firmados por el Presidente de la República. “Necesitamos Gobiernos Regionales que mejoren sustancialmente su capacidad de gestión, que progresivamente vean incrementados los recursos con los que cuentan. Por eso he tomado la decisión de aumentar de manera sustantiva los presupuestos de los GORES percibiendo recursos de los organismos públicos sectoriales.</a:t>
            </a:r>
            <a:endParaRPr b="0" lang="en-US" sz="2000" spc="-1" strike="noStrike">
              <a:solidFill>
                <a:srgbClr val="000000"/>
              </a:solidFill>
              <a:latin typeface="Times New Roman"/>
            </a:endParaRPr>
          </a:p>
        </p:txBody>
      </p:sp>
      <p:sp>
        <p:nvSpPr>
          <p:cNvPr id="130"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71280" y="115920"/>
            <a:ext cx="8964720" cy="581400"/>
          </a:xfrm>
          <a:prstGeom prst="rect">
            <a:avLst/>
          </a:prstGeom>
          <a:solidFill>
            <a:srgbClr val="f6fcbc"/>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ea typeface="Tahoma"/>
              </a:rPr>
              <a:t>El período 2006-2010: anuncios presidenciales</a:t>
            </a:r>
            <a:r>
              <a:rPr b="0"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endCondLst>
                                    <p:cond evt="begin"/>
                                  </p:endCondLst>
                                  <p:childTnLst>
                                    <p:set>
                                      <p:cBhvr>
                                        <p:cTn id="204" dur="1" fill="hold">
                                          <p:stCondLst>
                                            <p:cond delay="0"/>
                                          </p:stCondLst>
                                        </p:cTn>
                                        <p:tgtEl>
                                          <p:spTgt spid="130">
                                            <p:txEl>
                                              <p:pRg st="0" end="0"/>
                                            </p:txEl>
                                          </p:spTgt>
                                        </p:tgtEl>
                                        <p:attrNameLst>
                                          <p:attrName>style.visibility</p:attrName>
                                        </p:attrNameLst>
                                      </p:cBhvr>
                                      <p:to>
                                        <p:strVal val="visible"/>
                                      </p:to>
                                    </p:set>
                                    <p:anim calcmode="lin" valueType="num">
                                      <p:cBhvr additive="repl">
                                        <p:cTn id="205"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repl">
                                        <p:cTn id="213" dur="1000" fill="hold"/>
                                        <p:tgtEl>
                                          <p:spTgt spid="131"/>
                                        </p:tgtEl>
                                        <p:attrNameLst>
                                          <p:attrName>ppt_w</p:attrName>
                                        </p:attrNameLst>
                                      </p:cBhvr>
                                      <p:tavLst>
                                        <p:tav tm="0">
                                          <p:val>
                                            <p:fltVal val="0"/>
                                          </p:val>
                                        </p:tav>
                                        <p:tav tm="100000">
                                          <p:val>
                                            <p:strVal val="#ppt_w"/>
                                          </p:val>
                                        </p:tav>
                                      </p:tavLst>
                                    </p:anim>
                                    <p:anim calcmode="lin" valueType="num">
                                      <p:cBhvr additive="repl">
                                        <p:cTn id="214" dur="1000" fill="hold"/>
                                        <p:tgtEl>
                                          <p:spTgt spid="131"/>
                                        </p:tgtEl>
                                        <p:attrNameLst>
                                          <p:attrName>ppt_h</p:attrName>
                                        </p:attrNameLst>
                                      </p:cBhvr>
                                      <p:tavLst>
                                        <p:tav tm="0">
                                          <p:val>
                                            <p:fltVal val="0"/>
                                          </p:val>
                                        </p:tav>
                                        <p:tav tm="100000">
                                          <p:val>
                                            <p:strVal val="#ppt_h"/>
                                          </p:val>
                                        </p:tav>
                                      </p:tavLst>
                                    </p:anim>
                                    <p:anim calcmode="lin" valueType="num">
                                      <p:cBhvr additive="repl">
                                        <p:cTn id="21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59920"/>
            <a:ext cx="8893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ce</a:t>
            </a:r>
            <a:endParaRPr b="0" lang="en-US" sz="4400" spc="-1" strike="noStrike">
              <a:solidFill>
                <a:srgbClr val="000000"/>
              </a:solidFill>
              <a:latin typeface="Calibri"/>
            </a:endParaRPr>
          </a:p>
        </p:txBody>
      </p:sp>
      <p:sp>
        <p:nvSpPr>
          <p:cNvPr id="55" name=""/>
          <p:cNvSpPr txBox="1"/>
          <p:nvPr/>
        </p:nvSpPr>
        <p:spPr>
          <a:xfrm>
            <a:off x="533520" y="1196640"/>
            <a:ext cx="8153280" cy="52563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cedentes históricos de la descentralización en Chil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unas causas del centralismo chilen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modelos racionalizador y </a:t>
            </a:r>
            <a:r>
              <a:rPr b="0" lang="es-CL" sz="2400" spc="-1" strike="noStrike">
                <a:solidFill>
                  <a:srgbClr val="000000"/>
                </a:solidFill>
                <a:latin typeface="Calibri"/>
              </a:rPr>
              <a:t>participativo</a:t>
            </a:r>
            <a:r>
              <a:rPr b="0" lang="en-US" sz="2400" spc="-1" strike="noStrike">
                <a:solidFill>
                  <a:srgbClr val="000000"/>
                </a:solidFill>
                <a:latin typeface="Calibri"/>
              </a:rPr>
              <a:t> de la </a:t>
            </a:r>
            <a:r>
              <a:rPr b="0" lang="es-CL" sz="2400" spc="-1" strike="noStrike">
                <a:solidFill>
                  <a:srgbClr val="000000"/>
                </a:solidFill>
                <a:latin typeface="Calibri"/>
              </a:rPr>
              <a:t>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centralización política y la descentralización administrativa.  La descentralización fisc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73-199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0-1994</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4-200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0-2006</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6-201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cuestión política y la 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24000" y="1557360"/>
            <a:ext cx="8329320" cy="4405320"/>
          </a:xfrm>
          <a:prstGeom prst="rect">
            <a:avLst/>
          </a:prstGeom>
          <a:noFill/>
          <a:ln w="0">
            <a:noFill/>
          </a:ln>
        </p:spPr>
        <p:style>
          <a:lnRef idx="0"/>
          <a:fillRef idx="0"/>
          <a:effectRef idx="0"/>
          <a:fontRef idx="minor"/>
        </p:style>
        <p:txBody>
          <a:bodyPr lIns="90000" rIns="90000" tIns="46800" bIns="46800" anchor="t">
            <a:spAutoFit/>
          </a:bodyPr>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800000"/>
                </a:solidFill>
                <a:latin typeface="Tahoma"/>
              </a:rPr>
              <a:t>Creación de figura de Administrador Regional en cada Gobierno Regional  “que permita comenzar desde ya a preparar las condiciones para el traspaso efectivo de competencias a los Gobiernos Regionales”</a:t>
            </a: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002060"/>
                </a:solidFill>
                <a:latin typeface="Tahoma"/>
              </a:rPr>
              <a:t>Traspaso de Agencias Regionales de Desarrollo Productivo a los Gobiernos  Regionales: “Su sóla existencia es importante en la administración de recursos públicos en fomento productivo, pero hay dos asuntos pendientes: la inclusión efectiva de la sociedad  civil de regiones, a través de consejos u otras modalidades, y el traspaso de estas Agencias a los Gobiernos Regionales”. “Una  Agencia Regional de  Desarrollo sólo tiene sentido si es de verdad regional, y lo haremos desde ya en las nuevas Agencias de Arica-Parinacota y  Los Ríos.</a:t>
            </a:r>
            <a:endParaRPr b="0" lang="en-US" sz="2000" spc="-1" strike="noStrike">
              <a:solidFill>
                <a:srgbClr val="000000"/>
              </a:solidFill>
              <a:latin typeface="Times New Roman"/>
            </a:endParaRPr>
          </a:p>
        </p:txBody>
      </p:sp>
      <p:sp>
        <p:nvSpPr>
          <p:cNvPr id="133"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
          <p:cNvSpPr/>
          <p:nvPr/>
        </p:nvSpPr>
        <p:spPr>
          <a:xfrm>
            <a:off x="71280" y="258840"/>
            <a:ext cx="8964720" cy="58140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06-2010: anuncios presidenciales</a:t>
            </a:r>
            <a:r>
              <a:rPr b="1"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endCondLst>
                                    <p:cond evt="begin"/>
                                  </p:endCondLst>
                                  <p:childTnLst>
                                    <p:set>
                                      <p:cBhvr>
                                        <p:cTn id="222" dur="1" fill="hold">
                                          <p:stCondLst>
                                            <p:cond delay="0"/>
                                          </p:stCondLst>
                                        </p:cTn>
                                        <p:tgtEl>
                                          <p:spTgt spid="133">
                                            <p:txEl>
                                              <p:pRg st="0" end="0"/>
                                            </p:txEl>
                                          </p:spTgt>
                                        </p:tgtEl>
                                        <p:attrNameLst>
                                          <p:attrName>style.visibility</p:attrName>
                                        </p:attrNameLst>
                                      </p:cBhvr>
                                      <p:to>
                                        <p:strVal val="visible"/>
                                      </p:to>
                                    </p:set>
                                    <p:anim calcmode="lin" valueType="num">
                                      <p:cBhvr additive="repl">
                                        <p:cTn id="22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repl">
                                        <p:cTn id="231" dur="1000" fill="hold"/>
                                        <p:tgtEl>
                                          <p:spTgt spid="134"/>
                                        </p:tgtEl>
                                        <p:attrNameLst>
                                          <p:attrName>ppt_w</p:attrName>
                                        </p:attrNameLst>
                                      </p:cBhvr>
                                      <p:tavLst>
                                        <p:tav tm="0">
                                          <p:val>
                                            <p:fltVal val="0"/>
                                          </p:val>
                                        </p:tav>
                                        <p:tav tm="100000">
                                          <p:val>
                                            <p:strVal val="#ppt_w"/>
                                          </p:val>
                                        </p:tav>
                                      </p:tavLst>
                                    </p:anim>
                                    <p:anim calcmode="lin" valueType="num">
                                      <p:cBhvr additive="repl">
                                        <p:cTn id="232" dur="1000" fill="hold"/>
                                        <p:tgtEl>
                                          <p:spTgt spid="134"/>
                                        </p:tgtEl>
                                        <p:attrNameLst>
                                          <p:attrName>ppt_h</p:attrName>
                                        </p:attrNameLst>
                                      </p:cBhvr>
                                      <p:tavLst>
                                        <p:tav tm="0">
                                          <p:val>
                                            <p:fltVal val="0"/>
                                          </p:val>
                                        </p:tav>
                                        <p:tav tm="100000">
                                          <p:val>
                                            <p:strVal val="#ppt_h"/>
                                          </p:val>
                                        </p:tav>
                                      </p:tavLst>
                                    </p:anim>
                                    <p:anim calcmode="lin" valueType="num">
                                      <p:cBhvr additive="repl">
                                        <p:cTn id="233"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496000" cy="5277600"/>
          </a:xfrm>
          <a:prstGeom prst="rect">
            <a:avLst/>
          </a:prstGeom>
          <a:noFill/>
          <a:ln w="0">
            <a:noFill/>
          </a:ln>
        </p:spPr>
        <p:style>
          <a:lnRef idx="0"/>
          <a:fillRef idx="0"/>
          <a:effectRef idx="0"/>
          <a:fontRef idx="minor"/>
        </p:style>
        <p:txBody>
          <a:bodyPr lIns="90000" rIns="90000" tIns="46800" bIns="46800" anchor="t">
            <a:spAutoFit/>
          </a:bodyPr>
          <a:p>
            <a:pPr marL="573120" indent="-457200" algn="ctr">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1" lang="es-ES_tradnl" sz="2000" spc="-1" strike="noStrike">
                <a:solidFill>
                  <a:srgbClr val="002060"/>
                </a:solidFill>
                <a:latin typeface="Tahoma"/>
              </a:rPr>
              <a:t>SANTIAGO NO ES CHILE</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Mayores recursos para regiones y comunas no sujetos al poder discrecional del gobierno central</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Reordenamiento y traspaso de competencias, además de la creación de áreas metropolitan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Fortalecimiento de la capacidad de gestión de gobiernos regionales y comu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Fortalecer la probidad, transparencia y rendición de cuent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mover la descentralización política</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Aliviar la burocracias en regiones para lo cual se revisara el rol de los gobernador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yectos de ley para elección directa de los consejeros regio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Proyecto de ley sobre traspaso de competencias a los gobiernos regionales </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p:txBody>
      </p:sp>
      <p:sp>
        <p:nvSpPr>
          <p:cNvPr id="136"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71280" y="258840"/>
            <a:ext cx="8964720" cy="94716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10-2014: programa de gobierno y proyectos de ley </a:t>
            </a:r>
            <a:endParaRPr b="0" lang="en-US" sz="2800" spc="-1" strike="noStrike">
              <a:solidFill>
                <a:srgbClr val="000000"/>
              </a:solidFill>
              <a:latin typeface="Times New Roman"/>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endCondLst>
                                    <p:cond evt="begin"/>
                                  </p:endCondLst>
                                  <p:childTnLst>
                                    <p:set>
                                      <p:cBhvr>
                                        <p:cTn id="240" dur="1" fill="hold">
                                          <p:stCondLst>
                                            <p:cond delay="0"/>
                                          </p:stCondLst>
                                        </p:cTn>
                                        <p:tgtEl>
                                          <p:spTgt spid="136">
                                            <p:txEl>
                                              <p:pRg st="0" end="0"/>
                                            </p:txEl>
                                          </p:spTgt>
                                        </p:tgtEl>
                                        <p:attrNameLst>
                                          <p:attrName>style.visibility</p:attrName>
                                        </p:attrNameLst>
                                      </p:cBhvr>
                                      <p:to>
                                        <p:strVal val="visible"/>
                                      </p:to>
                                    </p:set>
                                    <p:anim calcmode="lin" valueType="num">
                                      <p:cBhvr additive="repl">
                                        <p:cTn id="241"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37"/>
                                        </p:tgtEl>
                                        <p:attrNameLst>
                                          <p:attrName>style.visibility</p:attrName>
                                        </p:attrNameLst>
                                      </p:cBhvr>
                                      <p:to>
                                        <p:strVal val="visible"/>
                                      </p:to>
                                    </p:set>
                                    <p:anim calcmode="lin" valueType="num">
                                      <p:cBhvr additive="repl">
                                        <p:cTn id="249" dur="1000" fill="hold"/>
                                        <p:tgtEl>
                                          <p:spTgt spid="137"/>
                                        </p:tgtEl>
                                        <p:attrNameLst>
                                          <p:attrName>ppt_w</p:attrName>
                                        </p:attrNameLst>
                                      </p:cBhvr>
                                      <p:tavLst>
                                        <p:tav tm="0">
                                          <p:val>
                                            <p:fltVal val="0"/>
                                          </p:val>
                                        </p:tav>
                                        <p:tav tm="100000">
                                          <p:val>
                                            <p:strVal val="#ppt_w"/>
                                          </p:val>
                                        </p:tav>
                                      </p:tavLst>
                                    </p:anim>
                                    <p:anim calcmode="lin" valueType="num">
                                      <p:cBhvr additive="repl">
                                        <p:cTn id="250" dur="1000" fill="hold"/>
                                        <p:tgtEl>
                                          <p:spTgt spid="137"/>
                                        </p:tgtEl>
                                        <p:attrNameLst>
                                          <p:attrName>ppt_h</p:attrName>
                                        </p:attrNameLst>
                                      </p:cBhvr>
                                      <p:tavLst>
                                        <p:tav tm="0">
                                          <p:val>
                                            <p:fltVal val="0"/>
                                          </p:val>
                                        </p:tav>
                                        <p:tav tm="100000">
                                          <p:val>
                                            <p:strVal val="#ppt_h"/>
                                          </p:val>
                                        </p:tav>
                                      </p:tavLst>
                                    </p:anim>
                                    <p:anim calcmode="lin" valueType="num">
                                      <p:cBhvr additive="repl">
                                        <p:cTn id="25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INCOGNITA</a:t>
            </a:r>
            <a:endParaRPr b="0" lang="en-US" sz="4400" spc="-1" strike="noStrike">
              <a:solidFill>
                <a:srgbClr val="000000"/>
              </a:solidFill>
              <a:latin typeface="Calibri"/>
            </a:endParaRPr>
          </a:p>
        </p:txBody>
      </p:sp>
      <p:sp>
        <p:nvSpPr>
          <p:cNvPr id="139" name=""/>
          <p:cNvSpPr txBox="1"/>
          <p:nvPr/>
        </p:nvSpPr>
        <p:spPr>
          <a:xfrm>
            <a:off x="-360" y="1617840"/>
            <a:ext cx="8915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política de la descentralización es un tema relevante tanto para el debate público en Chile como para el estudio especializado de la ciencia política. Con respecto a la discusión nacional, esta ha priorizado los aspectos técnicos, haciendo abstracción de la política. Definida la descentralización como una transferencia de poder político, dineros fiscales y/o atribuciones administrativas a gobiernos subnacionales autónomos, se trata en esencia de una redistribución de recursos de unos actores hacia otros. Por ello, es necesario develar las motivaciones políticas presentes en el proceso chileno. </a:t>
            </a: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609480"/>
            <a:ext cx="873612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DEMOCRACIA Y LA DESCENTRALIZACION</a:t>
            </a:r>
            <a:endParaRPr b="0" lang="en-US" sz="3600" spc="-1" strike="noStrike">
              <a:solidFill>
                <a:srgbClr val="000000"/>
              </a:solidFill>
              <a:latin typeface="Calibri"/>
            </a:endParaRPr>
          </a:p>
        </p:txBody>
      </p:sp>
      <p:sp>
        <p:nvSpPr>
          <p:cNvPr id="141" name=""/>
          <p:cNvSpPr txBox="1"/>
          <p:nvPr/>
        </p:nvSpPr>
        <p:spPr>
          <a:xfrm>
            <a:off x="250920" y="1700280"/>
            <a:ext cx="86644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pótesis de la democratización, la que propone que las reformas descentralizadoras en América Latina fueron gatilladas por los procesos de restauración democrática, los cuales proveen oportunidades para el cambio institucional, desatando presiones de largo plazo que habrían estado congeladas en dictadura. En democracia los partidos tendrían incentivos para crearse nuevas puntos de acceso al poder.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hipótesis predice que la descentralización ocurre simultáneamente o justo después de la transferencia formal del poder a un gobierno democrático. Sin embargo, existe cierta inconsistencia en la evidencia empírica. Por ejemplo, la reforma de 1994 en Bolivia ocurrió 12 años después de la restauración democrática. Por otro lado, Colombia y Venezuela descentralizaron en 1986 y 1989, respectivamente, aunque habían mantenido sus sistemas democráticos vigentes desde los años 50.  </a:t>
            </a:r>
            <a:endParaRPr b="0" lang="en-US" sz="2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886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ANANCIA ELECTORAL Y LA DESCENTRALIZACION</a:t>
            </a:r>
            <a:endParaRPr b="0" lang="en-US" sz="2800" spc="-1" strike="noStrike">
              <a:solidFill>
                <a:srgbClr val="000000"/>
              </a:solidFill>
              <a:latin typeface="Calibri"/>
            </a:endParaRPr>
          </a:p>
        </p:txBody>
      </p:sp>
      <p:sp>
        <p:nvSpPr>
          <p:cNvPr id="143" name=""/>
          <p:cNvSpPr txBox="1"/>
          <p:nvPr/>
        </p:nvSpPr>
        <p:spPr>
          <a:xfrm>
            <a:off x="-360" y="1341360"/>
            <a:ext cx="8915400" cy="411480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hipótesis es la de la estrategia electoral, plantea que la descentralización es el resultado de los intentos de los partidos de maximizar su ganancia electoral.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os partidos con buen desempeño en elecciones municipales tendrían mayor probabilidad de apoyar la descentralización. Esta hipótesis es una de las más importantes dentro de la literatura, exhibiendo una continuidad con argumentos previos formulados en forma más general a propósito de las causas de la reforma constitucional chilena</a:t>
            </a:r>
            <a:endParaRPr b="0" lang="en-US" sz="27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ESCENTRALIZACION POR PRESIONES TOP-DOWN Y BOTTOM-UP</a:t>
            </a:r>
            <a:endParaRPr b="0" lang="en-US" sz="3200" spc="-1" strike="noStrike">
              <a:solidFill>
                <a:srgbClr val="000000"/>
              </a:solidFill>
              <a:latin typeface="Calibri"/>
            </a:endParaRPr>
          </a:p>
        </p:txBody>
      </p:sp>
      <p:sp>
        <p:nvSpPr>
          <p:cNvPr id="145" name=""/>
          <p:cNvSpPr txBox="1"/>
          <p:nvPr/>
        </p:nvSpPr>
        <p:spPr>
          <a:xfrm>
            <a:off x="-360" y="1484280"/>
            <a:ext cx="8915400" cy="41148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hipótesis plantea que las reformas descentralizadoras en los países andinos (Bolivia, Colombia, Ecuador y Perú) han sido procesos de arriba-abajo (top-down) y no de abajo-arriba (bottom-up). La pregunta subyacente es por qué los actores de "arriba" estarían interesados en descentralizar si las demandas de "abajo" son débiles o inexistentes.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sando los casos Argentina, Brasil, Chile y Uruguay, Eaton propone que cuando no hay presiones de "abajo" la descentralización ocurre como resultado de conflictos e intereses divergentes entre los actores de "arriba". En cualquier caso, las reformas alteran la distribución inicial de recursos, cambiando la correlación de fuerzas y generando una presión por reformas adicionales.</a:t>
            </a:r>
            <a:endParaRPr b="0" lang="en-US" sz="22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5992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CALDES ELECTOS POR PARTIDO</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755640" y="1595520"/>
            <a:ext cx="7272360" cy="48448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CEJALES ELECTOS POR PARTIDO</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554040" y="1216080"/>
            <a:ext cx="7978680" cy="5379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5560"/>
            <a:ext cx="91440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SEJEROS REGIONALES ELECTOS POR PARTIDO</a:t>
            </a:r>
            <a:endParaRPr b="0" lang="en-US" sz="4000" spc="-1" strike="noStrike">
              <a:solidFill>
                <a:srgbClr val="000000"/>
              </a:solidFill>
              <a:latin typeface="Calibri"/>
            </a:endParaRPr>
          </a:p>
        </p:txBody>
      </p:sp>
      <p:pic>
        <p:nvPicPr>
          <p:cNvPr id="151" name="Picture 2" descr=""/>
          <p:cNvPicPr/>
          <p:nvPr/>
        </p:nvPicPr>
        <p:blipFill>
          <a:blip r:embed="rId1"/>
          <a:stretch/>
        </p:blipFill>
        <p:spPr>
          <a:xfrm>
            <a:off x="552600" y="1341360"/>
            <a:ext cx="7980120" cy="538164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CALDES Y CONCEJALES ELECTOS POR COALICION </a:t>
            </a:r>
            <a:endParaRPr b="0" lang="en-US" sz="3200" spc="-1" strike="noStrike">
              <a:solidFill>
                <a:srgbClr val="000000"/>
              </a:solidFill>
              <a:latin typeface="Calibri"/>
            </a:endParaRPr>
          </a:p>
        </p:txBody>
      </p:sp>
      <p:pic>
        <p:nvPicPr>
          <p:cNvPr id="153" name="Picture 2" descr=""/>
          <p:cNvPicPr/>
          <p:nvPr/>
        </p:nvPicPr>
        <p:blipFill>
          <a:blip r:embed="rId1"/>
          <a:stretch/>
        </p:blipFill>
        <p:spPr>
          <a:xfrm>
            <a:off x="684360" y="816120"/>
            <a:ext cx="7488000" cy="5906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Rectángulo" descr=""/>
          <p:cNvPicPr/>
          <p:nvPr/>
        </p:nvPicPr>
        <p:blipFill>
          <a:blip r:embed="rId1"/>
          <a:stretch/>
        </p:blipFill>
        <p:spPr>
          <a:xfrm>
            <a:off x="79200" y="2773440"/>
            <a:ext cx="8826840" cy="865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360"/>
            <a:ext cx="914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EJEROS REGIONALES ELECTOS POR COALICION</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22120" y="1700280"/>
            <a:ext cx="8680680" cy="4032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40464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INTENTO FEDERALISTA DE 1826</a:t>
            </a:r>
            <a:endParaRPr b="0" lang="en-US" sz="4400" spc="-1" strike="noStrike">
              <a:solidFill>
                <a:srgbClr val="000000"/>
              </a:solidFill>
              <a:latin typeface="Calibri"/>
            </a:endParaRPr>
          </a:p>
        </p:txBody>
      </p:sp>
      <p:sp>
        <p:nvSpPr>
          <p:cNvPr id="58" name=""/>
          <p:cNvSpPr txBox="1"/>
          <p:nvPr/>
        </p:nvSpPr>
        <p:spPr>
          <a:xfrm>
            <a:off x="323640" y="1554120"/>
            <a:ext cx="8591400" cy="453888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A semejanza del modelo estadounidense José Miguel Infante redactó un conjunto de leyes federales. El 4 de julio de ese año el Congreso adoptó el Federalismo que no alcanzó a plasmarse en la constitución. Se dividió al país en 8 provincias: Coquimbo, Aconcagua, Santiago, Colchagua, Maule, Concepción, Valdivia y Chiloé. Proponía que todos los cargos incluidos gobernadores y curas párrocos fueran electos en forma popular. Fue imposible llevar a la práctica por varias razones, entre las cuales el tema cultural y económico fueron determinant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
        <p:nvSpPr>
          <p:cNvPr id="60" name=""/>
          <p:cNvSpPr txBox="1"/>
          <p:nvPr/>
        </p:nvSpPr>
        <p:spPr>
          <a:xfrm>
            <a:off x="0" y="836640"/>
            <a:ext cx="8964720" cy="648000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roblemas de gobernabilidad del país por el descontento de las provincias y la mala administración e inseguridad determinaron que en una de las constituciones redactadas en la época (1828)  se introdujeran las Asambleas Provinciales y se reconocieran atribuciones a las municipalidades.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o ello tampoco dio resultado. Por esa época aparece en la escena nacional el político, comerciante y ministro de Estado Diego Portales. “ A mí las cosas políticas no me interesan, pero como buen ciudadano puedo opinar con toda libertad y aún censurar los actos del Gobierno. La Democracia, que tanto pregonan los ilusos, es un absurdo en los países como los americanos, llenos de vicios y donde los ciudadanos carecen de toda virtud, como es necesario para establecer una verdadera República. La Monarquía no es tampoco el ideal americano: salimos de una terrible para volver a otra y ¿qué ganamos? La República es el sistema que hay que adoptar; ¿pero sabe cómo yo la entiendo para estos países? Un Gobierno fuerte, centralizador, cuyos hombres sean verdaderos modelos de virtud y patriotismo, y así enderezar a los ciudadanos por el camino del orden y de las virtudes. Cuando se hayan moralizado, venga el Gobierno completamente liberal, libre y lleno de ideales, donde tengan parte todos los ciudadanos. Esto es lo que yo pienso y todo hombre de mediano criterio pensará igual”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Rectángulo"/>
          <p:cNvSpPr/>
          <p:nvPr/>
        </p:nvSpPr>
        <p:spPr>
          <a:xfrm>
            <a:off x="250920" y="1197000"/>
            <a:ext cx="8497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nstitución de 1833, redactada según el pensamiento portaliano, establece las bases de la institucionalidad actual. Estableció la soberanía nacional, el régimen representativo, la división de los poderes públicos, la responsabilidad gubernamental y las garantías individuales. Basado en un fuerte presidencialismo, deroga las Asambleas Provinciales cuyos integrantes debían ser electos popularmente y en su reemplazo señala que “El gobierno superior de cada provincia en todos los ramos de la administración, residirá en un Intendente quien lo ejercerá con arreglo a las leyes y a las ordenes e instrucciones del Presidente de la República de quien  es agente natural e inmediato. </a:t>
            </a:r>
            <a:endParaRPr b="0" lang="en-US" sz="2800" spc="-1" strike="noStrike">
              <a:solidFill>
                <a:srgbClr val="000000"/>
              </a:solidFill>
              <a:latin typeface="Times New Roman"/>
            </a:endParaRPr>
          </a:p>
        </p:txBody>
      </p:sp>
      <p:sp>
        <p:nvSpPr>
          <p:cNvPr id="62"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TENTO FEDERALISTA DE LEÓN GALLO DE 1859</a:t>
            </a:r>
            <a:endParaRPr b="0" lang="en-US" sz="3600" spc="-1" strike="noStrike">
              <a:solidFill>
                <a:srgbClr val="000000"/>
              </a:solidFill>
              <a:latin typeface="Calibri"/>
            </a:endParaRPr>
          </a:p>
        </p:txBody>
      </p:sp>
      <p:sp>
        <p:nvSpPr>
          <p:cNvPr id="64" name=""/>
          <p:cNvSpPr txBox="1"/>
          <p:nvPr/>
        </p:nvSpPr>
        <p:spPr>
          <a:xfrm>
            <a:off x="-360" y="1052280"/>
            <a:ext cx="8915400" cy="5661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1850 se crea la Sociedad de la Igualdad y el Club de la Reforma basado en ideales liberales.  De hecho, el gobierno del Presidente Manuel Montt comenzó con una oposición muy activa que cuestionaba el autoritarismo y el centralismo santiaguino. Por esos años habían estallado movimientos de resistencia en Concepción y La Serena, que demandaban mayor autonomía. El presidente Montt perdona a los exaltados, se le conceden amplios poderes e inicia la colonización del Sur de Chil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1859 Pedro León Gallo, quien vivía en Copiapó, inició una revolución constituyente. De hecho se convirtió en un liberal y apasionado regionalista en esa ciudad organizando con su propio dinero a mas de mil hombres para combatir el centralismo. Con su accionar se comenzó a pensar en una nueva institucionalidad para el país</a:t>
            </a:r>
            <a:endParaRPr b="0" lang="en-US" sz="23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914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REPÚBLICA PARLAMENTARIA</a:t>
            </a:r>
            <a:endParaRPr b="0" lang="en-US" sz="4000" spc="-1" strike="noStrike">
              <a:solidFill>
                <a:srgbClr val="000000"/>
              </a:solidFill>
              <a:latin typeface="Calibri"/>
            </a:endParaRPr>
          </a:p>
        </p:txBody>
      </p:sp>
      <p:sp>
        <p:nvSpPr>
          <p:cNvPr id="66" name=""/>
          <p:cNvSpPr txBox="1"/>
          <p:nvPr/>
        </p:nvSpPr>
        <p:spPr>
          <a:xfrm>
            <a:off x="-360" y="907920"/>
            <a:ext cx="8915400" cy="5950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61 y 1891 con la muerte  del Presidente Balmaceda el país experimenta una serie de cambios que buscan modificar el presidencialismo y otorgar mayores poderes al legislativ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año 1891 los sectores políticos que se encontraban fuera del círculo del gobierno se sublevaron contra el Presidente José Manuel Balmaceda e instauraron en Chile un Régimen de tipo parlamentaris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91 y 1925 hay un régimen seudoparlamentario, también caracterizado como gobierno de partido bajo formas parlamentarias, entendiendo por parlamentario en su época una interpretación dada a las relaciones Presidente-Congreso Nacional en la Constitución de 1833, después de la derrota de Balmaceda en la Guerra Civil. Durante este periodo se destacó principalmente el predominio del Congreso Nacional sobre el Presidente de la República. Los eventos que marca su comienzo es la Guerra Civil de 1891, y su fin el Golpe de Estado de 1924, que implicó la clausura del Congreso, y la promulgación de la Constitución de 1925, que estableció un régimen presidenc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4:15:26Z</dcterms:created>
  <dc:creator>Administrator</dc:creator>
  <dc:description/>
  <dc:language>en-US</dc:language>
  <cp:lastModifiedBy>Luis Lira</cp:lastModifiedBy>
  <dcterms:modified xsi:type="dcterms:W3CDTF">2011-12-14T00:47:34Z</dcterms:modified>
  <cp:revision>151</cp:revision>
  <dc:subject/>
  <dc:title>DESCENTRALIZACION, DESARROLLO REGIONAL Y EL APORTE DELPROGRAMA MAS REGION</dc:title>
</cp:coreProperties>
</file>