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07AF-A967-4F88-A5B0-28B1659559B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B298-FF9C-44FD-838F-E8B851CFA6B0}"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0AFC5-B223-4EE7-B097-5434365C8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3FAC7-A179-4626-9469-B9A106D2D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76BB33-33F2-4031-8114-110F8E7596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5400C2-A84A-425A-91A8-BA089ABC41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0A44FD-CD16-4082-94DB-664AD1F938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8A56E2-96D9-4530-8E22-DD732C5A08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98F9F3-9546-4206-A30C-C8E4E72CBE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A4E4AF-3B6C-4293-AE43-E61888AF5A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208913-7283-4EDE-B601-CF2B3B9968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6DCF32-6843-4D04-A720-439B109DB0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FBAE3B-07DA-4A5E-9D0B-D415D65DF7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900275A-8EE1-4B2E-B71C-CC4E7FAAEC7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F903A-18CD-46B9-9EBF-B8D8FF58B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CBAAD6-446D-4D7A-9399-46A2244B98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416CB7-E427-4135-8C3F-9E4A7B9553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AC9F9B-1C0C-4168-B444-7B48BC738D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034BE7-67AB-4222-957F-753BE1DEB0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C8B43B-276E-446D-B6AE-3DE2886D46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BBF36D-3B5D-4A61-8F79-8863ADA80C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8EA003-C566-4F65-8D33-92C22394BC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87C43B-65D2-4624-8BD2-46EE49338F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F1DC55-6967-44D0-9B4C-790EED8E79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D9545B6-07AC-40E1-8D5D-0053AB77DF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28F89-1B52-4628-BD2E-37EEA3DBB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417131E-FF33-4BA8-B16C-46AC709A43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EFAD82-D649-4E07-A0CE-07CC7F49B69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33AFDB-A1D6-467D-A7BB-E3AA503223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C0C973-05D5-41A0-B52E-21FC013C9E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8AA70C-9D6A-49A9-B1C3-F6A40C8001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D73079-29E0-4306-9118-46291EA8E6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C6D31C-F1C2-46F2-9433-5122F30F62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A66F8B-A02B-40FD-AE9D-800409721F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9C9EFB-6754-43C6-8452-127B2466D2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217706-2684-4DE9-91CD-7A80F6B13E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41D18-7D93-4F65-B756-60BE8189F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64D290-F564-4D25-8FF1-1870890D8F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3E1B06-1207-47AC-908C-F7CC61C803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FED894-9C65-4352-960D-3287921807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D693A82-BE22-4E6B-A835-5C5AA0291B4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96A2D9-FE4F-4BC0-9CF0-7154432CA1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D2501B-9A1F-47B9-9223-9E14B61D5C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C9F10A-7ED7-4C59-895C-A3C9D8661F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17C30A-4E50-438D-A609-41CE09030B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7C965D-A7FF-4C9A-8FA6-743A51A26F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3C23D9-52E5-4B54-8AE6-642A3AC70C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B56AA-C819-4AC1-82EE-B4358B581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C83EF0-A4AD-4C25-8352-01B8987F27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40147D-E67F-4606-B200-1F5ECEBB62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E00333-650B-4DA1-8E11-626F7A8E3B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2750528-C20D-4A11-89D6-E6A516B8768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6B33F52-1FAB-4288-B994-AEFBEAC8C85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C6EA5-51B2-4A85-931A-6075EAC33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93025-E53D-4F9A-B6D6-BFACDFDC4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A2A30-D85F-4CE4-8D59-96B239966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E8534-B782-42DF-B77F-BFE783886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067EC-9E75-41F5-BE96-C4980978E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02B7B-7FD3-4F54-AE8B-994241DDE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31A0B-877E-4F29-B165-1C0337461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C78E4-06BE-486F-B111-2BFD2B429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D60D1-AD27-4940-9B07-55A3CFCFF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CAE01-1E5E-4159-B969-74ACD20B8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E3088-2838-452F-8054-6CC51EDE05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26BEAE-482B-4FE2-8D5A-D0326B32A0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324A2B-9164-4198-AD49-B91F133CB1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1E5364-E5E3-4EF8-BDF9-F64FF9FD2D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E8E2CC-E89E-4A48-9D37-9FEA79BD6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5CF676-191F-4519-9088-9E55C29DC4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829FB-BB8A-48E2-9F2B-F3786CFB8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597573-F83E-4BBF-9EA4-BDCC830BBD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3D799F-331F-409B-95E4-877D1B641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EC85E-96E5-46D6-A92A-678B392ABC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8E42B2-8F79-427C-9E86-4FEAE72BDD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CF450-07CC-49A6-90FF-A6B59A6841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55700D-CB1C-4B10-AE07-265A9A9876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5ADFC2-F95D-4563-95A1-C7F46C6815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39A088-61D4-4CB9-B354-E093B95FB8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4453F4-FAF3-424A-A01A-4AD52CF316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F6A780-6AE5-4F56-BA3F-0E39CE3586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43209-D994-4041-A319-9A566006E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7CDEC6-0589-456E-BF35-58E48CF9C8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E459D2-E860-4DAB-A8A2-BAE5C975CF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972233-02F5-428C-B54B-E96BCF929C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FC608C-7F08-4278-86C2-B1FAC50F48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40592-B09D-4D18-A893-675B1CA8A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9D064-9AF7-44A2-932B-E3467F0699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739394-6F38-412D-A5CF-131DBDE8E7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35403B-D7F4-4481-A6D8-5544BA216A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1DAB54-1431-45F3-AB11-E95C4662F6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544536-D59A-4C2B-BECD-C267F309FD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81E29-8C36-460E-A7BC-9BCD16D25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CD6BD2-D296-44CE-A837-AD2E98D3D7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577DAA-AFB0-4405-8333-3B7C4148DD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53EAE8-570E-4465-9AAF-8A9013DDA3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3B4D8F-85F6-40A0-811B-A859ECDB34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71F3BC-CE84-44A0-853F-4480F23A17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A14BEA-87AE-48BD-9D9E-2B85BECC82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EEC20D-8A8D-4A26-B5B7-F5D47A9DDC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7F27E7-CDF6-40C6-8D4D-D4546289EF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8B043C-1472-4239-B161-3F7B5B6080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A4E9F4-3085-4025-A4F0-F32DBE0D58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8117B-FBEC-4E8C-95B1-26D65A670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31B399-2868-46B0-86BC-BCFFD167C2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EBD96A-82C5-493F-810F-8DAC6AA806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0531BD-52DC-4385-88E5-6615902AF0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F43F43-2D05-4EC3-B6F5-96339509DE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934D96-1C16-4014-99BC-40E78D240D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3166EC-FEE7-4E97-97FA-38B027C472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27EF32-FC1D-4E32-9341-B3B880E2D3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E74903-5774-4D38-8667-AF2AD2BF1D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E3C2B4-0AC6-440B-9B28-A7B4B50DB9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025517-20ED-4931-A186-23D44CE60E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7288E-AD22-4D08-9160-B8C069CF8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60AFF7-49A0-4003-AAEC-E2FFFB60F4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DD1F93-963C-40C7-92B2-63A45AF443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32E2A0-DCAD-42DD-984C-ED777B0A3D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379EAF-C3F3-44FB-A905-525FE7C31D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D7151F-10C5-4B37-AF9B-9A7CE4B5DA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741A9A-9A88-4E06-8180-7D20E46D84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FFFB16-CA36-44C4-B149-2911CBD201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51AD3C-C582-4AA9-8D59-0DE008258E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36328D-6CA8-4015-A83E-23BE2175D8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E16040-C594-4401-9407-7CB9FB58C2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44291-3055-4953-A946-502A4B2C6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AE7E20-CA7F-4102-ABCF-2F420B3D09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FF24B0-2E23-4837-9210-2E04310B6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4E2746-8ED7-4134-A3E7-439CCDDDED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40BC56-23ED-4E69-9335-91492A4904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4C4F0D-129D-4BBC-969A-5B83280B9F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4AFF1B-7003-4503-BDBA-75C48A3D82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C33A74-2171-4470-A154-D3C20F17A2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9563C4-12E2-42C6-8ACE-BA4375A758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A90FE4-C320-4CAD-A68F-6C76476DA1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01E97E-CEAA-4751-AA8A-00BE0BBE8B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6401D-D425-4E9A-8BF9-824E21503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B0893C-2347-461B-AC94-D892480F90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82D039-9BBB-4FC5-B4B4-787C4DB39D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DC96DB-1607-4D75-96F8-F9A7C82AD2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FE95B8-F37E-4711-92AB-4A3CDC6693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851AEA-142F-4581-9C47-4C3DE0DC56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86FAE7-8E3D-4991-BE40-5BECE8CDC5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7428B5-4A07-4D0B-B296-0BE88B3724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7DBBB9-DECB-47BF-ABED-1CF246F039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EDFB8E-6FFC-4C91-B746-0E0B2B1700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4A43D6-BD47-4F75-8314-0D97AD9722C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D425-039E-4CAE-AD63-71A191BA3D0A}" type="slidenum">
              <a:rPr b="0" lang="en-US" sz="1200" spc="-1" strike="noStrike">
                <a:solidFill>
                  <a:srgbClr val="898989"/>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A6DD-2D7B-4FCF-A431-19386743BFE0}"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9432-A0BC-4A7C-A4BE-BE1AD5F85EA6}"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AF22-B50F-43DA-950A-FB130797EABA}"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33C3-EFCA-4046-97A6-89F27399C6F4}"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7189-AF30-4F49-82BA-979F81C0CA51}"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5DBE-D044-4182-8B0B-3CACFAED4904}"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3267-83B7-43DA-938C-7AFF9C031BE1}"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FB02-2BBB-4EB8-8A14-D98FBAA470F4}"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B8D0-2EB9-48C4-84C8-5C35846E33EF}"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551C-A658-46FB-8D6C-4BBBCE0A0CBD}"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30B8-0433-4DDD-8A87-B9708532704F}"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0"/>
          <p:cNvSpPr/>
          <p:nvPr/>
        </p:nvSpPr>
        <p:spPr>
          <a:xfrm>
            <a:off x="3285000" y="1143000"/>
            <a:ext cx="2686320" cy="76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entury Gothic"/>
              </a:rPr>
              <a:t>Escuela de Geografía</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entury Gothic"/>
              </a:rPr>
              <a:t>Facultad de Arquitectura y Urbanismo</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entury Gothic"/>
              </a:rPr>
              <a:t>Universidad de Chile</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entury Gothic"/>
              </a:rPr>
              <a:t>Introducción a SIG</a:t>
            </a:r>
            <a:endParaRPr b="0" lang="en-US" sz="1100" spc="-1" strike="noStrike">
              <a:solidFill>
                <a:srgbClr val="000000"/>
              </a:solidFill>
              <a:latin typeface="Calibri"/>
            </a:endParaRPr>
          </a:p>
        </p:txBody>
      </p:sp>
      <p:pic>
        <p:nvPicPr>
          <p:cNvPr id="500" name="Picture 11" descr="uchile3t"/>
          <p:cNvPicPr/>
          <p:nvPr/>
        </p:nvPicPr>
        <p:blipFill>
          <a:blip r:embed="rId1"/>
          <a:stretch/>
        </p:blipFill>
        <p:spPr>
          <a:xfrm>
            <a:off x="4363920" y="428760"/>
            <a:ext cx="424080" cy="668160"/>
          </a:xfrm>
          <a:prstGeom prst="rect">
            <a:avLst/>
          </a:prstGeom>
          <a:ln w="0">
            <a:noFill/>
          </a:ln>
        </p:spPr>
      </p:pic>
      <p:sp>
        <p:nvSpPr>
          <p:cNvPr id="501" name="Rectangle 6"/>
          <p:cNvSpPr/>
          <p:nvPr/>
        </p:nvSpPr>
        <p:spPr>
          <a:xfrm>
            <a:off x="539640" y="2071800"/>
            <a:ext cx="8209080" cy="20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entury Gothic"/>
              </a:rPr>
              <a:t>SISTEMAS DE INFORMACIÓN GEOGRÁFICA, CONCEPTO DE TOPOLOGÍA.</a:t>
            </a:r>
            <a:endParaRPr b="0" lang="en-US" sz="2400" spc="-1" strike="noStrike">
              <a:solidFill>
                <a:srgbClr val="000000"/>
              </a:solidFill>
              <a:latin typeface="Calibri"/>
            </a:endParaRPr>
          </a:p>
        </p:txBody>
      </p:sp>
      <p:sp>
        <p:nvSpPr>
          <p:cNvPr id="502" name="Text Box 7"/>
          <p:cNvSpPr/>
          <p:nvPr/>
        </p:nvSpPr>
        <p:spPr>
          <a:xfrm>
            <a:off x="1476360" y="4367160"/>
            <a:ext cx="5759640" cy="10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CLAUDIO  FUENTES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                </a:t>
            </a:r>
            <a:r>
              <a:rPr b="0" lang="es-ES" sz="1600" spc="-1" strike="noStrike">
                <a:solidFill>
                  <a:srgbClr val="ffffff"/>
                </a:solidFill>
                <a:latin typeface="Century Gothic"/>
              </a:rPr>
              <a:t>	</a:t>
            </a:r>
            <a:r>
              <a:rPr b="0" lang="es-ES" sz="1600" spc="-1" strike="noStrike">
                <a:solidFill>
                  <a:srgbClr val="ffffff"/>
                </a:solidFill>
                <a:latin typeface="Century Gothic"/>
              </a:rPr>
              <a:t>	</a:t>
            </a:r>
            <a:r>
              <a:rPr b="0" lang="es-ES" sz="1600" spc="-1" strike="noStrike">
                <a:solidFill>
                  <a:srgbClr val="ffffff"/>
                </a:solidFill>
                <a:latin typeface="Century Gothic"/>
              </a:rPr>
              <a:t>         </a:t>
            </a:r>
            <a:r>
              <a:rPr b="0" lang="es-ES" sz="1600" spc="-1" strike="noStrike">
                <a:solidFill>
                  <a:srgbClr val="ffffff"/>
                </a:solidFill>
                <a:latin typeface="Century Gothic"/>
              </a:rPr>
              <a:t>Geógrafo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	</a:t>
            </a:r>
            <a:r>
              <a:rPr b="0" lang="es-ES" sz="1600" spc="-1" strike="noStrike">
                <a:solidFill>
                  <a:srgbClr val="ffffff"/>
                </a:solidFill>
                <a:latin typeface="Century Gothic"/>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	</a:t>
            </a:r>
            <a:endParaRPr b="0" lang="en-US" sz="1600" spc="-1" strike="noStrike">
              <a:solidFill>
                <a:srgbClr val="000000"/>
              </a:solidFill>
              <a:latin typeface="Calibri"/>
            </a:endParaRPr>
          </a:p>
        </p:txBody>
      </p:sp>
      <p:sp>
        <p:nvSpPr>
          <p:cNvPr id="503" name="10 Conector recto"/>
          <p:cNvSpPr/>
          <p:nvPr/>
        </p:nvSpPr>
        <p:spPr>
          <a:xfrm>
            <a:off x="2143080" y="4000680"/>
            <a:ext cx="52149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3920"/>
            <a:ext cx="8229600" cy="92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SISTEMAS DE INFORMACIÓN GEOGRÁFICA</a:t>
            </a:r>
            <a:endParaRPr b="0" lang="en-US" sz="2800" spc="-1" strike="noStrike">
              <a:solidFill>
                <a:srgbClr val="000000"/>
              </a:solidFill>
              <a:latin typeface="Calibri"/>
            </a:endParaRPr>
          </a:p>
        </p:txBody>
      </p:sp>
      <p:sp>
        <p:nvSpPr>
          <p:cNvPr id="505" name=""/>
          <p:cNvSpPr txBox="1"/>
          <p:nvPr/>
        </p:nvSpPr>
        <p:spPr>
          <a:xfrm>
            <a:off x="457200" y="979560"/>
            <a:ext cx="8229600" cy="56894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Un sistema de información geográfica es una </a:t>
            </a:r>
            <a:r>
              <a:rPr b="1" lang="es-ES" sz="2400" spc="-1" strike="noStrike">
                <a:solidFill>
                  <a:srgbClr val="ffffff"/>
                </a:solidFill>
                <a:latin typeface="Century Gothic"/>
              </a:rPr>
              <a:t>herramienta computacional para el mapeo y el análisis de los elementos y eventos que ocurren en la tierra</a:t>
            </a:r>
            <a:r>
              <a:rPr b="0" lang="es-ES" sz="2400" spc="-1" strike="noStrike">
                <a:solidFill>
                  <a:srgbClr val="ffffff"/>
                </a:solidFill>
                <a:latin typeface="Century Gothic"/>
              </a:rPr>
              <a:t>. La tecnología SIG integra operaciones comunes de </a:t>
            </a:r>
            <a:r>
              <a:rPr b="1" lang="es-ES" sz="2400" spc="-1" strike="noStrike">
                <a:solidFill>
                  <a:srgbClr val="ffffff"/>
                </a:solidFill>
                <a:latin typeface="Century Gothic"/>
              </a:rPr>
              <a:t>bases de datos</a:t>
            </a:r>
            <a:r>
              <a:rPr b="0" lang="es-ES" sz="2400" spc="-1" strike="noStrike">
                <a:solidFill>
                  <a:srgbClr val="ffffff"/>
                </a:solidFill>
                <a:latin typeface="Century Gothic"/>
              </a:rPr>
              <a:t>, tales como consultas y análisis estadísticos, con los beneficios propios de la </a:t>
            </a:r>
            <a:r>
              <a:rPr b="1" lang="es-ES" sz="2400" spc="-1" strike="noStrike">
                <a:solidFill>
                  <a:srgbClr val="ffffff"/>
                </a:solidFill>
                <a:latin typeface="Century Gothic"/>
              </a:rPr>
              <a:t>visualización y el análisis geográfico </a:t>
            </a:r>
            <a:r>
              <a:rPr b="0" lang="es-ES" sz="2400" spc="-1" strike="noStrike">
                <a:solidFill>
                  <a:srgbClr val="ffffff"/>
                </a:solidFill>
                <a:latin typeface="Century Gothic"/>
              </a:rPr>
              <a:t>que ofrecen las cartografías.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Estas capacidades distinguen los SIG de otros sistemas de información y lo hacen más valiosos para empresas públicas y privadas de diversa índole para explicar eventos, predecir salidas y en la planificación de estrategi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1 Título"/>
          <p:cNvSpPr/>
          <p:nvPr/>
        </p:nvSpPr>
        <p:spPr>
          <a:xfrm>
            <a:off x="457200" y="115920"/>
            <a:ext cx="8229600" cy="92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COMPONENTES DE UN SIG</a:t>
            </a:r>
            <a:endParaRPr b="0" lang="en-US" sz="2800" spc="-1" strike="noStrike">
              <a:solidFill>
                <a:srgbClr val="000000"/>
              </a:solidFill>
              <a:latin typeface="Calibri"/>
            </a:endParaRPr>
          </a:p>
        </p:txBody>
      </p:sp>
      <p:sp>
        <p:nvSpPr>
          <p:cNvPr id="507" name="2 Marcador de contenido"/>
          <p:cNvSpPr/>
          <p:nvPr/>
        </p:nvSpPr>
        <p:spPr>
          <a:xfrm>
            <a:off x="457200" y="3789360"/>
            <a:ext cx="8229600" cy="280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Datos: </a:t>
            </a:r>
            <a:r>
              <a:rPr b="0" lang="es-ES" sz="1600" spc="-1" strike="noStrike">
                <a:solidFill>
                  <a:srgbClr val="ffffff"/>
                </a:solidFill>
                <a:latin typeface="Century Gothic"/>
              </a:rPr>
              <a:t>Posiblemente los componentes más importantes de un SIG son los datos. Los datos geográficos y tabulares relacionados pueden colectarse en la empresa, campo o terreno o bien adquirirlos a un proveedor comercial de datos. Un SIG integrará datos espaciales con otras fuentes e incluso puede utilizar un DBMS para organizar, mantener y manejar los datos espaciales.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Personas: </a:t>
            </a:r>
            <a:r>
              <a:rPr b="0" lang="es-ES" sz="1600" spc="-1" strike="noStrike">
                <a:solidFill>
                  <a:srgbClr val="ffffff"/>
                </a:solidFill>
                <a:latin typeface="Century Gothic"/>
              </a:rPr>
              <a:t>La tecnología SIG está limitada sin las personas que administran el sistema y llevan a cabo los planes de desarrollo para aplicarlos a los problemas del mundo real.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Métodos:</a:t>
            </a:r>
            <a:r>
              <a:rPr b="0" lang="es-ES" sz="1600" spc="-1" strike="noStrike">
                <a:solidFill>
                  <a:srgbClr val="ffffff"/>
                </a:solidFill>
                <a:latin typeface="Century Gothic"/>
              </a:rPr>
              <a:t> Para que un SIG tenga éxito, éste debe operar de acuerdo a un plan bien estructurado y de acuerdo a reglas de la empresa, que son los modelos de las actividades propias de cada organización.</a:t>
            </a:r>
            <a:endParaRPr b="0" lang="en-US" sz="1600" spc="-1" strike="noStrike">
              <a:solidFill>
                <a:srgbClr val="000000"/>
              </a:solidFill>
              <a:latin typeface="Calibri"/>
            </a:endParaRPr>
          </a:p>
        </p:txBody>
      </p:sp>
      <p:pic>
        <p:nvPicPr>
          <p:cNvPr id="508" name="Picture 5" descr=""/>
          <p:cNvPicPr/>
          <p:nvPr/>
        </p:nvPicPr>
        <p:blipFill>
          <a:blip r:embed="rId1"/>
          <a:stretch/>
        </p:blipFill>
        <p:spPr>
          <a:xfrm>
            <a:off x="434880" y="765000"/>
            <a:ext cx="2955960" cy="2764080"/>
          </a:xfrm>
          <a:prstGeom prst="rect">
            <a:avLst/>
          </a:prstGeom>
          <a:ln w="0">
            <a:noFill/>
          </a:ln>
        </p:spPr>
      </p:pic>
      <p:sp>
        <p:nvSpPr>
          <p:cNvPr id="509" name="2 Marcador de contenido"/>
          <p:cNvSpPr/>
          <p:nvPr/>
        </p:nvSpPr>
        <p:spPr>
          <a:xfrm>
            <a:off x="3780000" y="1025640"/>
            <a:ext cx="4906800" cy="2690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Hardware:  </a:t>
            </a:r>
            <a:r>
              <a:rPr b="0" lang="es-ES" sz="1600" spc="-1" strike="noStrike">
                <a:solidFill>
                  <a:srgbClr val="ffffff"/>
                </a:solidFill>
                <a:latin typeface="Century Gothic"/>
              </a:rPr>
              <a:t>El hardware es el computador donde opera el SIG. Hoy, los SIG corren en una gran variedad de plataformas, que pueden variar desde servidores (computador central) a computadores desktop (de escritorio).</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Software: </a:t>
            </a:r>
            <a:r>
              <a:rPr b="0" lang="es-ES" sz="1600" spc="-1" strike="noStrike">
                <a:solidFill>
                  <a:srgbClr val="ffffff"/>
                </a:solidFill>
                <a:latin typeface="Century Gothic"/>
              </a:rPr>
              <a:t>El software SIG entrega las funciones y las herramientas que se requieren para almacenar, analizar y desplegar información geográfic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1 Título"/>
          <p:cNvSpPr/>
          <p:nvPr/>
        </p:nvSpPr>
        <p:spPr>
          <a:xfrm>
            <a:off x="457200" y="115920"/>
            <a:ext cx="8229600" cy="92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CÓMO FUNCIONA UN SIG</a:t>
            </a:r>
            <a:endParaRPr b="0" lang="en-US" sz="2800" spc="-1" strike="noStrike">
              <a:solidFill>
                <a:srgbClr val="000000"/>
              </a:solidFill>
              <a:latin typeface="Calibri"/>
            </a:endParaRPr>
          </a:p>
        </p:txBody>
      </p:sp>
      <p:sp>
        <p:nvSpPr>
          <p:cNvPr id="511" name="2 Marcador de contenido"/>
          <p:cNvSpPr/>
          <p:nvPr/>
        </p:nvSpPr>
        <p:spPr>
          <a:xfrm>
            <a:off x="471600" y="4005360"/>
            <a:ext cx="8229600" cy="259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La información geográfica contiene una </a:t>
            </a:r>
            <a:r>
              <a:rPr b="1" lang="es-ES" sz="1600" spc="-1" strike="noStrike">
                <a:solidFill>
                  <a:srgbClr val="ffffff"/>
                </a:solidFill>
                <a:latin typeface="Century Gothic"/>
              </a:rPr>
              <a:t>referencia geográfica explícita tal como la latitud y la longitud, coordenadas nacionales </a:t>
            </a:r>
            <a:r>
              <a:rPr b="0" lang="es-ES" sz="1600" spc="-1" strike="noStrike">
                <a:solidFill>
                  <a:srgbClr val="ffffff"/>
                </a:solidFill>
                <a:latin typeface="Century Gothic"/>
              </a:rPr>
              <a:t>o una referencia implícita tal como una </a:t>
            </a:r>
            <a:r>
              <a:rPr b="1" lang="es-ES" sz="1600" spc="-1" strike="noStrike">
                <a:solidFill>
                  <a:srgbClr val="ffffff"/>
                </a:solidFill>
                <a:latin typeface="Century Gothic"/>
              </a:rPr>
              <a:t>dirección, un código postal, el nombre de un área censal, el identificador de un área boscosa o el nombre de un camino</a:t>
            </a:r>
            <a:r>
              <a:rPr b="0" lang="es-ES" sz="1600" spc="-1" strike="noStrike">
                <a:solidFill>
                  <a:srgbClr val="ffffff"/>
                </a:solidFill>
                <a:latin typeface="Century Gothic"/>
              </a:rPr>
              <a:t>.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Para crear referencias geográficas explícitas (múltiples ubicaciones) a partir de referencias implícitas (descripciones tales como direcciones) se utiliza un proceso automatizado llamado </a:t>
            </a:r>
            <a:r>
              <a:rPr b="1" lang="es-ES" sz="1600" spc="-1" strike="noStrike">
                <a:solidFill>
                  <a:srgbClr val="ffffff"/>
                </a:solidFill>
                <a:latin typeface="Century Gothic"/>
              </a:rPr>
              <a:t>geocodificación</a:t>
            </a:r>
            <a:r>
              <a:rPr b="0" lang="es-ES" sz="1600" spc="-1" strike="noStrike">
                <a:solidFill>
                  <a:srgbClr val="ffffff"/>
                </a:solidFill>
                <a:latin typeface="Century Gothic"/>
              </a:rPr>
              <a:t>. Estas referencias geográficas permiten localizar elementos en la superficie terrestre para ser analizados, por ejemplo, el stand de un negocio, bosques o eventos tales como un terremoto.</a:t>
            </a:r>
            <a:endParaRPr b="0" lang="en-US" sz="1600" spc="-1" strike="noStrike">
              <a:solidFill>
                <a:srgbClr val="000000"/>
              </a:solidFill>
              <a:latin typeface="Calibri"/>
            </a:endParaRPr>
          </a:p>
        </p:txBody>
      </p:sp>
      <p:pic>
        <p:nvPicPr>
          <p:cNvPr id="512" name="Picture 5" descr=""/>
          <p:cNvPicPr/>
          <p:nvPr/>
        </p:nvPicPr>
        <p:blipFill>
          <a:blip r:embed="rId1"/>
          <a:stretch/>
        </p:blipFill>
        <p:spPr>
          <a:xfrm>
            <a:off x="471600" y="735120"/>
            <a:ext cx="2847960" cy="2981160"/>
          </a:xfrm>
          <a:prstGeom prst="rect">
            <a:avLst/>
          </a:prstGeom>
          <a:ln w="0">
            <a:noFill/>
          </a:ln>
        </p:spPr>
      </p:pic>
      <p:sp>
        <p:nvSpPr>
          <p:cNvPr id="513" name="1 Rectángulo"/>
          <p:cNvSpPr/>
          <p:nvPr/>
        </p:nvSpPr>
        <p:spPr>
          <a:xfrm>
            <a:off x="3564000" y="981000"/>
            <a:ext cx="45720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Un SIG almacena la información en capas temáticas que pueden enlazarse geográficamente</a:t>
            </a:r>
            <a:r>
              <a:rPr b="0" lang="es-ES" sz="1600" spc="-1" strike="noStrike">
                <a:solidFill>
                  <a:srgbClr val="ffffff"/>
                </a:solidFill>
                <a:latin typeface="Century Gothic"/>
              </a:rPr>
              <a:t>. Este concepto simple pero extremadamente poderoso y versátil ha probado ser critico en la resolución de muchos problemas que van desde el rastreo de vehículos de reparto, registrando los detalles de la aplicación de planificación hasta el modelamiento de la circulación atmosférica globa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1 Título"/>
          <p:cNvSpPr/>
          <p:nvPr/>
        </p:nvSpPr>
        <p:spPr>
          <a:xfrm>
            <a:off x="457200" y="115920"/>
            <a:ext cx="8229600" cy="92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MODELOS GEOGRAFICOS UTILIZADOS EN SIG</a:t>
            </a:r>
            <a:endParaRPr b="0" lang="en-US" sz="2800" spc="-1" strike="noStrike">
              <a:solidFill>
                <a:srgbClr val="000000"/>
              </a:solidFill>
              <a:latin typeface="Calibri"/>
            </a:endParaRPr>
          </a:p>
        </p:txBody>
      </p:sp>
      <p:pic>
        <p:nvPicPr>
          <p:cNvPr id="515" name="Picture 5" descr=""/>
          <p:cNvPicPr/>
          <p:nvPr/>
        </p:nvPicPr>
        <p:blipFill>
          <a:blip r:embed="rId1"/>
          <a:stretch/>
        </p:blipFill>
        <p:spPr>
          <a:xfrm>
            <a:off x="471600" y="836640"/>
            <a:ext cx="2847960" cy="3505320"/>
          </a:xfrm>
          <a:prstGeom prst="rect">
            <a:avLst/>
          </a:prstGeom>
          <a:ln w="0">
            <a:noFill/>
          </a:ln>
        </p:spPr>
      </p:pic>
      <p:sp>
        <p:nvSpPr>
          <p:cNvPr id="516" name="1 Rectángulo"/>
          <p:cNvSpPr/>
          <p:nvPr/>
        </p:nvSpPr>
        <p:spPr>
          <a:xfrm>
            <a:off x="3708360" y="836640"/>
            <a:ext cx="49784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Los sistemas de información geográfica trabajan con dos tipos fundamentales de modelos geográficos, el “modelo vector” y el “modelo rást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En el modelo vector, la información de puntos, líneas y polígonos es codificada y almacenada como </a:t>
            </a:r>
            <a:r>
              <a:rPr b="1" lang="es-ES" sz="1800" spc="-1" strike="noStrike">
                <a:solidFill>
                  <a:srgbClr val="ffffff"/>
                </a:solidFill>
                <a:latin typeface="Century Gothic"/>
              </a:rPr>
              <a:t>una colección de coordenadas (x,y). </a:t>
            </a:r>
            <a:r>
              <a:rPr b="0" lang="es-ES" sz="1800" spc="-1" strike="noStrike">
                <a:solidFill>
                  <a:srgbClr val="ffffff"/>
                </a:solidFill>
                <a:latin typeface="Century Gothic"/>
              </a:rPr>
              <a:t>La ubicación de un elemento punto puede ser descrito como una simple coordenada (x,y). Los elementos lineales tales como caminos y ríos pueden ser almacenados como una colección de coordenadas de puntos. </a:t>
            </a:r>
            <a:endParaRPr b="0" lang="en-US" sz="1800" spc="-1" strike="noStrike">
              <a:solidFill>
                <a:srgbClr val="000000"/>
              </a:solidFill>
              <a:latin typeface="Calibri"/>
            </a:endParaRPr>
          </a:p>
        </p:txBody>
      </p:sp>
      <p:sp>
        <p:nvSpPr>
          <p:cNvPr id="517" name="2 Rectángulo"/>
          <p:cNvSpPr/>
          <p:nvPr/>
        </p:nvSpPr>
        <p:spPr>
          <a:xfrm>
            <a:off x="471600" y="4724280"/>
            <a:ext cx="8215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Los elementos poligonales, por ejemplo territorios de venta o cuencas de ríos, pueden guardarse como loops cerrados de las coordenadas. El modelo vectorial es extremadamente útil para describir elementos </a:t>
            </a:r>
            <a:r>
              <a:rPr b="1" lang="es-ES" sz="1800" spc="-1" strike="noStrike">
                <a:solidFill>
                  <a:srgbClr val="ffffff"/>
                </a:solidFill>
                <a:latin typeface="Century Gothic"/>
              </a:rPr>
              <a:t>discretos</a:t>
            </a:r>
            <a:r>
              <a:rPr b="0" lang="es-ES" sz="1800" spc="-1" strike="noStrike">
                <a:solidFill>
                  <a:srgbClr val="ffffff"/>
                </a:solidFill>
                <a:latin typeface="Century Gothic"/>
              </a:rPr>
              <a:t>, pero no lo es tanto para describir elementos de variabilidad continua como los tipos de suelos o el costo de accesibilidad de un hospit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1 Título"/>
          <p:cNvSpPr/>
          <p:nvPr/>
        </p:nvSpPr>
        <p:spPr>
          <a:xfrm>
            <a:off x="457200" y="115920"/>
            <a:ext cx="8229600" cy="92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MODELOS GEOGRÁFICOS UTILIZADOS EN SIG</a:t>
            </a:r>
            <a:endParaRPr b="0" lang="en-US" sz="2800" spc="-1" strike="noStrike">
              <a:solidFill>
                <a:srgbClr val="000000"/>
              </a:solidFill>
              <a:latin typeface="Calibri"/>
            </a:endParaRPr>
          </a:p>
        </p:txBody>
      </p:sp>
      <p:pic>
        <p:nvPicPr>
          <p:cNvPr id="519" name="Picture 5" descr=""/>
          <p:cNvPicPr/>
          <p:nvPr/>
        </p:nvPicPr>
        <p:blipFill>
          <a:blip r:embed="rId1"/>
          <a:stretch/>
        </p:blipFill>
        <p:spPr>
          <a:xfrm>
            <a:off x="395280" y="1187280"/>
            <a:ext cx="3225960" cy="3970440"/>
          </a:xfrm>
          <a:prstGeom prst="rect">
            <a:avLst/>
          </a:prstGeom>
          <a:ln w="0">
            <a:noFill/>
          </a:ln>
        </p:spPr>
      </p:pic>
      <p:sp>
        <p:nvSpPr>
          <p:cNvPr id="520" name="1 Rectángulo"/>
          <p:cNvSpPr/>
          <p:nvPr/>
        </p:nvSpPr>
        <p:spPr>
          <a:xfrm>
            <a:off x="3995640" y="1197000"/>
            <a:ext cx="45720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El modelo ráster ha evolucionado para modelar </a:t>
            </a:r>
            <a:r>
              <a:rPr b="1" lang="es-ES" sz="2000" spc="-1" strike="noStrike">
                <a:solidFill>
                  <a:srgbClr val="ffffff"/>
                </a:solidFill>
                <a:latin typeface="Century Gothic"/>
              </a:rPr>
              <a:t>elementos continuo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Una imagen ráster está integrada por una colección de celdas (grillas) más bien como una cartografía o foto escaneada compuesta por cuadrículas llamadas </a:t>
            </a:r>
            <a:r>
              <a:rPr b="1" lang="es-ES" sz="2000" spc="-1" strike="noStrike">
                <a:solidFill>
                  <a:srgbClr val="ffffff"/>
                </a:solidFill>
                <a:latin typeface="Century Gothic"/>
              </a:rPr>
              <a:t>píxeles</a:t>
            </a:r>
            <a:r>
              <a:rPr b="0" lang="es-ES" sz="2000" spc="-1" strike="noStrike">
                <a:solidFill>
                  <a:srgbClr val="ffffff"/>
                </a:solidFill>
                <a:latin typeface="Century Gothic"/>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Tanto los modelos ráster como los vectoriales poseen ventajas y desventajas propias para el almacenamiento de datos geográficos. Los SIG modernos tienen la capacidad de manejar ambos modelo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1 Título"/>
          <p:cNvSpPr/>
          <p:nvPr/>
        </p:nvSpPr>
        <p:spPr>
          <a:xfrm>
            <a:off x="457200" y="115920"/>
            <a:ext cx="8229600" cy="92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CONCEPTO DE TOPOLOGÍA</a:t>
            </a:r>
            <a:endParaRPr b="0" lang="en-US" sz="2800" spc="-1" strike="noStrike">
              <a:solidFill>
                <a:srgbClr val="000000"/>
              </a:solidFill>
              <a:latin typeface="Calibri"/>
            </a:endParaRPr>
          </a:p>
        </p:txBody>
      </p:sp>
      <p:sp>
        <p:nvSpPr>
          <p:cNvPr id="522" name="2 Marcador de contenido"/>
          <p:cNvSpPr/>
          <p:nvPr/>
        </p:nvSpPr>
        <p:spPr>
          <a:xfrm>
            <a:off x="471600" y="1125360"/>
            <a:ext cx="8229600" cy="3009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La topología es probablemente la más joven de las ramas clásicas de las matemáticas. En contraste con el álgebra, la geometría y la teoría de los números, cuyas genealogías datan de tiempos antiguos, la topología aparece en el siglo diecisiete, con el nombre de analysis situs, esto es, análisis de la posición.</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De manera informal, la topología se ocupa de aquellas propiedades de las figuras que permanecen invariantes, cuando dichas figuras son plegadas, dilatadas, contraídas o deformadas, de modo que no aparezcan nuevos puntos, o se hagan coincidir puntos diferentes.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De esta forma, la abstracción del espacio plano en términos topológicos puede ser expresada mediante el modelo de grafos:</a:t>
            </a:r>
            <a:endParaRPr b="0" lang="en-US" sz="1600" spc="-1" strike="noStrike">
              <a:solidFill>
                <a:srgbClr val="000000"/>
              </a:solidFill>
              <a:latin typeface="Calibri"/>
            </a:endParaRPr>
          </a:p>
        </p:txBody>
      </p:sp>
      <p:pic>
        <p:nvPicPr>
          <p:cNvPr id="523" name="Picture 4" descr=""/>
          <p:cNvPicPr/>
          <p:nvPr/>
        </p:nvPicPr>
        <p:blipFill>
          <a:blip r:embed="rId1"/>
          <a:stretch/>
        </p:blipFill>
        <p:spPr>
          <a:xfrm>
            <a:off x="755640" y="4135320"/>
            <a:ext cx="3384720" cy="2489400"/>
          </a:xfrm>
          <a:prstGeom prst="rect">
            <a:avLst/>
          </a:prstGeom>
          <a:ln w="0">
            <a:noFill/>
          </a:ln>
        </p:spPr>
      </p:pic>
      <p:pic>
        <p:nvPicPr>
          <p:cNvPr id="524" name="Picture 5" descr=""/>
          <p:cNvPicPr/>
          <p:nvPr/>
        </p:nvPicPr>
        <p:blipFill>
          <a:blip r:embed="rId2"/>
          <a:stretch/>
        </p:blipFill>
        <p:spPr>
          <a:xfrm>
            <a:off x="5060880" y="4213080"/>
            <a:ext cx="2319480" cy="2306880"/>
          </a:xfrm>
          <a:prstGeom prst="rect">
            <a:avLst/>
          </a:prstGeom>
          <a:ln w="0">
            <a:noFill/>
          </a:ln>
        </p:spPr>
      </p:pic>
      <p:sp>
        <p:nvSpPr>
          <p:cNvPr id="525" name="1 CuadroTexto"/>
          <p:cNvSpPr/>
          <p:nvPr/>
        </p:nvSpPr>
        <p:spPr>
          <a:xfrm>
            <a:off x="5079960" y="5195880"/>
            <a:ext cx="28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a:t>
            </a:r>
            <a:endParaRPr b="0" lang="en-US" sz="1800" spc="-1" strike="noStrike">
              <a:solidFill>
                <a:srgbClr val="000000"/>
              </a:solidFill>
              <a:latin typeface="Calibri"/>
            </a:endParaRPr>
          </a:p>
        </p:txBody>
      </p:sp>
      <p:sp>
        <p:nvSpPr>
          <p:cNvPr id="526" name="6 CuadroTexto"/>
          <p:cNvSpPr/>
          <p:nvPr/>
        </p:nvSpPr>
        <p:spPr>
          <a:xfrm>
            <a:off x="6372360" y="6083280"/>
            <a:ext cx="28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B</a:t>
            </a:r>
            <a:endParaRPr b="0" lang="en-US" sz="1800" spc="-1" strike="noStrike">
              <a:solidFill>
                <a:srgbClr val="000000"/>
              </a:solidFill>
              <a:latin typeface="Calibri"/>
            </a:endParaRPr>
          </a:p>
        </p:txBody>
      </p:sp>
      <p:sp>
        <p:nvSpPr>
          <p:cNvPr id="527" name="7 CuadroTexto"/>
          <p:cNvSpPr/>
          <p:nvPr/>
        </p:nvSpPr>
        <p:spPr>
          <a:xfrm>
            <a:off x="7020000" y="5084640"/>
            <a:ext cx="28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a:t>
            </a:r>
            <a:endParaRPr b="0" lang="en-US" sz="1800" spc="-1" strike="noStrike">
              <a:solidFill>
                <a:srgbClr val="000000"/>
              </a:solidFill>
              <a:latin typeface="Calibri"/>
            </a:endParaRPr>
          </a:p>
        </p:txBody>
      </p:sp>
      <p:sp>
        <p:nvSpPr>
          <p:cNvPr id="528" name="8 CuadroTexto"/>
          <p:cNvSpPr/>
          <p:nvPr/>
        </p:nvSpPr>
        <p:spPr>
          <a:xfrm>
            <a:off x="6370560" y="4213080"/>
            <a:ext cx="28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a:t>
            </a:r>
            <a:endParaRPr b="0" lang="en-US" sz="1800" spc="-1" strike="noStrike">
              <a:solidFill>
                <a:srgbClr val="000000"/>
              </a:solidFill>
              <a:latin typeface="Calibri"/>
            </a:endParaRPr>
          </a:p>
        </p:txBody>
      </p:sp>
      <p:pic>
        <p:nvPicPr>
          <p:cNvPr id="529" name="9 Imagen" descr=""/>
          <p:cNvPicPr/>
          <p:nvPr/>
        </p:nvPicPr>
        <p:blipFill>
          <a:blip r:embed="rId3"/>
          <a:stretch/>
        </p:blipFill>
        <p:spPr>
          <a:xfrm>
            <a:off x="1763640" y="1074600"/>
            <a:ext cx="5040360" cy="403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9"/>
                                        </p:tgtEl>
                                        <p:attrNameLst>
                                          <p:attrName>style.visibility</p:attrName>
                                        </p:attrNameLst>
                                      </p:cBhvr>
                                      <p:to>
                                        <p:strVal val="visible"/>
                                      </p:to>
                                    </p:set>
                                    <p:animEffect filter="fade" transition="in">
                                      <p:cBhvr additive="repl">
                                        <p:cTn id="7"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2 Imagen" descr=""/>
          <p:cNvPicPr/>
          <p:nvPr/>
        </p:nvPicPr>
        <p:blipFill>
          <a:blip r:embed="rId1"/>
          <a:stretch/>
        </p:blipFill>
        <p:spPr>
          <a:xfrm>
            <a:off x="457200" y="512640"/>
            <a:ext cx="3638520" cy="2911680"/>
          </a:xfrm>
          <a:prstGeom prst="rect">
            <a:avLst/>
          </a:prstGeom>
          <a:ln w="0">
            <a:noFill/>
          </a:ln>
        </p:spPr>
      </p:pic>
      <p:sp>
        <p:nvSpPr>
          <p:cNvPr id="531" name="1 Título"/>
          <p:cNvSpPr/>
          <p:nvPr/>
        </p:nvSpPr>
        <p:spPr>
          <a:xfrm>
            <a:off x="457200" y="44280"/>
            <a:ext cx="8229600" cy="92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TIPOS DE GEOMETRÍAS</a:t>
            </a:r>
            <a:endParaRPr b="0" lang="en-US" sz="2800" spc="-1" strike="noStrike">
              <a:solidFill>
                <a:srgbClr val="000000"/>
              </a:solidFill>
              <a:latin typeface="Calibri"/>
            </a:endParaRPr>
          </a:p>
        </p:txBody>
      </p:sp>
      <p:sp>
        <p:nvSpPr>
          <p:cNvPr id="532" name="2 Marcador de contenido"/>
          <p:cNvSpPr/>
          <p:nvPr/>
        </p:nvSpPr>
        <p:spPr>
          <a:xfrm>
            <a:off x="457200" y="3429000"/>
            <a:ext cx="8229600" cy="3009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La topología es probablemente la más joven de las ramas clásicas de las matemáticas. En contraste con el álgebra, la geometría y la teoría de los números, cuyas genealogías datan de tiempos antiguos, la topología aparece en el siglo diecisiete, con el nombre de analysis situs, esto es, análisis de la posición.</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De manera informal, la topología se ocupa de aquellas propiedades de las figuras que permanecen invariantes, cuando dichas figuras son plegadas, dilatadas, contraídas o deformadas, de modo que no aparezcan nuevos puntos, o se hagan coincidir puntos diferentes.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De esta forma, la abstracción del espacio plano en términos topológicos puede ser expresada mediante el modelo de grafo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17:30:53Z</dcterms:created>
  <dc:creator>Claudio LABMYT</dc:creator>
  <dc:description/>
  <dc:language>en-US</dc:language>
  <cp:lastModifiedBy>Labmyt</cp:lastModifiedBy>
  <dcterms:modified xsi:type="dcterms:W3CDTF">2011-03-28T13:57:22Z</dcterms:modified>
  <cp:revision>23</cp:revision>
  <dc:subject/>
  <dc:title>Presentación de PowerPoint</dc:title>
</cp:coreProperties>
</file>