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1.png" ContentType="image/png"/>
  <Override PartName="/ppt/media/image19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41.jpeg" ContentType="image/jpeg"/>
  <Override PartName="/ppt/media/image42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916280" y="573120"/>
            <a:ext cx="3025440" cy="22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2916360"/>
            <a:ext cx="5486400" cy="55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7E91-FC7D-49D6-8BD7-8BD43CC2D2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57FB-18DA-4C91-B4BF-DE76D29BC6D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E675-5D99-41BE-86DE-C1E0371D2E6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1E9E-4E25-4689-A83F-31600B51BDB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1D75-AADD-400C-9805-DD098B770A3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CA3E-6A45-4EBB-AD64-38739807D1B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2466-D68B-44CF-8F94-660371F6B49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00AB-78F6-4935-89F0-30FD4E9ACED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5860-325F-4261-B9A7-A4129351342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7755-0848-4287-9FD6-84B0151DF46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EEF0-ABA7-46D5-B6A9-FA797BCDCDA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31BD-201A-4891-929F-C3EEDB88A45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7C7D-F82E-4A8E-B778-42972FAE95D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1634-0800-4DCC-93B3-FF204EE970B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FAD3-F4EC-4559-8855-0BD678ADE85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2E4E-666A-4391-B2FD-2A21AEF7AE1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F542-3450-486F-AB2A-978AA15BFD1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6EC5-3D6B-4944-8C0A-E75A38BC648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3FE9-789F-41CC-B694-F5899CCB6EE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AD86-ADE8-4686-82E9-D1728D83BF3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0BA9-196C-496B-82F7-3F20A89EE82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15DA-18B6-4CB8-97FB-598817583B2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83FA-E89D-4B01-9BA5-708EEC2F94E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C429-BF63-434B-8185-C10B3383C3F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D558-12F0-4343-9006-AE99C177E0C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C905-0E55-4118-BCC8-B31028EF877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366F-8EA4-4084-9759-13622D29369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995C-1FEB-44CA-BCA7-F9D717EDEAD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6129-3F41-4491-895F-F0CD3E9284A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8CA3-1B27-427B-9236-EAFA3190AF6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A23E-CC88-478C-9C16-D0BCC5AB3CC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7557-4EF9-4CB8-848D-C676B6F2377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6EB6-E0DE-4B79-A47D-C5C0A0F7AE2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F642-8507-463F-B8EE-67C75564277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73BA-E82F-4C7F-BF12-E22262BD4FD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D561-F42C-4D4C-854E-F30A9E7EA36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869E-0C3F-4A55-95F3-96C4C05EF2D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F7CB-361E-481C-80AC-FB893CD5CFE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1921-BE99-40A8-8608-59F1E8A5545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A993-B68D-4155-A7E0-121456AFEDA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AECD-D9DF-4D49-B262-259B0024630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1764-01C2-45E4-AA1E-12B99E5A0AB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0B06-58BF-45BB-8AA3-505AD69A4D0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916280" y="573120"/>
            <a:ext cx="3025440" cy="22701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2916360"/>
            <a:ext cx="5486400" cy="55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nque el propósito principal de Photoshop es la edición fotográfica, este también puede ser usado para crear imágenes, efectos, gráficos y más en muy buena calidad. Aunque para determinados trabajos que requieren el uso de gráficos vectoriales es más aconsejable utilizar Adobe 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Illustrat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tre las alternativas a este programa, existen algunos programas libres como 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GIMP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orientada a la edición fotográfica en general, o propietarios como 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PhotoPain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Corel, capaz de trabajar con cualquier característica de los archivos de Photoshop, y también con sus filtros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lugi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556F-0C5D-458B-9E2F-0222EAF00D8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2916360"/>
            <a:ext cx="5486400" cy="55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FB09-448C-45FD-BFDA-4CF0BF1F636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F7C8-FD49-4734-AF9F-E84CF2F1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621-7083-4B6C-AF64-B9BEA256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E3A06-62E6-40C8-9720-5023C6C3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8834E-6C39-47B7-A6AC-E20F891A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4B462-8289-45EE-9F5E-2B0A0D30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C0E68-C85F-41F5-A4CD-F6827D35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38885-89F9-4E09-A6E5-D94393A4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9D864-1586-47BC-8F8F-1648C76F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615CC-BB63-4734-A073-6F91DAF8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CA945-65F2-4B8E-B742-488144F3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2DEBA-FA8D-41DA-9DB7-E24912F6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71A91-4CF8-4580-9808-9DA80ACC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EAB-20CD-40F6-BA69-BC68A305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EDAD3-74D1-4EEC-8BAB-D6AFD29E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CA1BC-01C4-432E-93FC-114EFE24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85E07-648C-4103-9421-39556FFF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F450D-2ADF-4C66-9E9B-4C0DEC56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7421E-C150-4ABD-826A-47F8D5D8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92F17-C8D9-45E1-89EB-1EF70015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6B58C-1A5F-4EB3-9658-A30DED58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B668B-99D0-4632-B594-21AAEBE1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9C964-4228-4AA4-ABEA-F747A7BD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B4A46-058D-4A35-BAB1-F70B0D70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C1B-AE4E-4942-A703-FFA643A2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03A2B-8096-4D3F-8677-A980A2B8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4AC19-F344-4F8D-A8CE-576667B8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AA223-EA63-4C76-8E8A-1B3826A0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7D70D-332F-4FD8-88EB-7660D12A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5691F-B74C-4F0E-85F3-2289D9AE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19547-7596-4804-96BC-8F0D2648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D27D4-C7A2-45F3-9FEA-3C02BD71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037D3-6D03-4E79-A8C6-70E3D01E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8BA46-3C7B-4ACC-9A9C-6BC75E15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D48D2-874D-4F54-B5C8-2DA046B0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A7E3-77E3-40BE-B2BA-94E23673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990B5-A7E0-4C80-ABC9-C5C8BE4E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27F39-4305-4EC6-981D-DD962342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128E0-A578-4F22-B78E-FD17BD49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26A07-9AB5-4F5D-897A-B45A2D64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BFE6B-242E-4D99-B4BD-C520369E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4913C-D952-4E3E-B241-8026D1D9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13F30-5E07-4CF9-8FA7-B894F0CB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861AD-47C5-4687-901F-8977A6F2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6B6B5-4D81-49F6-9F2D-3DFDBC79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F859F-1F14-4912-AC53-25835CA1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F471-E2D3-4EF6-8BDF-536C851D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838D0-CA5A-47EB-8F5D-9C62D5CB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4C03E-1DD4-4A95-B949-431FBF0E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EDF64-6973-4AA1-8A29-9257B063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1EB58-1C08-4046-98B8-767E0343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349BB-7F80-4397-8C3C-539C0AD5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0A908-32A6-4348-BEC4-05DDA613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FFEF7-21D3-43B3-BDC7-F81FFBCC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9B5CB-8D0A-4CCE-B72B-F9B34996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A9E15-8143-4FE6-B264-4D8D62CB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27222-66A2-4B38-899D-4B82B13C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C860-F60B-4B66-8FA7-FB6CBC75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5E957-1C0C-4D6A-AE8E-2741A072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60F18-F3CA-4B01-8160-2C78C6EA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7FB6EC-032B-48FE-A5AA-049E2A78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D94A5-9822-43D0-9A42-F593B88E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37CA67-CF6B-4781-A6B6-0069F95C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C00EE-B93B-4041-9EB1-0C9B652F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132BD-4555-4E02-A74D-B289E167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6CC5FA-DFFC-4CD8-909A-269A24F1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D589E1-2BB8-45D1-9747-1DA94545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AD382-5167-4822-97B5-F6707ABB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CE08-9495-4FC5-A0A3-0E35C9AC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46338-5864-4045-8901-7F4314BF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7E028-B56C-450C-839D-00A252BF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E4D9A9-89E5-45AD-8CF5-854AA94B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A56FC6-9CD1-4156-8434-601ED837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9FD3CF-E78B-4523-A1E0-52C34749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746E5E-ACCF-45BC-92CD-55EEB244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4200BB-48E7-4E20-8127-B3529E2B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B11071-650A-4CB9-A6B8-D3932D8B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ECE6EA-4E61-4A19-AC3B-102BFB07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CD9D-C21A-4397-865B-7DC2838C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ADED-3A55-4819-8D3E-76CE0676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5F32-9BFD-4CA4-B48B-166DFCC6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4C30-FF93-4CBA-9D6F-FB491124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0DC6-CF5D-4D60-9290-722BAD95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81EF-EBDD-4975-8CF0-B8869B98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6E7E-648A-47E3-A31D-5DC37B70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9B4F-13B4-416A-A09C-400CCB84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318D-23D6-4E43-9B2B-94664550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60CBB-A13D-466E-A71A-619DAD7A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C313-F42C-4EC1-BA41-D26868DA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78960-7C10-4CCD-9824-CDA6DB66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BD378-C14C-4350-A222-A6FFDFA5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7D622-4DA2-462C-8862-2FE706C1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F94-5C6B-4C6A-B009-C74CCC67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D8777-57B6-4E2B-9C2E-BAF4F971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02F85-0BA9-4703-853B-B88F3823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F8504-DCAA-42ED-8270-619128F2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EE6D4-0A1C-49DA-A09A-9A905334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EE7B2-F41E-41C2-8AEF-DFC3EF5A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1E713-D4C2-472F-9B3C-1FA9F84B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BF496-7137-49B4-B2CC-E4AA7011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A304D-B460-4E34-B205-17167E5F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62FE1-8705-4656-AC6A-4DDDB8FC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CEEB6-C300-4AC2-8B0A-93621CC8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452-07E9-4930-8E19-8C8AC2C7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23BE5-2263-4B21-A799-E6699BD9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9D4CB-81CD-4706-A10B-0403BD5F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6B8CA-6B65-4EA7-A1C6-3729BE9F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F2E9B-CFC0-4AAA-A48E-ADE8227B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4A115-8ADE-4BD8-91DB-D3D010B1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3F7D1-6645-4B48-BCD3-34402CA3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6097B-8E52-4AD5-B8D1-58617059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6FA55-E425-4664-A3D4-B51F0C3B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23842-4E40-43B1-A8E4-43D0B5A2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E1F41-DF6C-4D4A-BC1C-88E3A3B1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E29D-5CCE-456E-9464-94336002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2082B-BDB4-4F00-BB4D-E6863C70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1159D-B68E-4E76-8735-7027E3BC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3380D-D6FE-4BD9-B819-81B4617D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79137-41FB-4593-B074-936E8F23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BBE65-B43A-4653-A1E4-5DF0A6B8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1DEDE-78E6-455D-916D-9242908E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B2140-7486-4BA3-B2BF-27F2FD44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339BF-23D0-4209-8BED-065B6339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2C587-AB31-4045-BA18-D96D5C4D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FEE01-B8D2-4C83-846A-CCCB69A2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CE1-F75B-4430-9E0E-0D6B0AB7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0F30E-1BC5-4270-B3EA-BA65F125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E0030-0512-4282-A1E4-46C80C34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A927A-130E-4149-ACBD-AF3B08A9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36216-BB3D-46AE-9A3E-DFE5969D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C3C2D-66E5-4D86-B3F8-062CA7AF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1C545-0E20-4674-8AB1-CFBFF108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EF1E2-02D4-4C8C-91B9-D7DA6977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DEDDE-ADAF-4D43-81B1-F77E97F0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4ED2B-113C-43C8-A725-6482F79C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60C74-27B6-421E-8E3B-AE57F3AF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2C3-C56E-4D3C-B33F-FDDF682B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FB4C3-CA6E-49C2-B03E-535DCBDE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66C9E-DECE-40B3-AEDA-D6562794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7473B-2F89-4C2F-B493-BF174ED9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2A175-F2D0-480B-9815-3590ECEB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5B733-922A-4A05-BB9A-EA336D9D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C3971-F5C9-473F-8FD6-710EE16A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7529A-EE40-413C-80D9-7592F84C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12853-560E-4967-9006-D7B26762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7C2BB-B111-4FC4-B92C-DBD299BB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1E19B-AB60-4D42-8789-3F6D3021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86B8-9A8E-4067-AA28-3A360ABC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F5B87-C72B-4838-AE4F-6D50ABD0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C9512-7F0A-4201-A054-8469DD0A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A23D2-3FF7-4F41-A62B-A3003F31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F7453-7389-4240-BF8C-B5D112BD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519E9-B91E-46CD-BDC1-9FB61EE2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40F13-1B0E-4956-B0B8-D07D75B1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E4FB5-9594-4D67-AB40-E9B223BF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B4CFB-5FD3-43B3-B86A-5DB8F0C2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CC36A-2784-4528-9153-5A4FB800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51F4C-EBD3-46DB-AD72-CF488E47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281-649D-4AF9-AA3C-59624295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DB0EE-68AE-4DE8-850C-87DC6344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12719-7B8E-43EA-97EB-8E5B7BE8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EC778-5349-44EB-85C3-60AFC093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B60BC-E36D-4BE3-9759-113ED1DB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2BB34-09CC-4689-83E3-143B9894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7787D-2CA5-4C34-9F68-6BFE1323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5E029-8046-4C57-B32D-D2B0CB69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D8237-99F5-45E5-8203-AED0EB61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2E874-AE3D-4FBB-BFCA-25936D6C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FFD40-07BB-4403-9518-49431DA2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DB01-688A-4CC8-A4B4-55125BEF6E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7459-2CC8-4125-8BD5-248A658CC2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2ED7-A8A6-4D7A-8C32-D9D9EC974B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9C28-863E-4AC9-A56F-27E367D0B7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4E60-57AB-41FB-A1EE-A290E834BE1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2618-4F24-43FF-B7A1-83DE9B40B20F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CC3C-2B0C-4376-BA5D-A06C25EE04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AA08-74A2-46A8-B763-B7158C9514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74DB-3F27-49F0-AD35-7B937BD53D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DF02-F6F2-4C3A-BC92-671CA64E07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8916-828B-4D37-A3E6-95A86B785DC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6DCE-D293-4C2E-BDEF-48B1CE6904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2ECA-37E1-4B81-9109-E1569E1526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564B-5420-44F0-B0EA-7F552172F54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4" descr=""/>
          <p:cNvPicPr/>
          <p:nvPr/>
        </p:nvPicPr>
        <p:blipFill>
          <a:blip r:embed="rId1"/>
          <a:stretch/>
        </p:blipFill>
        <p:spPr>
          <a:xfrm>
            <a:off x="3311640" y="0"/>
            <a:ext cx="2520720" cy="229248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d58"/>
                </a:solidFill>
                <a:latin typeface="Arial Black"/>
              </a:rPr>
              <a:t>BITMAP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roducción a </a:t>
            </a:r>
            <a:r>
              <a:rPr b="1" lang="es-ES" sz="3200" spc="-1" strike="noStrike">
                <a:solidFill>
                  <a:srgbClr val="ffffff"/>
                </a:solidFill>
                <a:latin typeface="Arial Black"/>
              </a:rPr>
              <a:t>Photo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2"/>
          <p:cNvSpPr/>
          <p:nvPr/>
        </p:nvSpPr>
        <p:spPr>
          <a:xfrm>
            <a:off x="654120" y="816120"/>
            <a:ext cx="31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4" name="Picture 3" descr=""/>
          <p:cNvPicPr/>
          <p:nvPr/>
        </p:nvPicPr>
        <p:blipFill>
          <a:blip r:embed="rId1"/>
          <a:stretch/>
        </p:blipFill>
        <p:spPr>
          <a:xfrm>
            <a:off x="654120" y="1795320"/>
            <a:ext cx="7510320" cy="38754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lor Real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2"/>
          <p:cNvSpPr/>
          <p:nvPr/>
        </p:nvSpPr>
        <p:spPr>
          <a:xfrm>
            <a:off x="979560" y="2108160"/>
            <a:ext cx="751032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resolución de la imagen la expresamos en píxeles por pulgada. A mayor resolución más píxeles caben en una pulgada y menor será el tamaño de los píxe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- Resolución  &lt;  + Resol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72 dpi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150dpi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300dp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979560" y="811080"/>
            <a:ext cx="2611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Resolución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pic>
        <p:nvPicPr>
          <p:cNvPr id="620" name="Picture 88" descr=""/>
          <p:cNvPicPr/>
          <p:nvPr/>
        </p:nvPicPr>
        <p:blipFill>
          <a:blip r:embed="rId1"/>
          <a:stretch/>
        </p:blipFill>
        <p:spPr>
          <a:xfrm>
            <a:off x="1835280" y="4508640"/>
            <a:ext cx="54385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2"/>
          <p:cNvSpPr/>
          <p:nvPr/>
        </p:nvSpPr>
        <p:spPr>
          <a:xfrm>
            <a:off x="979560" y="2108160"/>
            <a:ext cx="751032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El tamaño de la imagen depende de sus dimensiones (anchura y altura) medidas en píxeles u otras unidades: puntos, picas, milímetros..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979560" y="811080"/>
            <a:ext cx="47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Tamaño de la  imagen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2"/>
          <p:cNvSpPr/>
          <p:nvPr/>
        </p:nvSpPr>
        <p:spPr>
          <a:xfrm>
            <a:off x="979560" y="2108160"/>
            <a:ext cx="751032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El tamaño del archivo de la imagen, como unidad de información digitalizada se expresa en bits. A mayor resolución, mayor tamaño del archivo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979560" y="811080"/>
            <a:ext cx="47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Tamaño del archiv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816120" y="1455840"/>
            <a:ext cx="7511760" cy="491328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3"/>
          <p:cNvSpPr/>
          <p:nvPr/>
        </p:nvSpPr>
        <p:spPr>
          <a:xfrm>
            <a:off x="979560" y="81108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Mismo tamaño de impresió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2"/>
          <p:cNvSpPr/>
          <p:nvPr/>
        </p:nvSpPr>
        <p:spPr>
          <a:xfrm>
            <a:off x="979560" y="81108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Misma cantidad de píxel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3" name="Picture 3" descr=""/>
          <p:cNvPicPr/>
          <p:nvPr/>
        </p:nvPicPr>
        <p:blipFill>
          <a:blip r:embed="rId1"/>
          <a:stretch/>
        </p:blipFill>
        <p:spPr>
          <a:xfrm>
            <a:off x="555480" y="1405080"/>
            <a:ext cx="4050000" cy="4898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"/>
          <p:cNvPicPr/>
          <p:nvPr/>
        </p:nvPicPr>
        <p:blipFill>
          <a:blip r:embed="rId2"/>
          <a:stretch/>
        </p:blipFill>
        <p:spPr>
          <a:xfrm>
            <a:off x="4653000" y="1405080"/>
            <a:ext cx="4002120" cy="48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"/>
          <p:cNvSpPr/>
          <p:nvPr/>
        </p:nvSpPr>
        <p:spPr>
          <a:xfrm>
            <a:off x="979560" y="81108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Interpolación al alz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3" descr=""/>
          <p:cNvPicPr/>
          <p:nvPr/>
        </p:nvPicPr>
        <p:blipFill>
          <a:blip r:embed="rId1"/>
          <a:stretch/>
        </p:blipFill>
        <p:spPr>
          <a:xfrm>
            <a:off x="4621320" y="1400040"/>
            <a:ext cx="4049640" cy="48992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"/>
          <p:cNvPicPr/>
          <p:nvPr/>
        </p:nvPicPr>
        <p:blipFill>
          <a:blip r:embed="rId2"/>
          <a:stretch/>
        </p:blipFill>
        <p:spPr>
          <a:xfrm>
            <a:off x="555480" y="1405080"/>
            <a:ext cx="4050000" cy="48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2"/>
          <p:cNvSpPr/>
          <p:nvPr/>
        </p:nvSpPr>
        <p:spPr>
          <a:xfrm>
            <a:off x="979560" y="81108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Interpolación a la baj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1" name="Picture 3" descr=""/>
          <p:cNvPicPr/>
          <p:nvPr/>
        </p:nvPicPr>
        <p:blipFill>
          <a:blip r:embed="rId1"/>
          <a:stretch/>
        </p:blipFill>
        <p:spPr>
          <a:xfrm>
            <a:off x="4637160" y="1415880"/>
            <a:ext cx="4081320" cy="49197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" descr=""/>
          <p:cNvPicPr/>
          <p:nvPr/>
        </p:nvPicPr>
        <p:blipFill>
          <a:blip r:embed="rId2"/>
          <a:stretch/>
        </p:blipFill>
        <p:spPr>
          <a:xfrm>
            <a:off x="555480" y="1436760"/>
            <a:ext cx="4050000" cy="49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2"/>
          <p:cNvSpPr/>
          <p:nvPr/>
        </p:nvSpPr>
        <p:spPr>
          <a:xfrm>
            <a:off x="979560" y="81288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Formatos de image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1143000" y="1627200"/>
            <a:ext cx="2286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Bitmap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3429000" y="2155680"/>
            <a:ext cx="5060880" cy="38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La imagen está formada por una matriz de píxeles. Cuando modificamos una imagen bitmap lo que estamos haciendo es cambiar el aspecto de los píxeles con programas de tratamiento de image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como GIMP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5" descr=""/>
          <p:cNvPicPr/>
          <p:nvPr/>
        </p:nvPicPr>
        <p:blipFill>
          <a:blip r:embed="rId1"/>
          <a:stretch/>
        </p:blipFill>
        <p:spPr>
          <a:xfrm>
            <a:off x="654120" y="2449440"/>
            <a:ext cx="2449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9" name="Picture 2" descr=""/>
          <p:cNvPicPr/>
          <p:nvPr/>
        </p:nvPicPr>
        <p:blipFill>
          <a:blip r:embed="rId1"/>
          <a:stretch/>
        </p:blipFill>
        <p:spPr>
          <a:xfrm>
            <a:off x="1960560" y="934920"/>
            <a:ext cx="5684760" cy="52707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3"/>
          <p:cNvSpPr/>
          <p:nvPr/>
        </p:nvSpPr>
        <p:spPr>
          <a:xfrm>
            <a:off x="816120" y="32076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Formatos de imagen bitmap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d58"/>
                </a:solidFill>
                <a:latin typeface="Arial"/>
              </a:rPr>
              <a:t>Adobe Photoshop</a:t>
            </a:r>
            <a:r>
              <a:rPr b="0" lang="es-ES" sz="4400" spc="-1" strike="noStrike">
                <a:solidFill>
                  <a:srgbClr val="003d5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Taller de Fotos) es una aplicación informática en forma de Taller de pintura y Laboratorio de fotografía que trabaja sobre un "lienzo" y que está destinado para la edición, retoque fotográfico y pintura a base de imágenes de mapa de bits (o gráficos rasterizado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un producto elaborado por la compañía de software </a:t>
            </a: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Adobe System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inicialmente para computadores </a:t>
            </a: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Appl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pero posteriormente también para plataformas PC con sistema operativo </a:t>
            </a: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Window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2"/>
          <p:cNvSpPr/>
          <p:nvPr/>
        </p:nvSpPr>
        <p:spPr>
          <a:xfrm>
            <a:off x="979560" y="81288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Formatos de image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1143000" y="1627200"/>
            <a:ext cx="2286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Vectoria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3429000" y="2155680"/>
            <a:ext cx="5224320" cy="46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Se representan con trazos geométricos que están controlados por operaciones matemáticas que realiza el ordenador.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La ventaja de este tipo de imagen es que pueden reducirse o ampliarse sin ningún tipo de pérdida de calidad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Freeform 5"/>
          <p:cNvSpPr/>
          <p:nvPr/>
        </p:nvSpPr>
        <p:spPr>
          <a:xfrm>
            <a:off x="293760" y="3592440"/>
            <a:ext cx="1143000" cy="1468440"/>
          </a:xfrm>
          <a:custGeom>
            <a:avLst/>
            <a:gdLst>
              <a:gd name="textAreaLeft" fmla="*/ 218520 w 1143000"/>
              <a:gd name="textAreaRight" fmla="*/ 822240 w 1143000"/>
              <a:gd name="textAreaTop" fmla="*/ 234360 h 1468440"/>
              <a:gd name="textAreaBottom" fmla="*/ 718200 h 1468440"/>
            </a:gdLst>
            <a:ahLst/>
            <a:rect l="textAreaLeft" t="textAreaTop" r="textAreaRight" b="textAreaBottom"/>
            <a:pathLst>
              <a:path w="3448" h="4947">
                <a:moveTo>
                  <a:pt x="1944" y="2928"/>
                </a:moveTo>
                <a:cubicBezTo>
                  <a:pt x="1941" y="2982"/>
                  <a:pt x="1938" y="3036"/>
                  <a:pt x="1933" y="3090"/>
                </a:cubicBezTo>
                <a:cubicBezTo>
                  <a:pt x="1924" y="3131"/>
                  <a:pt x="1915" y="3172"/>
                  <a:pt x="1905" y="3214"/>
                </a:cubicBezTo>
                <a:cubicBezTo>
                  <a:pt x="1891" y="3246"/>
                  <a:pt x="1877" y="3278"/>
                  <a:pt x="1861" y="3312"/>
                </a:cubicBezTo>
                <a:cubicBezTo>
                  <a:pt x="1843" y="3340"/>
                  <a:pt x="1825" y="3368"/>
                  <a:pt x="1805" y="3398"/>
                </a:cubicBezTo>
                <a:cubicBezTo>
                  <a:pt x="1775" y="3437"/>
                  <a:pt x="1745" y="3476"/>
                  <a:pt x="1715" y="3517"/>
                </a:cubicBezTo>
                <a:cubicBezTo>
                  <a:pt x="1685" y="3548"/>
                  <a:pt x="1655" y="3579"/>
                  <a:pt x="1625" y="3612"/>
                </a:cubicBezTo>
                <a:cubicBezTo>
                  <a:pt x="1602" y="3646"/>
                  <a:pt x="1579" y="3680"/>
                  <a:pt x="1556" y="3716"/>
                </a:cubicBezTo>
                <a:cubicBezTo>
                  <a:pt x="1547" y="3766"/>
                  <a:pt x="1538" y="3816"/>
                  <a:pt x="1529" y="3868"/>
                </a:cubicBezTo>
                <a:cubicBezTo>
                  <a:pt x="1532" y="3914"/>
                  <a:pt x="1535" y="3960"/>
                  <a:pt x="1538" y="4008"/>
                </a:cubicBezTo>
                <a:cubicBezTo>
                  <a:pt x="1545" y="4052"/>
                  <a:pt x="1552" y="4096"/>
                  <a:pt x="1560" y="4141"/>
                </a:cubicBezTo>
                <a:cubicBezTo>
                  <a:pt x="1569" y="4183"/>
                  <a:pt x="1578" y="4225"/>
                  <a:pt x="1587" y="4268"/>
                </a:cubicBezTo>
                <a:cubicBezTo>
                  <a:pt x="1595" y="4309"/>
                  <a:pt x="1603" y="4350"/>
                  <a:pt x="1612" y="4393"/>
                </a:cubicBezTo>
                <a:cubicBezTo>
                  <a:pt x="1620" y="4412"/>
                  <a:pt x="1628" y="4431"/>
                  <a:pt x="1636" y="4451"/>
                </a:cubicBezTo>
                <a:cubicBezTo>
                  <a:pt x="1645" y="4475"/>
                  <a:pt x="1654" y="4499"/>
                  <a:pt x="1664" y="4524"/>
                </a:cubicBezTo>
                <a:cubicBezTo>
                  <a:pt x="1671" y="4545"/>
                  <a:pt x="1678" y="4566"/>
                  <a:pt x="1685" y="4587"/>
                </a:cubicBezTo>
                <a:cubicBezTo>
                  <a:pt x="1688" y="4596"/>
                  <a:pt x="1691" y="4605"/>
                  <a:pt x="1695" y="4614"/>
                </a:cubicBezTo>
                <a:cubicBezTo>
                  <a:pt x="1711" y="4604"/>
                  <a:pt x="1727" y="4594"/>
                  <a:pt x="1745" y="4582"/>
                </a:cubicBezTo>
                <a:cubicBezTo>
                  <a:pt x="1765" y="4577"/>
                  <a:pt x="1785" y="4572"/>
                  <a:pt x="1805" y="4565"/>
                </a:cubicBezTo>
                <a:cubicBezTo>
                  <a:pt x="1825" y="4563"/>
                  <a:pt x="1845" y="4561"/>
                  <a:pt x="1866" y="4559"/>
                </a:cubicBezTo>
                <a:cubicBezTo>
                  <a:pt x="1882" y="4559"/>
                  <a:pt x="1898" y="4559"/>
                  <a:pt x="1916" y="4559"/>
                </a:cubicBezTo>
                <a:cubicBezTo>
                  <a:pt x="1935" y="4560"/>
                  <a:pt x="1954" y="4561"/>
                  <a:pt x="1973" y="4563"/>
                </a:cubicBezTo>
                <a:cubicBezTo>
                  <a:pt x="1997" y="4566"/>
                  <a:pt x="2021" y="4569"/>
                  <a:pt x="2047" y="4573"/>
                </a:cubicBezTo>
                <a:cubicBezTo>
                  <a:pt x="2068" y="4576"/>
                  <a:pt x="2089" y="4579"/>
                  <a:pt x="2110" y="4582"/>
                </a:cubicBezTo>
                <a:cubicBezTo>
                  <a:pt x="2119" y="4583"/>
                  <a:pt x="2128" y="4584"/>
                  <a:pt x="2137" y="4587"/>
                </a:cubicBezTo>
                <a:cubicBezTo>
                  <a:pt x="2125" y="4570"/>
                  <a:pt x="2113" y="4553"/>
                  <a:pt x="2100" y="4536"/>
                </a:cubicBezTo>
                <a:cubicBezTo>
                  <a:pt x="2091" y="4515"/>
                  <a:pt x="2082" y="4494"/>
                  <a:pt x="2071" y="4472"/>
                </a:cubicBezTo>
                <a:cubicBezTo>
                  <a:pt x="2063" y="4449"/>
                  <a:pt x="2055" y="4426"/>
                  <a:pt x="2047" y="4403"/>
                </a:cubicBezTo>
                <a:cubicBezTo>
                  <a:pt x="2040" y="4382"/>
                  <a:pt x="2033" y="4361"/>
                  <a:pt x="2026" y="4338"/>
                </a:cubicBezTo>
                <a:cubicBezTo>
                  <a:pt x="2001" y="4275"/>
                  <a:pt x="1976" y="4212"/>
                  <a:pt x="1951" y="4149"/>
                </a:cubicBezTo>
                <a:cubicBezTo>
                  <a:pt x="1941" y="4103"/>
                  <a:pt x="1931" y="4057"/>
                  <a:pt x="1921" y="4009"/>
                </a:cubicBezTo>
                <a:cubicBezTo>
                  <a:pt x="1922" y="3975"/>
                  <a:pt x="1923" y="3941"/>
                  <a:pt x="1925" y="3905"/>
                </a:cubicBezTo>
                <a:cubicBezTo>
                  <a:pt x="1934" y="3879"/>
                  <a:pt x="1943" y="3853"/>
                  <a:pt x="1954" y="3825"/>
                </a:cubicBezTo>
                <a:cubicBezTo>
                  <a:pt x="1969" y="3803"/>
                  <a:pt x="1984" y="3781"/>
                  <a:pt x="1999" y="3757"/>
                </a:cubicBezTo>
                <a:cubicBezTo>
                  <a:pt x="2034" y="3705"/>
                  <a:pt x="2069" y="3653"/>
                  <a:pt x="2105" y="3599"/>
                </a:cubicBezTo>
                <a:cubicBezTo>
                  <a:pt x="2138" y="3549"/>
                  <a:pt x="2171" y="3499"/>
                  <a:pt x="2206" y="3449"/>
                </a:cubicBezTo>
                <a:cubicBezTo>
                  <a:pt x="2232" y="3398"/>
                  <a:pt x="2258" y="3347"/>
                  <a:pt x="2286" y="3294"/>
                </a:cubicBezTo>
                <a:cubicBezTo>
                  <a:pt x="2301" y="3237"/>
                  <a:pt x="2316" y="3180"/>
                  <a:pt x="2331" y="3122"/>
                </a:cubicBezTo>
                <a:cubicBezTo>
                  <a:pt x="2331" y="3100"/>
                  <a:pt x="2331" y="3078"/>
                  <a:pt x="2331" y="3054"/>
                </a:cubicBezTo>
                <a:cubicBezTo>
                  <a:pt x="2331" y="3029"/>
                  <a:pt x="2331" y="3004"/>
                  <a:pt x="2331" y="2979"/>
                </a:cubicBezTo>
                <a:cubicBezTo>
                  <a:pt x="2331" y="2953"/>
                  <a:pt x="2331" y="2927"/>
                  <a:pt x="2331" y="2899"/>
                </a:cubicBezTo>
                <a:cubicBezTo>
                  <a:pt x="2331" y="2872"/>
                  <a:pt x="2331" y="2845"/>
                  <a:pt x="2331" y="2817"/>
                </a:cubicBezTo>
                <a:cubicBezTo>
                  <a:pt x="2324" y="2811"/>
                  <a:pt x="2317" y="2805"/>
                  <a:pt x="2310" y="2797"/>
                </a:cubicBezTo>
                <a:cubicBezTo>
                  <a:pt x="2305" y="2791"/>
                  <a:pt x="2300" y="2785"/>
                  <a:pt x="2293" y="2779"/>
                </a:cubicBezTo>
                <a:cubicBezTo>
                  <a:pt x="2289" y="2775"/>
                  <a:pt x="2285" y="2771"/>
                  <a:pt x="2280" y="2766"/>
                </a:cubicBezTo>
                <a:cubicBezTo>
                  <a:pt x="2279" y="2765"/>
                  <a:pt x="2278" y="2764"/>
                  <a:pt x="2276" y="2762"/>
                </a:cubicBezTo>
                <a:cubicBezTo>
                  <a:pt x="2243" y="2770"/>
                  <a:pt x="2210" y="2778"/>
                  <a:pt x="2177" y="2788"/>
                </a:cubicBezTo>
                <a:cubicBezTo>
                  <a:pt x="2148" y="2800"/>
                  <a:pt x="2119" y="2812"/>
                  <a:pt x="2088" y="2824"/>
                </a:cubicBezTo>
                <a:cubicBezTo>
                  <a:pt x="2062" y="2839"/>
                  <a:pt x="2036" y="2854"/>
                  <a:pt x="2010" y="2870"/>
                </a:cubicBezTo>
                <a:cubicBezTo>
                  <a:pt x="1988" y="2889"/>
                  <a:pt x="1966" y="2908"/>
                  <a:pt x="1944" y="2928"/>
                </a:cubicBezTo>
                <a:close/>
                <a:moveTo>
                  <a:pt x="2635" y="2707"/>
                </a:moveTo>
                <a:cubicBezTo>
                  <a:pt x="2587" y="2712"/>
                  <a:pt x="2539" y="2717"/>
                  <a:pt x="2491" y="2722"/>
                </a:cubicBezTo>
                <a:cubicBezTo>
                  <a:pt x="2467" y="2724"/>
                  <a:pt x="2443" y="2726"/>
                  <a:pt x="2417" y="2730"/>
                </a:cubicBezTo>
                <a:cubicBezTo>
                  <a:pt x="2408" y="2731"/>
                  <a:pt x="2399" y="2732"/>
                  <a:pt x="2389" y="2733"/>
                </a:cubicBezTo>
                <a:cubicBezTo>
                  <a:pt x="2388" y="2733"/>
                  <a:pt x="2387" y="2733"/>
                  <a:pt x="2386" y="2734"/>
                </a:cubicBezTo>
                <a:cubicBezTo>
                  <a:pt x="2378" y="2734"/>
                  <a:pt x="2370" y="2734"/>
                  <a:pt x="2360" y="2734"/>
                </a:cubicBezTo>
                <a:cubicBezTo>
                  <a:pt x="2350" y="2734"/>
                  <a:pt x="2340" y="2734"/>
                  <a:pt x="2330" y="2734"/>
                </a:cubicBezTo>
                <a:cubicBezTo>
                  <a:pt x="2320" y="2734"/>
                  <a:pt x="2310" y="2734"/>
                  <a:pt x="2300" y="2734"/>
                </a:cubicBezTo>
                <a:cubicBezTo>
                  <a:pt x="2292" y="2734"/>
                  <a:pt x="2284" y="2734"/>
                  <a:pt x="2276" y="2734"/>
                </a:cubicBezTo>
                <a:cubicBezTo>
                  <a:pt x="2276" y="2735"/>
                  <a:pt x="2276" y="2736"/>
                  <a:pt x="2276" y="2738"/>
                </a:cubicBezTo>
                <a:cubicBezTo>
                  <a:pt x="2276" y="2741"/>
                  <a:pt x="2276" y="2744"/>
                  <a:pt x="2276" y="2748"/>
                </a:cubicBezTo>
                <a:cubicBezTo>
                  <a:pt x="2276" y="2751"/>
                  <a:pt x="2276" y="2754"/>
                  <a:pt x="2276" y="2757"/>
                </a:cubicBezTo>
                <a:cubicBezTo>
                  <a:pt x="2276" y="2758"/>
                  <a:pt x="2276" y="2759"/>
                  <a:pt x="2276" y="2762"/>
                </a:cubicBezTo>
                <a:cubicBezTo>
                  <a:pt x="2277" y="2763"/>
                  <a:pt x="2278" y="2764"/>
                  <a:pt x="2280" y="2766"/>
                </a:cubicBezTo>
                <a:cubicBezTo>
                  <a:pt x="2284" y="2770"/>
                  <a:pt x="2288" y="2774"/>
                  <a:pt x="2293" y="2779"/>
                </a:cubicBezTo>
                <a:cubicBezTo>
                  <a:pt x="2298" y="2785"/>
                  <a:pt x="2303" y="2791"/>
                  <a:pt x="2310" y="2797"/>
                </a:cubicBezTo>
                <a:cubicBezTo>
                  <a:pt x="2317" y="2803"/>
                  <a:pt x="2324" y="2809"/>
                  <a:pt x="2331" y="2817"/>
                </a:cubicBezTo>
                <a:cubicBezTo>
                  <a:pt x="2349" y="2840"/>
                  <a:pt x="2367" y="2863"/>
                  <a:pt x="2386" y="2888"/>
                </a:cubicBezTo>
                <a:cubicBezTo>
                  <a:pt x="2397" y="2918"/>
                  <a:pt x="2408" y="2948"/>
                  <a:pt x="2419" y="2979"/>
                </a:cubicBezTo>
                <a:cubicBezTo>
                  <a:pt x="2422" y="3019"/>
                  <a:pt x="2425" y="3059"/>
                  <a:pt x="2428" y="3099"/>
                </a:cubicBezTo>
                <a:cubicBezTo>
                  <a:pt x="2422" y="3153"/>
                  <a:pt x="2416" y="3207"/>
                  <a:pt x="2408" y="3263"/>
                </a:cubicBezTo>
                <a:cubicBezTo>
                  <a:pt x="2392" y="3335"/>
                  <a:pt x="2376" y="3407"/>
                  <a:pt x="2358" y="3481"/>
                </a:cubicBezTo>
                <a:cubicBezTo>
                  <a:pt x="2349" y="3515"/>
                  <a:pt x="2340" y="3549"/>
                  <a:pt x="2329" y="3584"/>
                </a:cubicBezTo>
                <a:cubicBezTo>
                  <a:pt x="2317" y="3618"/>
                  <a:pt x="2305" y="3652"/>
                  <a:pt x="2292" y="3688"/>
                </a:cubicBezTo>
                <a:cubicBezTo>
                  <a:pt x="2282" y="3722"/>
                  <a:pt x="2272" y="3756"/>
                  <a:pt x="2260" y="3791"/>
                </a:cubicBezTo>
                <a:cubicBezTo>
                  <a:pt x="2256" y="3826"/>
                  <a:pt x="2252" y="3861"/>
                  <a:pt x="2247" y="3896"/>
                </a:cubicBezTo>
                <a:cubicBezTo>
                  <a:pt x="2252" y="3967"/>
                  <a:pt x="2257" y="4038"/>
                  <a:pt x="2263" y="4110"/>
                </a:cubicBezTo>
                <a:cubicBezTo>
                  <a:pt x="2280" y="4172"/>
                  <a:pt x="2297" y="4234"/>
                  <a:pt x="2315" y="4297"/>
                </a:cubicBezTo>
                <a:cubicBezTo>
                  <a:pt x="2344" y="4355"/>
                  <a:pt x="2373" y="4413"/>
                  <a:pt x="2402" y="4472"/>
                </a:cubicBezTo>
                <a:cubicBezTo>
                  <a:pt x="2443" y="4530"/>
                  <a:pt x="2484" y="4588"/>
                  <a:pt x="2527" y="4647"/>
                </a:cubicBezTo>
                <a:cubicBezTo>
                  <a:pt x="2581" y="4709"/>
                  <a:pt x="2635" y="4771"/>
                  <a:pt x="2690" y="4835"/>
                </a:cubicBezTo>
                <a:cubicBezTo>
                  <a:pt x="2701" y="4840"/>
                  <a:pt x="2712" y="4845"/>
                  <a:pt x="2723" y="4852"/>
                </a:cubicBezTo>
                <a:cubicBezTo>
                  <a:pt x="2738" y="4864"/>
                  <a:pt x="2753" y="4876"/>
                  <a:pt x="2770" y="4890"/>
                </a:cubicBezTo>
                <a:cubicBezTo>
                  <a:pt x="2783" y="4902"/>
                  <a:pt x="2796" y="4914"/>
                  <a:pt x="2811" y="4928"/>
                </a:cubicBezTo>
                <a:cubicBezTo>
                  <a:pt x="2817" y="4934"/>
                  <a:pt x="2823" y="4940"/>
                  <a:pt x="2829" y="4946"/>
                </a:cubicBezTo>
                <a:cubicBezTo>
                  <a:pt x="2852" y="4925"/>
                  <a:pt x="2875" y="4904"/>
                  <a:pt x="2899" y="4881"/>
                </a:cubicBezTo>
                <a:cubicBezTo>
                  <a:pt x="2927" y="4869"/>
                  <a:pt x="2955" y="4857"/>
                  <a:pt x="2983" y="4845"/>
                </a:cubicBezTo>
                <a:cubicBezTo>
                  <a:pt x="3013" y="4839"/>
                  <a:pt x="3043" y="4833"/>
                  <a:pt x="3073" y="4825"/>
                </a:cubicBezTo>
                <a:cubicBezTo>
                  <a:pt x="3102" y="4820"/>
                  <a:pt x="3131" y="4815"/>
                  <a:pt x="3161" y="4808"/>
                </a:cubicBezTo>
                <a:cubicBezTo>
                  <a:pt x="3167" y="4808"/>
                  <a:pt x="3173" y="4808"/>
                  <a:pt x="3180" y="4808"/>
                </a:cubicBezTo>
                <a:cubicBezTo>
                  <a:pt x="3186" y="4809"/>
                  <a:pt x="3192" y="4810"/>
                  <a:pt x="3198" y="4811"/>
                </a:cubicBezTo>
                <a:cubicBezTo>
                  <a:pt x="3202" y="4813"/>
                  <a:pt x="3206" y="4815"/>
                  <a:pt x="3210" y="4819"/>
                </a:cubicBezTo>
                <a:cubicBezTo>
                  <a:pt x="3211" y="4824"/>
                  <a:pt x="3212" y="4829"/>
                  <a:pt x="3215" y="4835"/>
                </a:cubicBezTo>
                <a:cubicBezTo>
                  <a:pt x="3178" y="4809"/>
                  <a:pt x="3141" y="4783"/>
                  <a:pt x="3104" y="4757"/>
                </a:cubicBezTo>
                <a:cubicBezTo>
                  <a:pt x="3076" y="4734"/>
                  <a:pt x="3048" y="4711"/>
                  <a:pt x="3018" y="4686"/>
                </a:cubicBezTo>
                <a:cubicBezTo>
                  <a:pt x="2995" y="4665"/>
                  <a:pt x="2972" y="4644"/>
                  <a:pt x="2947" y="4621"/>
                </a:cubicBezTo>
                <a:cubicBezTo>
                  <a:pt x="2926" y="4601"/>
                  <a:pt x="2905" y="4581"/>
                  <a:pt x="2884" y="4559"/>
                </a:cubicBezTo>
                <a:cubicBezTo>
                  <a:pt x="2844" y="4512"/>
                  <a:pt x="2804" y="4465"/>
                  <a:pt x="2762" y="4416"/>
                </a:cubicBezTo>
                <a:cubicBezTo>
                  <a:pt x="2731" y="4370"/>
                  <a:pt x="2700" y="4324"/>
                  <a:pt x="2668" y="4277"/>
                </a:cubicBezTo>
                <a:cubicBezTo>
                  <a:pt x="2649" y="4226"/>
                  <a:pt x="2630" y="4175"/>
                  <a:pt x="2610" y="4122"/>
                </a:cubicBezTo>
                <a:cubicBezTo>
                  <a:pt x="2606" y="4060"/>
                  <a:pt x="2602" y="3998"/>
                  <a:pt x="2596" y="3936"/>
                </a:cubicBezTo>
                <a:cubicBezTo>
                  <a:pt x="2609" y="3858"/>
                  <a:pt x="2622" y="3780"/>
                  <a:pt x="2635" y="3702"/>
                </a:cubicBezTo>
                <a:cubicBezTo>
                  <a:pt x="2654" y="3628"/>
                  <a:pt x="2673" y="3554"/>
                  <a:pt x="2694" y="3480"/>
                </a:cubicBezTo>
                <a:cubicBezTo>
                  <a:pt x="2709" y="3423"/>
                  <a:pt x="2724" y="3366"/>
                  <a:pt x="2741" y="3307"/>
                </a:cubicBezTo>
                <a:cubicBezTo>
                  <a:pt x="2751" y="3262"/>
                  <a:pt x="2761" y="3217"/>
                  <a:pt x="2773" y="3170"/>
                </a:cubicBezTo>
                <a:cubicBezTo>
                  <a:pt x="2779" y="3132"/>
                  <a:pt x="2785" y="3094"/>
                  <a:pt x="2793" y="3056"/>
                </a:cubicBezTo>
                <a:cubicBezTo>
                  <a:pt x="2795" y="3023"/>
                  <a:pt x="2797" y="2990"/>
                  <a:pt x="2800" y="2955"/>
                </a:cubicBezTo>
                <a:cubicBezTo>
                  <a:pt x="2798" y="2929"/>
                  <a:pt x="2796" y="2903"/>
                  <a:pt x="2794" y="2877"/>
                </a:cubicBezTo>
                <a:cubicBezTo>
                  <a:pt x="2789" y="2855"/>
                  <a:pt x="2784" y="2833"/>
                  <a:pt x="2779" y="2810"/>
                </a:cubicBezTo>
                <a:cubicBezTo>
                  <a:pt x="2771" y="2791"/>
                  <a:pt x="2763" y="2772"/>
                  <a:pt x="2754" y="2753"/>
                </a:cubicBezTo>
                <a:cubicBezTo>
                  <a:pt x="2742" y="2738"/>
                  <a:pt x="2730" y="2723"/>
                  <a:pt x="2718" y="2707"/>
                </a:cubicBezTo>
                <a:cubicBezTo>
                  <a:pt x="2711" y="2707"/>
                  <a:pt x="2704" y="2707"/>
                  <a:pt x="2697" y="2707"/>
                </a:cubicBezTo>
                <a:cubicBezTo>
                  <a:pt x="2690" y="2707"/>
                  <a:pt x="2683" y="2707"/>
                  <a:pt x="2676" y="2707"/>
                </a:cubicBezTo>
                <a:cubicBezTo>
                  <a:pt x="2669" y="2707"/>
                  <a:pt x="2662" y="2707"/>
                  <a:pt x="2655" y="2707"/>
                </a:cubicBezTo>
                <a:cubicBezTo>
                  <a:pt x="2649" y="2707"/>
                  <a:pt x="2643" y="2707"/>
                  <a:pt x="2635" y="2707"/>
                </a:cubicBezTo>
                <a:close/>
                <a:moveTo>
                  <a:pt x="3298" y="1325"/>
                </a:moveTo>
                <a:cubicBezTo>
                  <a:pt x="3285" y="1318"/>
                  <a:pt x="3272" y="1311"/>
                  <a:pt x="3257" y="1304"/>
                </a:cubicBezTo>
                <a:cubicBezTo>
                  <a:pt x="3245" y="1298"/>
                  <a:pt x="3233" y="1292"/>
                  <a:pt x="3219" y="1286"/>
                </a:cubicBezTo>
                <a:cubicBezTo>
                  <a:pt x="3208" y="1282"/>
                  <a:pt x="3197" y="1278"/>
                  <a:pt x="3185" y="1273"/>
                </a:cubicBezTo>
                <a:cubicBezTo>
                  <a:pt x="3177" y="1272"/>
                  <a:pt x="3169" y="1271"/>
                  <a:pt x="3160" y="1269"/>
                </a:cubicBezTo>
                <a:cubicBezTo>
                  <a:pt x="3118" y="1251"/>
                  <a:pt x="3076" y="1233"/>
                  <a:pt x="3033" y="1215"/>
                </a:cubicBezTo>
                <a:cubicBezTo>
                  <a:pt x="2994" y="1187"/>
                  <a:pt x="2955" y="1159"/>
                  <a:pt x="2914" y="1131"/>
                </a:cubicBezTo>
                <a:cubicBezTo>
                  <a:pt x="2884" y="1089"/>
                  <a:pt x="2854" y="1047"/>
                  <a:pt x="2822" y="1005"/>
                </a:cubicBezTo>
                <a:cubicBezTo>
                  <a:pt x="2806" y="946"/>
                  <a:pt x="2790" y="887"/>
                  <a:pt x="2774" y="827"/>
                </a:cubicBezTo>
                <a:cubicBezTo>
                  <a:pt x="2774" y="774"/>
                  <a:pt x="2774" y="721"/>
                  <a:pt x="2774" y="667"/>
                </a:cubicBezTo>
                <a:cubicBezTo>
                  <a:pt x="2774" y="640"/>
                  <a:pt x="2774" y="613"/>
                  <a:pt x="2774" y="585"/>
                </a:cubicBezTo>
                <a:cubicBezTo>
                  <a:pt x="2774" y="575"/>
                  <a:pt x="2774" y="565"/>
                  <a:pt x="2774" y="555"/>
                </a:cubicBezTo>
                <a:cubicBezTo>
                  <a:pt x="2774" y="554"/>
                  <a:pt x="2774" y="553"/>
                  <a:pt x="2774" y="551"/>
                </a:cubicBezTo>
                <a:cubicBezTo>
                  <a:pt x="2755" y="487"/>
                  <a:pt x="2736" y="423"/>
                  <a:pt x="2717" y="358"/>
                </a:cubicBezTo>
                <a:cubicBezTo>
                  <a:pt x="2678" y="318"/>
                  <a:pt x="2639" y="278"/>
                  <a:pt x="2600" y="236"/>
                </a:cubicBezTo>
                <a:cubicBezTo>
                  <a:pt x="2544" y="218"/>
                  <a:pt x="2488" y="200"/>
                  <a:pt x="2431" y="181"/>
                </a:cubicBezTo>
                <a:cubicBezTo>
                  <a:pt x="2361" y="184"/>
                  <a:pt x="2291" y="187"/>
                  <a:pt x="2221" y="192"/>
                </a:cubicBezTo>
                <a:cubicBezTo>
                  <a:pt x="2173" y="202"/>
                  <a:pt x="2125" y="212"/>
                  <a:pt x="2076" y="223"/>
                </a:cubicBezTo>
                <a:cubicBezTo>
                  <a:pt x="2052" y="228"/>
                  <a:pt x="2028" y="233"/>
                  <a:pt x="2002" y="239"/>
                </a:cubicBezTo>
                <a:cubicBezTo>
                  <a:pt x="1993" y="241"/>
                  <a:pt x="1984" y="243"/>
                  <a:pt x="1974" y="245"/>
                </a:cubicBezTo>
                <a:cubicBezTo>
                  <a:pt x="1973" y="245"/>
                  <a:pt x="1972" y="245"/>
                  <a:pt x="1971" y="246"/>
                </a:cubicBezTo>
                <a:cubicBezTo>
                  <a:pt x="1937" y="249"/>
                  <a:pt x="1903" y="252"/>
                  <a:pt x="1868" y="255"/>
                </a:cubicBezTo>
                <a:cubicBezTo>
                  <a:pt x="1839" y="252"/>
                  <a:pt x="1810" y="249"/>
                  <a:pt x="1779" y="245"/>
                </a:cubicBezTo>
                <a:cubicBezTo>
                  <a:pt x="1747" y="234"/>
                  <a:pt x="1715" y="223"/>
                  <a:pt x="1683" y="212"/>
                </a:cubicBezTo>
                <a:cubicBezTo>
                  <a:pt x="1642" y="191"/>
                  <a:pt x="1601" y="170"/>
                  <a:pt x="1560" y="149"/>
                </a:cubicBezTo>
                <a:cubicBezTo>
                  <a:pt x="1504" y="117"/>
                  <a:pt x="1448" y="85"/>
                  <a:pt x="1391" y="53"/>
                </a:cubicBezTo>
                <a:cubicBezTo>
                  <a:pt x="1353" y="36"/>
                  <a:pt x="1315" y="19"/>
                  <a:pt x="1275" y="0"/>
                </a:cubicBezTo>
                <a:cubicBezTo>
                  <a:pt x="1233" y="2"/>
                  <a:pt x="1191" y="4"/>
                  <a:pt x="1149" y="8"/>
                </a:cubicBezTo>
                <a:cubicBezTo>
                  <a:pt x="1111" y="29"/>
                  <a:pt x="1073" y="50"/>
                  <a:pt x="1033" y="72"/>
                </a:cubicBezTo>
                <a:cubicBezTo>
                  <a:pt x="1005" y="112"/>
                  <a:pt x="977" y="152"/>
                  <a:pt x="949" y="192"/>
                </a:cubicBezTo>
                <a:cubicBezTo>
                  <a:pt x="921" y="257"/>
                  <a:pt x="893" y="322"/>
                  <a:pt x="863" y="387"/>
                </a:cubicBezTo>
                <a:cubicBezTo>
                  <a:pt x="840" y="431"/>
                  <a:pt x="817" y="475"/>
                  <a:pt x="793" y="521"/>
                </a:cubicBezTo>
                <a:cubicBezTo>
                  <a:pt x="769" y="551"/>
                  <a:pt x="745" y="581"/>
                  <a:pt x="721" y="613"/>
                </a:cubicBezTo>
                <a:cubicBezTo>
                  <a:pt x="691" y="635"/>
                  <a:pt x="661" y="657"/>
                  <a:pt x="631" y="681"/>
                </a:cubicBezTo>
                <a:cubicBezTo>
                  <a:pt x="590" y="702"/>
                  <a:pt x="549" y="723"/>
                  <a:pt x="506" y="745"/>
                </a:cubicBezTo>
                <a:cubicBezTo>
                  <a:pt x="464" y="766"/>
                  <a:pt x="422" y="787"/>
                  <a:pt x="378" y="808"/>
                </a:cubicBezTo>
                <a:cubicBezTo>
                  <a:pt x="356" y="819"/>
                  <a:pt x="334" y="830"/>
                  <a:pt x="312" y="841"/>
                </a:cubicBezTo>
                <a:cubicBezTo>
                  <a:pt x="304" y="845"/>
                  <a:pt x="296" y="849"/>
                  <a:pt x="288" y="853"/>
                </a:cubicBezTo>
                <a:cubicBezTo>
                  <a:pt x="287" y="853"/>
                  <a:pt x="286" y="853"/>
                  <a:pt x="285" y="855"/>
                </a:cubicBezTo>
                <a:cubicBezTo>
                  <a:pt x="244" y="891"/>
                  <a:pt x="203" y="927"/>
                  <a:pt x="161" y="964"/>
                </a:cubicBezTo>
                <a:cubicBezTo>
                  <a:pt x="137" y="1005"/>
                  <a:pt x="113" y="1046"/>
                  <a:pt x="88" y="1089"/>
                </a:cubicBezTo>
                <a:cubicBezTo>
                  <a:pt x="83" y="1137"/>
                  <a:pt x="78" y="1185"/>
                  <a:pt x="71" y="1235"/>
                </a:cubicBezTo>
                <a:cubicBezTo>
                  <a:pt x="87" y="1292"/>
                  <a:pt x="103" y="1349"/>
                  <a:pt x="120" y="1408"/>
                </a:cubicBezTo>
                <a:cubicBezTo>
                  <a:pt x="133" y="1456"/>
                  <a:pt x="146" y="1504"/>
                  <a:pt x="161" y="1554"/>
                </a:cubicBezTo>
                <a:cubicBezTo>
                  <a:pt x="162" y="1611"/>
                  <a:pt x="163" y="1668"/>
                  <a:pt x="164" y="1725"/>
                </a:cubicBezTo>
                <a:cubicBezTo>
                  <a:pt x="153" y="1782"/>
                  <a:pt x="142" y="1839"/>
                  <a:pt x="130" y="1897"/>
                </a:cubicBezTo>
                <a:cubicBezTo>
                  <a:pt x="108" y="1945"/>
                  <a:pt x="86" y="1993"/>
                  <a:pt x="64" y="2043"/>
                </a:cubicBezTo>
                <a:cubicBezTo>
                  <a:pt x="43" y="2092"/>
                  <a:pt x="22" y="2141"/>
                  <a:pt x="0" y="2191"/>
                </a:cubicBezTo>
                <a:cubicBezTo>
                  <a:pt x="2" y="2238"/>
                  <a:pt x="4" y="2285"/>
                  <a:pt x="8" y="2333"/>
                </a:cubicBezTo>
                <a:cubicBezTo>
                  <a:pt x="31" y="2373"/>
                  <a:pt x="54" y="2413"/>
                  <a:pt x="79" y="2455"/>
                </a:cubicBezTo>
                <a:cubicBezTo>
                  <a:pt x="120" y="2484"/>
                  <a:pt x="161" y="2513"/>
                  <a:pt x="202" y="2542"/>
                </a:cubicBezTo>
                <a:cubicBezTo>
                  <a:pt x="213" y="2543"/>
                  <a:pt x="224" y="2544"/>
                  <a:pt x="236" y="2546"/>
                </a:cubicBezTo>
                <a:cubicBezTo>
                  <a:pt x="254" y="2549"/>
                  <a:pt x="272" y="2552"/>
                  <a:pt x="292" y="2555"/>
                </a:cubicBezTo>
                <a:cubicBezTo>
                  <a:pt x="313" y="2558"/>
                  <a:pt x="334" y="2561"/>
                  <a:pt x="357" y="2564"/>
                </a:cubicBezTo>
                <a:cubicBezTo>
                  <a:pt x="379" y="2565"/>
                  <a:pt x="401" y="2566"/>
                  <a:pt x="423" y="2569"/>
                </a:cubicBezTo>
                <a:cubicBezTo>
                  <a:pt x="462" y="2573"/>
                  <a:pt x="501" y="2577"/>
                  <a:pt x="541" y="2581"/>
                </a:cubicBezTo>
                <a:cubicBezTo>
                  <a:pt x="588" y="2595"/>
                  <a:pt x="635" y="2609"/>
                  <a:pt x="682" y="2624"/>
                </a:cubicBezTo>
                <a:cubicBezTo>
                  <a:pt x="734" y="2652"/>
                  <a:pt x="786" y="2680"/>
                  <a:pt x="839" y="2709"/>
                </a:cubicBezTo>
                <a:cubicBezTo>
                  <a:pt x="894" y="2754"/>
                  <a:pt x="949" y="2799"/>
                  <a:pt x="1004" y="2846"/>
                </a:cubicBezTo>
                <a:cubicBezTo>
                  <a:pt x="1018" y="2865"/>
                  <a:pt x="1032" y="2884"/>
                  <a:pt x="1046" y="2904"/>
                </a:cubicBezTo>
                <a:cubicBezTo>
                  <a:pt x="1061" y="2924"/>
                  <a:pt x="1076" y="2944"/>
                  <a:pt x="1093" y="2966"/>
                </a:cubicBezTo>
                <a:cubicBezTo>
                  <a:pt x="1112" y="2991"/>
                  <a:pt x="1131" y="3016"/>
                  <a:pt x="1151" y="3043"/>
                </a:cubicBezTo>
                <a:cubicBezTo>
                  <a:pt x="1175" y="3078"/>
                  <a:pt x="1199" y="3113"/>
                  <a:pt x="1225" y="3149"/>
                </a:cubicBezTo>
                <a:cubicBezTo>
                  <a:pt x="1262" y="3173"/>
                  <a:pt x="1299" y="3197"/>
                  <a:pt x="1338" y="3222"/>
                </a:cubicBezTo>
                <a:cubicBezTo>
                  <a:pt x="1387" y="3227"/>
                  <a:pt x="1436" y="3232"/>
                  <a:pt x="1487" y="3239"/>
                </a:cubicBezTo>
                <a:cubicBezTo>
                  <a:pt x="1537" y="3227"/>
                  <a:pt x="1587" y="3215"/>
                  <a:pt x="1637" y="3203"/>
                </a:cubicBezTo>
                <a:cubicBezTo>
                  <a:pt x="1674" y="3176"/>
                  <a:pt x="1711" y="3149"/>
                  <a:pt x="1750" y="3122"/>
                </a:cubicBezTo>
                <a:cubicBezTo>
                  <a:pt x="1758" y="3114"/>
                  <a:pt x="1766" y="3106"/>
                  <a:pt x="1775" y="3096"/>
                </a:cubicBezTo>
                <a:cubicBezTo>
                  <a:pt x="1786" y="3085"/>
                  <a:pt x="1797" y="3074"/>
                  <a:pt x="1809" y="3063"/>
                </a:cubicBezTo>
                <a:cubicBezTo>
                  <a:pt x="1821" y="3050"/>
                  <a:pt x="1833" y="3037"/>
                  <a:pt x="1847" y="3024"/>
                </a:cubicBezTo>
                <a:cubicBezTo>
                  <a:pt x="1861" y="3011"/>
                  <a:pt x="1875" y="2998"/>
                  <a:pt x="1889" y="2984"/>
                </a:cubicBezTo>
                <a:cubicBezTo>
                  <a:pt x="1911" y="2965"/>
                  <a:pt x="1933" y="2946"/>
                  <a:pt x="1955" y="2926"/>
                </a:cubicBezTo>
                <a:cubicBezTo>
                  <a:pt x="1981" y="2911"/>
                  <a:pt x="2007" y="2896"/>
                  <a:pt x="2033" y="2880"/>
                </a:cubicBezTo>
                <a:cubicBezTo>
                  <a:pt x="2062" y="2868"/>
                  <a:pt x="2091" y="2856"/>
                  <a:pt x="2122" y="2844"/>
                </a:cubicBezTo>
                <a:cubicBezTo>
                  <a:pt x="2155" y="2836"/>
                  <a:pt x="2188" y="2828"/>
                  <a:pt x="2221" y="2818"/>
                </a:cubicBezTo>
                <a:cubicBezTo>
                  <a:pt x="2221" y="2817"/>
                  <a:pt x="2221" y="2816"/>
                  <a:pt x="2221" y="2813"/>
                </a:cubicBezTo>
                <a:cubicBezTo>
                  <a:pt x="2221" y="2810"/>
                  <a:pt x="2221" y="2807"/>
                  <a:pt x="2221" y="2804"/>
                </a:cubicBezTo>
                <a:cubicBezTo>
                  <a:pt x="2221" y="2801"/>
                  <a:pt x="2221" y="2798"/>
                  <a:pt x="2221" y="2794"/>
                </a:cubicBezTo>
                <a:cubicBezTo>
                  <a:pt x="2221" y="2793"/>
                  <a:pt x="2221" y="2792"/>
                  <a:pt x="2221" y="2790"/>
                </a:cubicBezTo>
                <a:cubicBezTo>
                  <a:pt x="2229" y="2790"/>
                  <a:pt x="2237" y="2790"/>
                  <a:pt x="2245" y="2790"/>
                </a:cubicBezTo>
                <a:cubicBezTo>
                  <a:pt x="2255" y="2790"/>
                  <a:pt x="2265" y="2790"/>
                  <a:pt x="2275" y="2790"/>
                </a:cubicBezTo>
                <a:cubicBezTo>
                  <a:pt x="2285" y="2790"/>
                  <a:pt x="2295" y="2790"/>
                  <a:pt x="2305" y="2790"/>
                </a:cubicBezTo>
                <a:cubicBezTo>
                  <a:pt x="2313" y="2790"/>
                  <a:pt x="2321" y="2790"/>
                  <a:pt x="2331" y="2790"/>
                </a:cubicBezTo>
                <a:cubicBezTo>
                  <a:pt x="2378" y="2785"/>
                  <a:pt x="2425" y="2780"/>
                  <a:pt x="2474" y="2774"/>
                </a:cubicBezTo>
                <a:cubicBezTo>
                  <a:pt x="2498" y="2772"/>
                  <a:pt x="2522" y="2770"/>
                  <a:pt x="2548" y="2766"/>
                </a:cubicBezTo>
                <a:cubicBezTo>
                  <a:pt x="2557" y="2765"/>
                  <a:pt x="2566" y="2764"/>
                  <a:pt x="2576" y="2763"/>
                </a:cubicBezTo>
                <a:cubicBezTo>
                  <a:pt x="2577" y="2763"/>
                  <a:pt x="2578" y="2763"/>
                  <a:pt x="2580" y="2763"/>
                </a:cubicBezTo>
                <a:cubicBezTo>
                  <a:pt x="2586" y="2763"/>
                  <a:pt x="2592" y="2763"/>
                  <a:pt x="2600" y="2763"/>
                </a:cubicBezTo>
                <a:cubicBezTo>
                  <a:pt x="2607" y="2763"/>
                  <a:pt x="2614" y="2763"/>
                  <a:pt x="2621" y="2763"/>
                </a:cubicBezTo>
                <a:cubicBezTo>
                  <a:pt x="2628" y="2763"/>
                  <a:pt x="2635" y="2763"/>
                  <a:pt x="2642" y="2763"/>
                </a:cubicBezTo>
                <a:cubicBezTo>
                  <a:pt x="2649" y="2763"/>
                  <a:pt x="2656" y="2763"/>
                  <a:pt x="2663" y="2763"/>
                </a:cubicBezTo>
                <a:cubicBezTo>
                  <a:pt x="2668" y="2763"/>
                  <a:pt x="2673" y="2763"/>
                  <a:pt x="2679" y="2763"/>
                </a:cubicBezTo>
                <a:cubicBezTo>
                  <a:pt x="2682" y="2763"/>
                  <a:pt x="2685" y="2763"/>
                  <a:pt x="2690" y="2763"/>
                </a:cubicBezTo>
                <a:cubicBezTo>
                  <a:pt x="2693" y="2763"/>
                  <a:pt x="2696" y="2763"/>
                  <a:pt x="2701" y="2763"/>
                </a:cubicBezTo>
                <a:cubicBezTo>
                  <a:pt x="2706" y="2763"/>
                  <a:pt x="2711" y="2763"/>
                  <a:pt x="2718" y="2763"/>
                </a:cubicBezTo>
                <a:cubicBezTo>
                  <a:pt x="2761" y="2738"/>
                  <a:pt x="2804" y="2713"/>
                  <a:pt x="2847" y="2686"/>
                </a:cubicBezTo>
                <a:cubicBezTo>
                  <a:pt x="2878" y="2654"/>
                  <a:pt x="2909" y="2622"/>
                  <a:pt x="2942" y="2590"/>
                </a:cubicBezTo>
                <a:cubicBezTo>
                  <a:pt x="2961" y="2554"/>
                  <a:pt x="2980" y="2518"/>
                  <a:pt x="3001" y="2482"/>
                </a:cubicBezTo>
                <a:cubicBezTo>
                  <a:pt x="3008" y="2447"/>
                  <a:pt x="3015" y="2412"/>
                  <a:pt x="3022" y="2375"/>
                </a:cubicBezTo>
                <a:cubicBezTo>
                  <a:pt x="3027" y="2310"/>
                  <a:pt x="3032" y="2245"/>
                  <a:pt x="3038" y="2180"/>
                </a:cubicBezTo>
                <a:cubicBezTo>
                  <a:pt x="3062" y="2134"/>
                  <a:pt x="3086" y="2088"/>
                  <a:pt x="3111" y="2040"/>
                </a:cubicBezTo>
                <a:cubicBezTo>
                  <a:pt x="3146" y="2006"/>
                  <a:pt x="3181" y="1972"/>
                  <a:pt x="3216" y="1936"/>
                </a:cubicBezTo>
                <a:cubicBezTo>
                  <a:pt x="3253" y="1908"/>
                  <a:pt x="3290" y="1880"/>
                  <a:pt x="3327" y="1850"/>
                </a:cubicBezTo>
                <a:cubicBezTo>
                  <a:pt x="3357" y="1809"/>
                  <a:pt x="3387" y="1768"/>
                  <a:pt x="3419" y="1725"/>
                </a:cubicBezTo>
                <a:cubicBezTo>
                  <a:pt x="3428" y="1676"/>
                  <a:pt x="3437" y="1627"/>
                  <a:pt x="3447" y="1577"/>
                </a:cubicBezTo>
                <a:cubicBezTo>
                  <a:pt x="3434" y="1530"/>
                  <a:pt x="3421" y="1483"/>
                  <a:pt x="3407" y="1434"/>
                </a:cubicBezTo>
                <a:cubicBezTo>
                  <a:pt x="3371" y="1398"/>
                  <a:pt x="3335" y="1362"/>
                  <a:pt x="3298" y="1325"/>
                </a:cubicBezTo>
                <a:close/>
                <a:moveTo>
                  <a:pt x="1788" y="2817"/>
                </a:moveTo>
                <a:cubicBezTo>
                  <a:pt x="1678" y="2823"/>
                  <a:pt x="1568" y="2829"/>
                  <a:pt x="1458" y="2837"/>
                </a:cubicBezTo>
                <a:cubicBezTo>
                  <a:pt x="1354" y="2814"/>
                  <a:pt x="1250" y="2791"/>
                  <a:pt x="1145" y="2767"/>
                </a:cubicBezTo>
                <a:cubicBezTo>
                  <a:pt x="1051" y="2718"/>
                  <a:pt x="957" y="2669"/>
                  <a:pt x="862" y="2619"/>
                </a:cubicBezTo>
                <a:cubicBezTo>
                  <a:pt x="783" y="2548"/>
                  <a:pt x="704" y="2477"/>
                  <a:pt x="625" y="2405"/>
                </a:cubicBezTo>
                <a:cubicBezTo>
                  <a:pt x="567" y="2315"/>
                  <a:pt x="509" y="2225"/>
                  <a:pt x="449" y="2134"/>
                </a:cubicBezTo>
                <a:cubicBezTo>
                  <a:pt x="417" y="2030"/>
                  <a:pt x="385" y="1926"/>
                  <a:pt x="351" y="1821"/>
                </a:cubicBezTo>
                <a:cubicBezTo>
                  <a:pt x="348" y="1708"/>
                  <a:pt x="345" y="1595"/>
                  <a:pt x="340" y="1482"/>
                </a:cubicBezTo>
                <a:cubicBezTo>
                  <a:pt x="364" y="1377"/>
                  <a:pt x="388" y="1272"/>
                  <a:pt x="413" y="1165"/>
                </a:cubicBezTo>
                <a:cubicBezTo>
                  <a:pt x="462" y="1072"/>
                  <a:pt x="511" y="979"/>
                  <a:pt x="561" y="884"/>
                </a:cubicBezTo>
                <a:cubicBezTo>
                  <a:pt x="632" y="807"/>
                  <a:pt x="703" y="730"/>
                  <a:pt x="776" y="651"/>
                </a:cubicBezTo>
                <a:cubicBezTo>
                  <a:pt x="867" y="594"/>
                  <a:pt x="958" y="537"/>
                  <a:pt x="1049" y="480"/>
                </a:cubicBezTo>
                <a:cubicBezTo>
                  <a:pt x="1157" y="448"/>
                  <a:pt x="1265" y="416"/>
                  <a:pt x="1373" y="383"/>
                </a:cubicBezTo>
                <a:cubicBezTo>
                  <a:pt x="1482" y="380"/>
                  <a:pt x="1591" y="377"/>
                  <a:pt x="1700" y="372"/>
                </a:cubicBezTo>
                <a:cubicBezTo>
                  <a:pt x="1803" y="396"/>
                  <a:pt x="1906" y="420"/>
                  <a:pt x="2010" y="444"/>
                </a:cubicBezTo>
                <a:cubicBezTo>
                  <a:pt x="2103" y="492"/>
                  <a:pt x="2196" y="540"/>
                  <a:pt x="2289" y="590"/>
                </a:cubicBezTo>
                <a:cubicBezTo>
                  <a:pt x="2367" y="660"/>
                  <a:pt x="2445" y="730"/>
                  <a:pt x="2524" y="801"/>
                </a:cubicBezTo>
                <a:cubicBezTo>
                  <a:pt x="2583" y="889"/>
                  <a:pt x="2642" y="977"/>
                  <a:pt x="2702" y="1067"/>
                </a:cubicBezTo>
                <a:cubicBezTo>
                  <a:pt x="2738" y="1171"/>
                  <a:pt x="2774" y="1275"/>
                  <a:pt x="2811" y="1379"/>
                </a:cubicBezTo>
                <a:cubicBezTo>
                  <a:pt x="2813" y="1492"/>
                  <a:pt x="2815" y="1605"/>
                  <a:pt x="2819" y="1718"/>
                </a:cubicBezTo>
                <a:cubicBezTo>
                  <a:pt x="2794" y="1823"/>
                  <a:pt x="2769" y="1928"/>
                  <a:pt x="2742" y="2034"/>
                </a:cubicBezTo>
                <a:cubicBezTo>
                  <a:pt x="2692" y="2127"/>
                  <a:pt x="2642" y="2220"/>
                  <a:pt x="2590" y="2315"/>
                </a:cubicBezTo>
                <a:cubicBezTo>
                  <a:pt x="2518" y="2392"/>
                  <a:pt x="2446" y="2469"/>
                  <a:pt x="2373" y="2548"/>
                </a:cubicBezTo>
                <a:cubicBezTo>
                  <a:pt x="2283" y="2605"/>
                  <a:pt x="2193" y="2662"/>
                  <a:pt x="2102" y="2719"/>
                </a:cubicBezTo>
                <a:cubicBezTo>
                  <a:pt x="1998" y="2751"/>
                  <a:pt x="1894" y="2783"/>
                  <a:pt x="1788" y="2817"/>
                </a:cubicBezTo>
                <a:close/>
              </a:path>
            </a:pathLst>
          </a:custGeom>
          <a:solidFill>
            <a:srgbClr val="ff630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Freeform 6"/>
          <p:cNvSpPr/>
          <p:nvPr/>
        </p:nvSpPr>
        <p:spPr>
          <a:xfrm>
            <a:off x="326880" y="5389560"/>
            <a:ext cx="1633680" cy="130500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883" h="890">
                <a:moveTo>
                  <a:pt x="224" y="0"/>
                </a:moveTo>
                <a:lnTo>
                  <a:pt x="247" y="0"/>
                </a:lnTo>
                <a:lnTo>
                  <a:pt x="259" y="0"/>
                </a:lnTo>
                <a:lnTo>
                  <a:pt x="265" y="0"/>
                </a:lnTo>
                <a:lnTo>
                  <a:pt x="271" y="0"/>
                </a:lnTo>
                <a:lnTo>
                  <a:pt x="277" y="0"/>
                </a:lnTo>
                <a:lnTo>
                  <a:pt x="283" y="0"/>
                </a:lnTo>
                <a:lnTo>
                  <a:pt x="288" y="6"/>
                </a:lnTo>
                <a:lnTo>
                  <a:pt x="294" y="6"/>
                </a:lnTo>
                <a:lnTo>
                  <a:pt x="300" y="12"/>
                </a:lnTo>
                <a:lnTo>
                  <a:pt x="300" y="23"/>
                </a:lnTo>
                <a:lnTo>
                  <a:pt x="294" y="29"/>
                </a:lnTo>
                <a:lnTo>
                  <a:pt x="294" y="35"/>
                </a:lnTo>
                <a:lnTo>
                  <a:pt x="288" y="47"/>
                </a:lnTo>
                <a:lnTo>
                  <a:pt x="288" y="53"/>
                </a:lnTo>
                <a:lnTo>
                  <a:pt x="283" y="58"/>
                </a:lnTo>
                <a:lnTo>
                  <a:pt x="277" y="58"/>
                </a:lnTo>
                <a:lnTo>
                  <a:pt x="271" y="70"/>
                </a:lnTo>
                <a:lnTo>
                  <a:pt x="265" y="76"/>
                </a:lnTo>
                <a:lnTo>
                  <a:pt x="247" y="82"/>
                </a:lnTo>
                <a:lnTo>
                  <a:pt x="235" y="88"/>
                </a:lnTo>
                <a:lnTo>
                  <a:pt x="224" y="88"/>
                </a:lnTo>
                <a:lnTo>
                  <a:pt x="206" y="99"/>
                </a:lnTo>
                <a:lnTo>
                  <a:pt x="188" y="117"/>
                </a:lnTo>
                <a:lnTo>
                  <a:pt x="177" y="146"/>
                </a:lnTo>
                <a:lnTo>
                  <a:pt x="188" y="175"/>
                </a:lnTo>
                <a:lnTo>
                  <a:pt x="206" y="199"/>
                </a:lnTo>
                <a:lnTo>
                  <a:pt x="241" y="211"/>
                </a:lnTo>
                <a:lnTo>
                  <a:pt x="283" y="216"/>
                </a:lnTo>
                <a:lnTo>
                  <a:pt x="324" y="222"/>
                </a:lnTo>
                <a:lnTo>
                  <a:pt x="377" y="216"/>
                </a:lnTo>
                <a:lnTo>
                  <a:pt x="418" y="211"/>
                </a:lnTo>
                <a:lnTo>
                  <a:pt x="453" y="199"/>
                </a:lnTo>
                <a:lnTo>
                  <a:pt x="471" y="175"/>
                </a:lnTo>
                <a:lnTo>
                  <a:pt x="483" y="146"/>
                </a:lnTo>
                <a:lnTo>
                  <a:pt x="471" y="117"/>
                </a:lnTo>
                <a:lnTo>
                  <a:pt x="453" y="99"/>
                </a:lnTo>
                <a:lnTo>
                  <a:pt x="436" y="88"/>
                </a:lnTo>
                <a:lnTo>
                  <a:pt x="424" y="88"/>
                </a:lnTo>
                <a:lnTo>
                  <a:pt x="406" y="82"/>
                </a:lnTo>
                <a:lnTo>
                  <a:pt x="394" y="76"/>
                </a:lnTo>
                <a:lnTo>
                  <a:pt x="389" y="70"/>
                </a:lnTo>
                <a:lnTo>
                  <a:pt x="383" y="58"/>
                </a:lnTo>
                <a:lnTo>
                  <a:pt x="377" y="58"/>
                </a:lnTo>
                <a:lnTo>
                  <a:pt x="371" y="53"/>
                </a:lnTo>
                <a:lnTo>
                  <a:pt x="365" y="47"/>
                </a:lnTo>
                <a:lnTo>
                  <a:pt x="365" y="35"/>
                </a:lnTo>
                <a:lnTo>
                  <a:pt x="359" y="29"/>
                </a:lnTo>
                <a:lnTo>
                  <a:pt x="359" y="23"/>
                </a:lnTo>
                <a:lnTo>
                  <a:pt x="359" y="12"/>
                </a:lnTo>
                <a:lnTo>
                  <a:pt x="365" y="6"/>
                </a:lnTo>
                <a:lnTo>
                  <a:pt x="371" y="6"/>
                </a:lnTo>
                <a:lnTo>
                  <a:pt x="371" y="0"/>
                </a:lnTo>
                <a:lnTo>
                  <a:pt x="377" y="0"/>
                </a:lnTo>
                <a:lnTo>
                  <a:pt x="383" y="0"/>
                </a:lnTo>
                <a:lnTo>
                  <a:pt x="394" y="0"/>
                </a:lnTo>
                <a:lnTo>
                  <a:pt x="418" y="0"/>
                </a:lnTo>
                <a:lnTo>
                  <a:pt x="430" y="0"/>
                </a:lnTo>
                <a:lnTo>
                  <a:pt x="436" y="0"/>
                </a:lnTo>
                <a:lnTo>
                  <a:pt x="518" y="0"/>
                </a:lnTo>
                <a:lnTo>
                  <a:pt x="571" y="0"/>
                </a:lnTo>
                <a:lnTo>
                  <a:pt x="601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42" y="6"/>
                </a:lnTo>
                <a:lnTo>
                  <a:pt x="648" y="12"/>
                </a:lnTo>
                <a:lnTo>
                  <a:pt x="653" y="23"/>
                </a:lnTo>
                <a:lnTo>
                  <a:pt x="659" y="35"/>
                </a:lnTo>
                <a:lnTo>
                  <a:pt x="659" y="117"/>
                </a:lnTo>
                <a:lnTo>
                  <a:pt x="665" y="170"/>
                </a:lnTo>
                <a:lnTo>
                  <a:pt x="665" y="205"/>
                </a:lnTo>
                <a:lnTo>
                  <a:pt x="665" y="216"/>
                </a:lnTo>
                <a:lnTo>
                  <a:pt x="665" y="228"/>
                </a:lnTo>
                <a:lnTo>
                  <a:pt x="665" y="252"/>
                </a:lnTo>
                <a:lnTo>
                  <a:pt x="665" y="269"/>
                </a:lnTo>
                <a:lnTo>
                  <a:pt x="665" y="275"/>
                </a:lnTo>
                <a:lnTo>
                  <a:pt x="665" y="281"/>
                </a:lnTo>
                <a:lnTo>
                  <a:pt x="659" y="287"/>
                </a:lnTo>
                <a:lnTo>
                  <a:pt x="665" y="293"/>
                </a:lnTo>
                <a:lnTo>
                  <a:pt x="665" y="298"/>
                </a:lnTo>
                <a:lnTo>
                  <a:pt x="671" y="298"/>
                </a:lnTo>
                <a:lnTo>
                  <a:pt x="677" y="304"/>
                </a:lnTo>
                <a:lnTo>
                  <a:pt x="683" y="304"/>
                </a:lnTo>
                <a:lnTo>
                  <a:pt x="689" y="304"/>
                </a:lnTo>
                <a:lnTo>
                  <a:pt x="695" y="298"/>
                </a:lnTo>
                <a:lnTo>
                  <a:pt x="701" y="298"/>
                </a:lnTo>
                <a:lnTo>
                  <a:pt x="712" y="293"/>
                </a:lnTo>
                <a:lnTo>
                  <a:pt x="712" y="287"/>
                </a:lnTo>
                <a:lnTo>
                  <a:pt x="718" y="281"/>
                </a:lnTo>
                <a:lnTo>
                  <a:pt x="730" y="275"/>
                </a:lnTo>
                <a:lnTo>
                  <a:pt x="736" y="269"/>
                </a:lnTo>
                <a:lnTo>
                  <a:pt x="742" y="257"/>
                </a:lnTo>
                <a:lnTo>
                  <a:pt x="742" y="240"/>
                </a:lnTo>
                <a:lnTo>
                  <a:pt x="748" y="228"/>
                </a:lnTo>
                <a:lnTo>
                  <a:pt x="759" y="211"/>
                </a:lnTo>
                <a:lnTo>
                  <a:pt x="777" y="193"/>
                </a:lnTo>
                <a:lnTo>
                  <a:pt x="807" y="181"/>
                </a:lnTo>
                <a:lnTo>
                  <a:pt x="836" y="193"/>
                </a:lnTo>
                <a:lnTo>
                  <a:pt x="860" y="211"/>
                </a:lnTo>
                <a:lnTo>
                  <a:pt x="871" y="246"/>
                </a:lnTo>
                <a:lnTo>
                  <a:pt x="883" y="287"/>
                </a:lnTo>
                <a:lnTo>
                  <a:pt x="883" y="339"/>
                </a:lnTo>
                <a:lnTo>
                  <a:pt x="883" y="380"/>
                </a:lnTo>
                <a:lnTo>
                  <a:pt x="871" y="427"/>
                </a:lnTo>
                <a:lnTo>
                  <a:pt x="860" y="457"/>
                </a:lnTo>
                <a:lnTo>
                  <a:pt x="836" y="480"/>
                </a:lnTo>
                <a:lnTo>
                  <a:pt x="807" y="492"/>
                </a:lnTo>
                <a:lnTo>
                  <a:pt x="777" y="480"/>
                </a:lnTo>
                <a:lnTo>
                  <a:pt x="759" y="457"/>
                </a:lnTo>
                <a:lnTo>
                  <a:pt x="748" y="439"/>
                </a:lnTo>
                <a:lnTo>
                  <a:pt x="742" y="427"/>
                </a:lnTo>
                <a:lnTo>
                  <a:pt x="742" y="416"/>
                </a:lnTo>
                <a:lnTo>
                  <a:pt x="736" y="404"/>
                </a:lnTo>
                <a:lnTo>
                  <a:pt x="730" y="392"/>
                </a:lnTo>
                <a:lnTo>
                  <a:pt x="718" y="386"/>
                </a:lnTo>
                <a:lnTo>
                  <a:pt x="712" y="380"/>
                </a:lnTo>
                <a:lnTo>
                  <a:pt x="712" y="375"/>
                </a:lnTo>
                <a:lnTo>
                  <a:pt x="701" y="369"/>
                </a:lnTo>
                <a:lnTo>
                  <a:pt x="695" y="369"/>
                </a:lnTo>
                <a:lnTo>
                  <a:pt x="689" y="369"/>
                </a:lnTo>
                <a:lnTo>
                  <a:pt x="683" y="363"/>
                </a:lnTo>
                <a:lnTo>
                  <a:pt x="677" y="363"/>
                </a:lnTo>
                <a:lnTo>
                  <a:pt x="671" y="369"/>
                </a:lnTo>
                <a:lnTo>
                  <a:pt x="665" y="369"/>
                </a:lnTo>
                <a:lnTo>
                  <a:pt x="665" y="375"/>
                </a:lnTo>
                <a:lnTo>
                  <a:pt x="659" y="380"/>
                </a:lnTo>
                <a:lnTo>
                  <a:pt x="659" y="386"/>
                </a:lnTo>
                <a:lnTo>
                  <a:pt x="665" y="392"/>
                </a:lnTo>
                <a:lnTo>
                  <a:pt x="665" y="398"/>
                </a:lnTo>
                <a:lnTo>
                  <a:pt x="665" y="421"/>
                </a:lnTo>
                <a:lnTo>
                  <a:pt x="665" y="433"/>
                </a:lnTo>
                <a:lnTo>
                  <a:pt x="665" y="439"/>
                </a:lnTo>
                <a:lnTo>
                  <a:pt x="659" y="521"/>
                </a:lnTo>
                <a:lnTo>
                  <a:pt x="659" y="579"/>
                </a:lnTo>
                <a:lnTo>
                  <a:pt x="659" y="615"/>
                </a:lnTo>
                <a:lnTo>
                  <a:pt x="659" y="626"/>
                </a:lnTo>
                <a:lnTo>
                  <a:pt x="659" y="638"/>
                </a:lnTo>
                <a:lnTo>
                  <a:pt x="653" y="650"/>
                </a:lnTo>
                <a:lnTo>
                  <a:pt x="648" y="656"/>
                </a:lnTo>
                <a:lnTo>
                  <a:pt x="642" y="667"/>
                </a:lnTo>
                <a:lnTo>
                  <a:pt x="630" y="667"/>
                </a:lnTo>
                <a:lnTo>
                  <a:pt x="548" y="667"/>
                </a:lnTo>
                <a:lnTo>
                  <a:pt x="495" y="667"/>
                </a:lnTo>
                <a:lnTo>
                  <a:pt x="459" y="667"/>
                </a:lnTo>
                <a:lnTo>
                  <a:pt x="442" y="667"/>
                </a:lnTo>
                <a:lnTo>
                  <a:pt x="436" y="667"/>
                </a:lnTo>
                <a:lnTo>
                  <a:pt x="412" y="667"/>
                </a:lnTo>
                <a:lnTo>
                  <a:pt x="400" y="667"/>
                </a:lnTo>
                <a:lnTo>
                  <a:pt x="394" y="667"/>
                </a:lnTo>
                <a:lnTo>
                  <a:pt x="383" y="667"/>
                </a:lnTo>
                <a:lnTo>
                  <a:pt x="377" y="667"/>
                </a:lnTo>
                <a:lnTo>
                  <a:pt x="371" y="667"/>
                </a:lnTo>
                <a:lnTo>
                  <a:pt x="371" y="673"/>
                </a:lnTo>
                <a:lnTo>
                  <a:pt x="365" y="673"/>
                </a:lnTo>
                <a:lnTo>
                  <a:pt x="359" y="679"/>
                </a:lnTo>
                <a:lnTo>
                  <a:pt x="359" y="691"/>
                </a:lnTo>
                <a:lnTo>
                  <a:pt x="359" y="697"/>
                </a:lnTo>
                <a:lnTo>
                  <a:pt x="365" y="702"/>
                </a:lnTo>
                <a:lnTo>
                  <a:pt x="365" y="708"/>
                </a:lnTo>
                <a:lnTo>
                  <a:pt x="371" y="714"/>
                </a:lnTo>
                <a:lnTo>
                  <a:pt x="377" y="720"/>
                </a:lnTo>
                <a:lnTo>
                  <a:pt x="383" y="726"/>
                </a:lnTo>
                <a:lnTo>
                  <a:pt x="389" y="738"/>
                </a:lnTo>
                <a:lnTo>
                  <a:pt x="394" y="743"/>
                </a:lnTo>
                <a:lnTo>
                  <a:pt x="406" y="749"/>
                </a:lnTo>
                <a:lnTo>
                  <a:pt x="424" y="755"/>
                </a:lnTo>
                <a:lnTo>
                  <a:pt x="436" y="755"/>
                </a:lnTo>
                <a:lnTo>
                  <a:pt x="453" y="767"/>
                </a:lnTo>
                <a:lnTo>
                  <a:pt x="471" y="784"/>
                </a:lnTo>
                <a:lnTo>
                  <a:pt x="483" y="814"/>
                </a:lnTo>
                <a:lnTo>
                  <a:pt x="471" y="843"/>
                </a:lnTo>
                <a:lnTo>
                  <a:pt x="453" y="860"/>
                </a:lnTo>
                <a:lnTo>
                  <a:pt x="418" y="878"/>
                </a:lnTo>
                <a:lnTo>
                  <a:pt x="377" y="884"/>
                </a:lnTo>
                <a:lnTo>
                  <a:pt x="324" y="890"/>
                </a:lnTo>
                <a:lnTo>
                  <a:pt x="283" y="884"/>
                </a:lnTo>
                <a:lnTo>
                  <a:pt x="241" y="878"/>
                </a:lnTo>
                <a:lnTo>
                  <a:pt x="206" y="860"/>
                </a:lnTo>
                <a:lnTo>
                  <a:pt x="188" y="843"/>
                </a:lnTo>
                <a:lnTo>
                  <a:pt x="177" y="814"/>
                </a:lnTo>
                <a:lnTo>
                  <a:pt x="188" y="784"/>
                </a:lnTo>
                <a:lnTo>
                  <a:pt x="206" y="767"/>
                </a:lnTo>
                <a:lnTo>
                  <a:pt x="224" y="755"/>
                </a:lnTo>
                <a:lnTo>
                  <a:pt x="235" y="755"/>
                </a:lnTo>
                <a:lnTo>
                  <a:pt x="247" y="749"/>
                </a:lnTo>
                <a:lnTo>
                  <a:pt x="265" y="743"/>
                </a:lnTo>
                <a:lnTo>
                  <a:pt x="271" y="738"/>
                </a:lnTo>
                <a:lnTo>
                  <a:pt x="277" y="726"/>
                </a:lnTo>
                <a:lnTo>
                  <a:pt x="283" y="720"/>
                </a:lnTo>
                <a:lnTo>
                  <a:pt x="288" y="714"/>
                </a:lnTo>
                <a:lnTo>
                  <a:pt x="288" y="708"/>
                </a:lnTo>
                <a:lnTo>
                  <a:pt x="294" y="702"/>
                </a:lnTo>
                <a:lnTo>
                  <a:pt x="294" y="697"/>
                </a:lnTo>
                <a:lnTo>
                  <a:pt x="300" y="691"/>
                </a:lnTo>
                <a:lnTo>
                  <a:pt x="300" y="679"/>
                </a:lnTo>
                <a:lnTo>
                  <a:pt x="294" y="673"/>
                </a:lnTo>
                <a:lnTo>
                  <a:pt x="288" y="673"/>
                </a:lnTo>
                <a:lnTo>
                  <a:pt x="288" y="667"/>
                </a:lnTo>
                <a:lnTo>
                  <a:pt x="283" y="667"/>
                </a:lnTo>
                <a:lnTo>
                  <a:pt x="277" y="667"/>
                </a:lnTo>
                <a:lnTo>
                  <a:pt x="271" y="667"/>
                </a:lnTo>
                <a:lnTo>
                  <a:pt x="265" y="667"/>
                </a:lnTo>
                <a:lnTo>
                  <a:pt x="241" y="667"/>
                </a:lnTo>
                <a:lnTo>
                  <a:pt x="230" y="667"/>
                </a:lnTo>
                <a:lnTo>
                  <a:pt x="224" y="667"/>
                </a:lnTo>
                <a:lnTo>
                  <a:pt x="141" y="667"/>
                </a:lnTo>
                <a:lnTo>
                  <a:pt x="88" y="667"/>
                </a:lnTo>
                <a:lnTo>
                  <a:pt x="53" y="667"/>
                </a:lnTo>
                <a:lnTo>
                  <a:pt x="35" y="667"/>
                </a:lnTo>
                <a:lnTo>
                  <a:pt x="29" y="667"/>
                </a:lnTo>
                <a:lnTo>
                  <a:pt x="18" y="667"/>
                </a:lnTo>
                <a:lnTo>
                  <a:pt x="6" y="656"/>
                </a:lnTo>
                <a:lnTo>
                  <a:pt x="0" y="650"/>
                </a:lnTo>
                <a:lnTo>
                  <a:pt x="0" y="638"/>
                </a:lnTo>
                <a:lnTo>
                  <a:pt x="0" y="556"/>
                </a:lnTo>
                <a:lnTo>
                  <a:pt x="0" y="497"/>
                </a:lnTo>
                <a:lnTo>
                  <a:pt x="0" y="462"/>
                </a:lnTo>
                <a:lnTo>
                  <a:pt x="0" y="445"/>
                </a:lnTo>
                <a:lnTo>
                  <a:pt x="0" y="439"/>
                </a:lnTo>
                <a:lnTo>
                  <a:pt x="0" y="416"/>
                </a:lnTo>
                <a:lnTo>
                  <a:pt x="0" y="404"/>
                </a:lnTo>
                <a:lnTo>
                  <a:pt x="0" y="398"/>
                </a:lnTo>
                <a:lnTo>
                  <a:pt x="0" y="392"/>
                </a:lnTo>
                <a:lnTo>
                  <a:pt x="0" y="386"/>
                </a:lnTo>
                <a:lnTo>
                  <a:pt x="0" y="380"/>
                </a:lnTo>
                <a:lnTo>
                  <a:pt x="0" y="375"/>
                </a:lnTo>
                <a:lnTo>
                  <a:pt x="6" y="375"/>
                </a:lnTo>
                <a:lnTo>
                  <a:pt x="6" y="369"/>
                </a:lnTo>
                <a:lnTo>
                  <a:pt x="12" y="363"/>
                </a:lnTo>
                <a:lnTo>
                  <a:pt x="18" y="363"/>
                </a:lnTo>
                <a:lnTo>
                  <a:pt x="29" y="369"/>
                </a:lnTo>
                <a:lnTo>
                  <a:pt x="35" y="369"/>
                </a:lnTo>
                <a:lnTo>
                  <a:pt x="41" y="369"/>
                </a:lnTo>
                <a:lnTo>
                  <a:pt x="47" y="375"/>
                </a:lnTo>
                <a:lnTo>
                  <a:pt x="53" y="380"/>
                </a:lnTo>
                <a:lnTo>
                  <a:pt x="59" y="386"/>
                </a:lnTo>
                <a:lnTo>
                  <a:pt x="71" y="392"/>
                </a:lnTo>
                <a:lnTo>
                  <a:pt x="76" y="404"/>
                </a:lnTo>
                <a:lnTo>
                  <a:pt x="76" y="416"/>
                </a:lnTo>
                <a:lnTo>
                  <a:pt x="88" y="427"/>
                </a:lnTo>
                <a:lnTo>
                  <a:pt x="88" y="439"/>
                </a:lnTo>
                <a:lnTo>
                  <a:pt x="100" y="457"/>
                </a:lnTo>
                <a:lnTo>
                  <a:pt x="118" y="480"/>
                </a:lnTo>
                <a:lnTo>
                  <a:pt x="147" y="492"/>
                </a:lnTo>
                <a:lnTo>
                  <a:pt x="177" y="480"/>
                </a:lnTo>
                <a:lnTo>
                  <a:pt x="194" y="457"/>
                </a:lnTo>
                <a:lnTo>
                  <a:pt x="212" y="427"/>
                </a:lnTo>
                <a:lnTo>
                  <a:pt x="218" y="380"/>
                </a:lnTo>
                <a:lnTo>
                  <a:pt x="224" y="339"/>
                </a:lnTo>
                <a:lnTo>
                  <a:pt x="218" y="287"/>
                </a:lnTo>
                <a:lnTo>
                  <a:pt x="212" y="246"/>
                </a:lnTo>
                <a:lnTo>
                  <a:pt x="194" y="211"/>
                </a:lnTo>
                <a:lnTo>
                  <a:pt x="177" y="193"/>
                </a:lnTo>
                <a:lnTo>
                  <a:pt x="147" y="181"/>
                </a:lnTo>
                <a:lnTo>
                  <a:pt x="118" y="193"/>
                </a:lnTo>
                <a:lnTo>
                  <a:pt x="100" y="211"/>
                </a:lnTo>
                <a:lnTo>
                  <a:pt x="88" y="228"/>
                </a:lnTo>
                <a:lnTo>
                  <a:pt x="88" y="240"/>
                </a:lnTo>
                <a:lnTo>
                  <a:pt x="76" y="257"/>
                </a:lnTo>
                <a:lnTo>
                  <a:pt x="76" y="269"/>
                </a:lnTo>
                <a:lnTo>
                  <a:pt x="71" y="275"/>
                </a:lnTo>
                <a:lnTo>
                  <a:pt x="59" y="281"/>
                </a:lnTo>
                <a:lnTo>
                  <a:pt x="53" y="287"/>
                </a:lnTo>
                <a:lnTo>
                  <a:pt x="47" y="293"/>
                </a:lnTo>
                <a:lnTo>
                  <a:pt x="41" y="298"/>
                </a:lnTo>
                <a:lnTo>
                  <a:pt x="35" y="298"/>
                </a:lnTo>
                <a:lnTo>
                  <a:pt x="29" y="304"/>
                </a:lnTo>
                <a:lnTo>
                  <a:pt x="18" y="304"/>
                </a:lnTo>
                <a:lnTo>
                  <a:pt x="12" y="304"/>
                </a:lnTo>
                <a:lnTo>
                  <a:pt x="6" y="298"/>
                </a:lnTo>
                <a:lnTo>
                  <a:pt x="0" y="293"/>
                </a:lnTo>
                <a:lnTo>
                  <a:pt x="0" y="287"/>
                </a:lnTo>
                <a:lnTo>
                  <a:pt x="0" y="281"/>
                </a:lnTo>
                <a:lnTo>
                  <a:pt x="0" y="275"/>
                </a:lnTo>
                <a:lnTo>
                  <a:pt x="0" y="246"/>
                </a:lnTo>
                <a:lnTo>
                  <a:pt x="0" y="234"/>
                </a:lnTo>
                <a:lnTo>
                  <a:pt x="0" y="228"/>
                </a:lnTo>
                <a:lnTo>
                  <a:pt x="0" y="146"/>
                </a:lnTo>
                <a:lnTo>
                  <a:pt x="0" y="94"/>
                </a:lnTo>
                <a:lnTo>
                  <a:pt x="0" y="58"/>
                </a:lnTo>
                <a:lnTo>
                  <a:pt x="0" y="41"/>
                </a:lnTo>
                <a:lnTo>
                  <a:pt x="0" y="35"/>
                </a:lnTo>
                <a:lnTo>
                  <a:pt x="0" y="23"/>
                </a:lnTo>
                <a:lnTo>
                  <a:pt x="6" y="12"/>
                </a:lnTo>
                <a:lnTo>
                  <a:pt x="18" y="6"/>
                </a:lnTo>
                <a:lnTo>
                  <a:pt x="29" y="0"/>
                </a:lnTo>
                <a:lnTo>
                  <a:pt x="224" y="0"/>
                </a:lnTo>
                <a:close/>
              </a:path>
            </a:pathLst>
          </a:cu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Picture 7" descr=""/>
          <p:cNvPicPr/>
          <p:nvPr/>
        </p:nvPicPr>
        <p:blipFill>
          <a:blip r:embed="rId1"/>
          <a:stretch/>
        </p:blipFill>
        <p:spPr>
          <a:xfrm>
            <a:off x="485640" y="2308320"/>
            <a:ext cx="822600" cy="795240"/>
          </a:xfrm>
          <a:prstGeom prst="rect">
            <a:avLst/>
          </a:prstGeom>
          <a:ln w="0">
            <a:noFill/>
          </a:ln>
        </p:spPr>
      </p:pic>
      <p:sp>
        <p:nvSpPr>
          <p:cNvPr id="658" name="Oval 8"/>
          <p:cNvSpPr/>
          <p:nvPr/>
        </p:nvSpPr>
        <p:spPr>
          <a:xfrm>
            <a:off x="2122560" y="2286000"/>
            <a:ext cx="815760" cy="81612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Freeform 9"/>
          <p:cNvSpPr/>
          <p:nvPr/>
        </p:nvSpPr>
        <p:spPr>
          <a:xfrm>
            <a:off x="1960560" y="2155680"/>
            <a:ext cx="1143000" cy="1143000"/>
          </a:xfrm>
          <a:custGeom>
            <a:avLst/>
            <a:gdLst>
              <a:gd name="textAreaLeft" fmla="*/ 0 w 1143000"/>
              <a:gd name="textAreaRight" fmla="*/ 114300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10" descr=""/>
          <p:cNvPicPr/>
          <p:nvPr/>
        </p:nvPicPr>
        <p:blipFill>
          <a:blip r:embed="rId2"/>
          <a:stretch/>
        </p:blipFill>
        <p:spPr>
          <a:xfrm>
            <a:off x="1541520" y="4330800"/>
            <a:ext cx="1722240" cy="105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816120" y="1468440"/>
            <a:ext cx="7673760" cy="473544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3"/>
          <p:cNvSpPr/>
          <p:nvPr/>
        </p:nvSpPr>
        <p:spPr>
          <a:xfrm>
            <a:off x="816120" y="65412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Formato de imagen vectoria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2"/>
          <p:cNvSpPr/>
          <p:nvPr/>
        </p:nvSpPr>
        <p:spPr>
          <a:xfrm>
            <a:off x="816120" y="2122560"/>
            <a:ext cx="800100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Herramienta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de Selección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9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2286000" y="0"/>
            <a:ext cx="469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2"/>
          <p:cNvSpPr/>
          <p:nvPr/>
        </p:nvSpPr>
        <p:spPr>
          <a:xfrm>
            <a:off x="816120" y="2122560"/>
            <a:ext cx="800100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Herramienta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Para cortar y crear sectore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0" y="39600"/>
            <a:ext cx="9213840" cy="681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2184480" y="0"/>
            <a:ext cx="4998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2"/>
          <p:cNvSpPr/>
          <p:nvPr/>
        </p:nvSpPr>
        <p:spPr>
          <a:xfrm>
            <a:off x="816120" y="2122560"/>
            <a:ext cx="800100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Herramienta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de Retoque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"/>
          <p:cNvPicPr/>
          <p:nvPr/>
        </p:nvPicPr>
        <p:blipFill>
          <a:blip r:embed="rId1"/>
          <a:stretch/>
        </p:blipFill>
        <p:spPr>
          <a:xfrm>
            <a:off x="1692360" y="609480"/>
            <a:ext cx="575784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0" y="-163440"/>
            <a:ext cx="9144000" cy="70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2286000" y="0"/>
            <a:ext cx="4722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2"/>
          <p:cNvSpPr/>
          <p:nvPr/>
        </p:nvSpPr>
        <p:spPr>
          <a:xfrm>
            <a:off x="816120" y="2122560"/>
            <a:ext cx="800100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Herramienta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de Pintura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d58"/>
                </a:solidFill>
                <a:latin typeface="Arial"/>
              </a:rPr>
              <a:t>Historia Photoshop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684360" y="1773360"/>
          <a:ext cx="7775280" cy="4297320"/>
        </p:xfrm>
        <a:graphic>
          <a:graphicData uri="http://schemas.openxmlformats.org/drawingml/2006/table">
            <a:tbl>
              <a:tblPr/>
              <a:tblGrid>
                <a:gridCol w="792000"/>
                <a:gridCol w="1150920"/>
                <a:gridCol w="1584360"/>
                <a:gridCol w="4248000"/>
              </a:tblGrid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s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tafor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 de lanzamien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mbios significa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rero de 19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io de 199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ción de los Paths permitiendo diseño vecto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640">
                <a:tc rowSpan="2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tas tabladas(Tabbed Palettes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s (layers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ows, IRI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iembre de 199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iembre de 1996 - Agosto de 19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s de ajuste (Adjustment Layers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s de letra que pueden ser editadas (en las versiones anteriores, el texto era convertido para el formato imagen ráster después de introducido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o de 19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hacer múltiplo (Multiple Undo) a través de la paleta "histórico" (History Palette), anteriormente sólo permitía 1 deshacer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ión del color (color Management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paquete del programa incluye el Adobe ImageRead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raer (Extract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guras geométricas vectorial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iembre de 2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 Healing Brush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tro Liquif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Picture 2" descr=""/>
          <p:cNvPicPr/>
          <p:nvPr/>
        </p:nvPicPr>
        <p:blipFill>
          <a:blip r:embed="rId1"/>
          <a:stretch/>
        </p:blipFill>
        <p:spPr>
          <a:xfrm>
            <a:off x="2611440" y="0"/>
            <a:ext cx="4092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 Box 2"/>
          <p:cNvSpPr/>
          <p:nvPr/>
        </p:nvSpPr>
        <p:spPr>
          <a:xfrm>
            <a:off x="816120" y="2122560"/>
            <a:ext cx="800100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Herramienta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de Dibujo y Texto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97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2"/>
          <p:cNvSpPr/>
          <p:nvPr/>
        </p:nvSpPr>
        <p:spPr>
          <a:xfrm>
            <a:off x="816120" y="2122560"/>
            <a:ext cx="800100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Herramienta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de Notas, Medidas y Navegación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684360" y="198360"/>
          <a:ext cx="7991280" cy="6035760"/>
        </p:xfrm>
        <a:graphic>
          <a:graphicData uri="http://schemas.openxmlformats.org/drawingml/2006/table">
            <a:tbl>
              <a:tblPr/>
              <a:tblGrid>
                <a:gridCol w="814320"/>
                <a:gridCol w="1035000"/>
                <a:gridCol w="1776240"/>
                <a:gridCol w="4365720"/>
              </a:tblGrid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s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tafor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 de lanzamien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mbios significa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zo de 20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o totalmente vecto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 Healing Brush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evo "motor" de pintura (painting engine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gin opcional "Camera RAW 1.x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 (8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ubre de 20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gin "Camera RAW 2.x" incluido de raíz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ando "Sombras/Iluminaciones" (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dow/Highlight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ando corresponder/igualar a la color (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 Colour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tro 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s flare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ograma en tiempo-real (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-Time Histogram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tema para detectar automáticamente la impresión de imágenes digitalizadas de algunos tipos de papel-moneda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703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2 (9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ril de 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gin "Camera RAW 3.x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 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rt Object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age Warp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t healing brush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 de reducción del efecto de los "ojos rojos" (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-Eye tool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tro 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s Correction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rt Sharpen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nto de fuga (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nishing Point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ión mejorada de la memoria RAM en Macintosh de 64-bits a correr Mac OS X 10.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porte a 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dynamic range imaging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tro 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pe Blur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3 (10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ril de 2007 (versión definitiva. Hubo un Beta público desde enero de 200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 versiones: una básica y una extendid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tros no destructivo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porte para Zoomif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porte para 3D y Video (sólo la versión Extended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joras en la herramienta 'Vanishing Point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684360" y="326880"/>
          <a:ext cx="7775280" cy="6218280"/>
        </p:xfrm>
        <a:graphic>
          <a:graphicData uri="http://schemas.openxmlformats.org/drawingml/2006/table">
            <a:tbl>
              <a:tblPr/>
              <a:tblGrid>
                <a:gridCol w="792000"/>
                <a:gridCol w="1008000"/>
                <a:gridCol w="1656000"/>
                <a:gridCol w="4319280"/>
              </a:tblGrid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s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tafor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 de lanzamien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mbios significa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zo 27 de 20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7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4 (11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iembre 23 de 2008 (versión definitiva. Hubo una Beta pública desde mayo de 2008)</a:t>
                      </a:r>
                      <a:r>
                        <a:rPr b="0" lang="es-ES" sz="1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[1]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 versiones: una básica y una extendid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calar según contenid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 de rotar lienzo en tiempo re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jora en las herramientas de 3d (sólo para la versión Extended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el de ajust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el de máscara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porte para procesadores de 64 bits sólo para Windows. Mac OS deberá esperar al CS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94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5 (12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ril 12 de 20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 versiones: una básica y una extendid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ásica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nulado añadido en Adobe Camera Raw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ción de objetivo automátic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 de enderezamiento de image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ñeta posterior al recor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nología de márgenes de selección más re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ontaminación de color para las seleccio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s de selección y perfeccionamiento de máscara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leno según el contenid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ncel mezclado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ntas de cerda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ormación de posición lib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obe Mini Bridg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obe CS Review, parte de los servicios en línea de Adobe CS Liv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gar en context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dida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nología de márgenes de selección más re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d58"/>
                </a:solidFill>
                <a:latin typeface="Arial"/>
              </a:rPr>
              <a:t>En Síntesis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pic>
        <p:nvPicPr>
          <p:cNvPr id="599" name="Picture 4" descr="vector_vs_bitmap_by_indaLone"/>
          <p:cNvPicPr/>
          <p:nvPr/>
        </p:nvPicPr>
        <p:blipFill>
          <a:blip r:embed="rId1"/>
          <a:stretch/>
        </p:blipFill>
        <p:spPr>
          <a:xfrm>
            <a:off x="279360" y="1773360"/>
            <a:ext cx="3429000" cy="25444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"/>
          <p:cNvPicPr/>
          <p:nvPr/>
        </p:nvPicPr>
        <p:blipFill>
          <a:blip r:embed="rId2"/>
          <a:stretch/>
        </p:blipFill>
        <p:spPr>
          <a:xfrm>
            <a:off x="3703680" y="1773360"/>
            <a:ext cx="3747960" cy="25574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"/>
          <p:cNvPicPr/>
          <p:nvPr/>
        </p:nvPicPr>
        <p:blipFill>
          <a:blip r:embed="rId3"/>
          <a:stretch/>
        </p:blipFill>
        <p:spPr>
          <a:xfrm>
            <a:off x="1835280" y="4302000"/>
            <a:ext cx="36558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2"/>
          <p:cNvSpPr/>
          <p:nvPr/>
        </p:nvSpPr>
        <p:spPr>
          <a:xfrm>
            <a:off x="684360" y="1557360"/>
            <a:ext cx="8001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(picture elem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Un píxel no tiene una medida concret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no se puede decir si mide 1 mm. o 1 cm. o 1 m., simplemente es la medida de división de una retícula en celdill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3" descr=""/>
          <p:cNvPicPr/>
          <p:nvPr/>
        </p:nvPicPr>
        <p:blipFill>
          <a:blip r:embed="rId1"/>
          <a:stretch/>
        </p:blipFill>
        <p:spPr>
          <a:xfrm>
            <a:off x="-49320" y="3803760"/>
            <a:ext cx="9229680" cy="25048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íxel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2"/>
          <p:cNvSpPr/>
          <p:nvPr/>
        </p:nvSpPr>
        <p:spPr>
          <a:xfrm>
            <a:off x="654120" y="1698480"/>
            <a:ext cx="2938320" cy="39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</a:rPr>
              <a:t>Cada píxel solamente puede ser de un color, cuando decimos que una imagen es de 256 colores, queremos decir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3591000" y="1690560"/>
            <a:ext cx="5127480" cy="369900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4"/>
          <p:cNvSpPr/>
          <p:nvPr/>
        </p:nvSpPr>
        <p:spPr>
          <a:xfrm>
            <a:off x="630360" y="5438880"/>
            <a:ext cx="74041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</a:rPr>
              <a:t>que cada píxel puede tomar uno de esos 256 color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654120" y="816120"/>
            <a:ext cx="16318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9:16:30Z</dcterms:created>
  <dc:creator>ehamuy</dc:creator>
  <dc:description/>
  <dc:language>en-US</dc:language>
  <cp:lastModifiedBy>alumnosc13</cp:lastModifiedBy>
  <dcterms:modified xsi:type="dcterms:W3CDTF">2011-04-11T22:57:31Z</dcterms:modified>
  <cp:revision>11</cp:revision>
  <dc:subject/>
  <dc:title>Historia Photoshop</dc:title>
</cp:coreProperties>
</file>